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E9F-94AC-4B1B-B2F7-84665E19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354-E82E-4F87-881B-0F0C6453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1C3-A11E-458B-9800-63613BAA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642-05BB-449B-9F4C-9F515F2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A9A-28E1-4222-AC9F-33788A6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175-71F8-4338-9129-AA12F31D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F5B-E7BD-4357-8F83-39DD092E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3DD-EAC3-430A-A1C1-20978C68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DB-BEC3-48DC-898F-74738A68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FA2-E661-4597-8776-55F47E1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AB4-BBB6-42DA-B38F-ED156D1B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E64-FBCF-40A4-A5DF-B48495D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D14A-EF7F-4473-A1BB-CF286BD3C9F1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hyperlink" Target="http://www.ttu.ee/it/vorgutarkvara/wav308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harjutus 01:</a:t>
            </a: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Usefu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When you write HTML text, you can never be sure how the text is displayed in another browser. Some people have large computer displays, some have small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HTML will truncate the spaces in your text. Any number of spaces count as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Verdana"/>
              </a:rPr>
              <a:t>Therefore you can have a “visual structure” inside html doc using tabs et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cc"/>
                </a:solidFill>
                <a:latin typeface="Verdana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3333cc"/>
                </a:solidFill>
                <a:latin typeface="Verdana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t-EE" sz="1400" spc="-1" strike="noStrike">
                <a:solidFill>
                  <a:srgbClr val="33cc33"/>
                </a:solidFill>
                <a:latin typeface="Verdana"/>
              </a:rPr>
              <a:t>Web browser see: &lt;html&gt;&lt;body&gt;&lt;/body&gt;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Using empty paragraphs &lt;p&gt; to insert blank lines is a bad habit. Use the &lt;br</a:t>
            </a:r>
            <a:r>
              <a:rPr b="0" lang="et-EE" sz="16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0" sz="1600" spc="-1" strike="noStrike">
                <a:solidFill>
                  <a:srgbClr val="000000"/>
                </a:solidFill>
                <a:latin typeface="Verdana"/>
              </a:rPr>
              <a:t>&gt; tag inste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You might have noticed that paragraphs can be written without the closing tag &lt;/p&gt;. Don't rely on it. The next version of HTML will not allow you to skip ANY closing ta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school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Li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tu.ee/it/vorgutarkvara/wav3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philip.greenspun.com/sei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TML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used to mark-up HTML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surrounded by the two characters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surrounding characters are called angle br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normally come in pairs like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b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/b&gt;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first tag in a pair is the start tag, the second tag is the end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text between the start and end tags is the element content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: it can be a text or a set of other htm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TML tags are not case sensitive, &lt;b&gt; means the same as &lt;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t the same time we should use the lower case to meet standar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Times New Roman"/>
              </a:rPr>
              <a:t>Besides we will agree to have a “well-formed” document i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lose tags in the reverse order to ope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r example if we start &lt;b&gt;&lt;i&gt; then </a:t>
            </a:r>
            <a:r>
              <a:rPr b="1" lang="et-EE" sz="1600" spc="-1" strike="noStrike">
                <a:solidFill>
                  <a:srgbClr val="000000"/>
                </a:solidFill>
                <a:latin typeface="Times New Roman"/>
              </a:rPr>
              <a:t>we should end &lt;/i&gt;&lt;/b&gt;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(not &lt;/b&gt;&lt;/i&gt;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lways close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tml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tml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6680"/>
            <a:ext cx="6400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ead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head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title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Help desk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title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400" y="3048120"/>
            <a:ext cx="8129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r>
              <a:rPr b="0" sz="2800" spc="-1" strike="noStrike">
                <a:solidFill>
                  <a:srgbClr val="ff3300"/>
                </a:solidFill>
                <a:latin typeface="Arial"/>
              </a:rPr>
              <a:t>My computer just told me that I h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3300"/>
                </a:solidFill>
                <a:latin typeface="Arial"/>
              </a:rPr>
              <a:t>completed an illegal operation, and I'm not eve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3300"/>
                </a:solidFill>
                <a:latin typeface="Arial"/>
              </a:rPr>
              <a:t>doctor.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lt;/</a:t>
            </a:r>
            <a:r>
              <a:rPr b="0" lang="et-EE" sz="28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28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TML </a:t>
            </a:r>
            <a:r>
              <a:rPr b="1" lang="et-EE" sz="4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ags can have attributes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which provides extra information about how the tag (HTML element) behaves/displays etc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p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For example we can add into the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tag an attribute specifying that the background color of the body (i.e. document in web browser) should we 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Times New Roman"/>
              </a:rPr>
              <a:t>&lt;body bgcolor="red"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ttributes always come in name/value pairs like this: </a:t>
            </a: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name="valu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ttributes are always added to the start tag of an HTML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Quote Styles, "red" or 'red'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alues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always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enclosed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quot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Double style quotes are the most common, but single style quotes are also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some rare situation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like when the attribute value itself contains quotes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t is necessary to use single quot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cc"/>
                </a:solidFill>
                <a:latin typeface="Times New Roman"/>
              </a:rPr>
              <a:t>name='John "ShotGun" Nelson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gcolor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"#CCFFCC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ackground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“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abc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.gif"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et-EE" sz="3200" spc="-1" strike="noStrike">
                <a:solidFill>
                  <a:srgbClr val="000000"/>
                </a:solidFill>
                <a:latin typeface="Arial Unicode MS"/>
              </a:rPr>
              <a:t>body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t-EE" sz="3200" spc="-1" strike="noStrike">
                <a:solidFill>
                  <a:srgbClr val="3333cc"/>
                </a:solidFill>
                <a:latin typeface="Arial Unicode MS"/>
              </a:rPr>
              <a:t>bgproperties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“</a:t>
            </a:r>
            <a:r>
              <a:rPr b="0" sz="3200" spc="-1" strike="noStrike">
                <a:solidFill>
                  <a:srgbClr val="3333cc"/>
                </a:solidFill>
                <a:latin typeface="Arial Unicode MS"/>
              </a:rPr>
              <a:t>FIXED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”</a:t>
            </a:r>
            <a:r>
              <a:rPr b="0" sz="3200" spc="-1" strike="noStrike">
                <a:solidFill>
                  <a:srgbClr val="000000"/>
                </a:solidFill>
                <a:latin typeface="Arial Unicode MS"/>
              </a:rPr>
              <a:t>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H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Headings are defined with the &lt;h1&gt; to &lt;h6&gt; tags. &lt;h1&gt; defines the largest heading. &lt;h6&gt; defines the smallest 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1&gt;This is a heading&lt;/h1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2&gt;This is a heading&lt;/h2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3&gt;This is a heading&lt;/h3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4&gt;This is a heading&lt;/h4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5&gt;This is a heading&lt;/h5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	</a:t>
            </a:r>
            <a:r>
              <a:rPr b="0" sz="28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h6&gt;This is a heading&lt;/h6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352680"/>
            <a:ext cx="29718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663300"/>
                </a:solidFill>
                <a:latin typeface="Verdana"/>
              </a:rPr>
              <a:t>HTML automatically adds an extra blank line before and after a 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Para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Verdana"/>
              </a:rPr>
              <a:t>Paragraphs are defined with the 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lt;p&gt;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 t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Arial Unicode MS"/>
                <a:ea typeface="Courier New"/>
              </a:rPr>
              <a:t>&lt;p&gt;This is a paragraph&lt;/p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Lin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lt;br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/</a:t>
            </a:r>
            <a:r>
              <a:rPr b="0" sz="2000" spc="-1" strike="noStrike">
                <a:solidFill>
                  <a:srgbClr val="3333cc"/>
                </a:solidFill>
                <a:latin typeface="Verdana"/>
              </a:rPr>
              <a:t>&gt;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 tag is used when you want to end a line, but don't want to start a new paragraph.</a:t>
            </a:r>
            <a:r>
              <a:rPr b="1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!-</a:t>
            </a: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This is a comment -</a:t>
            </a:r>
            <a:r>
              <a:rPr b="1" lang="et-EE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r example you can comment out some html parts (here a paragrap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&lt;!--p&gt;Text is here&lt;/p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28:58Z</dcterms:created>
  <dc:creator>Niina</dc:creator>
  <dc:description/>
  <dc:language>en-US</dc:language>
  <cp:lastModifiedBy>kumlanderd</cp:lastModifiedBy>
  <dcterms:modified xsi:type="dcterms:W3CDTF">2007-10-20T10:05:35Z</dcterms:modified>
  <cp:revision>25</cp:revision>
  <dc:subject/>
  <dc:title>PowerPoint Presentation</dc:title>
</cp:coreProperties>
</file>