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151-A28F-465E-8F53-DFDA59A9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2D4-AF6F-4AB8-87EF-E6EC86CE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4C1-AB52-4041-971B-C67A2BB1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6DC-2D8F-4BCF-BB03-CE92BBD8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9F1-9BEB-4712-B258-0ECC4D57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073-E920-4790-80D1-9C04ADA9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F11-377D-4391-8D5C-2B5C898D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F14-8DE8-486F-98AE-56956783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8AF-0DD9-4229-BDBF-E65AB7E4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893-DCD6-413E-B000-2A611253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58B-B2D3-4AE1-B717-ED50171D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239-767E-4ACF-9DF0-909F8D72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B189-CA30-42C4-8E75-8FBA95392CF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3schools.com/" TargetMode="External"/><Relationship Id="rId2" Type="http://schemas.openxmlformats.org/officeDocument/2006/relationships/hyperlink" Target="http://www.ttu.ee/it/vorgutarkvara/wav3080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harjutus 01:</a:t>
            </a: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08080"/>
                </a:solidFill>
                <a:latin typeface="Times New Roman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Useful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When you write HTML text, you can never be sure how the text is displayed in another browser. Some people have large computer displays, some have smal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HTML will truncate the spaces in your text. Any number of spaces count as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Verdana"/>
              </a:rPr>
              <a:t>Therefore you can have a “visual structure” inside html doc using tabs et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t-EE" sz="1400" spc="-1" strike="noStrike">
                <a:solidFill>
                  <a:srgbClr val="3333cc"/>
                </a:solidFill>
                <a:latin typeface="Verdana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3333cc"/>
                </a:solidFill>
                <a:latin typeface="Verdana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3333cc"/>
                </a:solidFill>
                <a:latin typeface="Verdana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t-EE" sz="1400" spc="-1" strike="noStrike">
                <a:solidFill>
                  <a:srgbClr val="3333cc"/>
                </a:solidFill>
                <a:latin typeface="Verdana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t-EE" sz="1400" spc="-1" strike="noStrike">
                <a:solidFill>
                  <a:srgbClr val="33cc33"/>
                </a:solidFill>
                <a:latin typeface="Verdana"/>
              </a:rPr>
              <a:t>Web browser see: &lt;html&gt;&lt;body&gt;&lt;/body&gt;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Using empty paragraphs &lt;p&gt; to insert blank lines is a bad habit. Use the &lt;br</a:t>
            </a:r>
            <a:r>
              <a:rPr b="0" lang="et-EE" sz="16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0" sz="1600" spc="-1" strike="noStrike">
                <a:solidFill>
                  <a:srgbClr val="000000"/>
                </a:solidFill>
                <a:latin typeface="Verdana"/>
              </a:rPr>
              <a:t>&gt; tag instea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You might have noticed that paragraphs can be written without the closing tag &lt;/p&gt;. Don't rely on it. The next version of HTML will not allow you to skip ANY closing ta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schools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Li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tu.ee/it/vorgutarkvara/wav30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http://philip.greenspun.com/seia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HTML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TML tags are used to mark-up HTML e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TML tags are surrounded by the two characters </a:t>
            </a: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he surrounding characters are called angle brack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TML tags normally come in pairs like </a:t>
            </a: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&lt;b&gt;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&lt;/b&gt;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he first tag in a pair is the start tag, the second tag is the end ta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he text between the start and end tags is the element content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: it can be a text or a set of other htm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TML tags are not case sensitive, &lt;b&gt; means the same as &lt;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t the same time we should use the lower case to meet standard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Times New Roman"/>
              </a:rPr>
              <a:t>Besides we will agree to have a “well-formed” document i.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Close tags in the reverse order to ope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For example if we start &lt;b&gt;&lt;i&gt; then </a:t>
            </a:r>
            <a:r>
              <a:rPr b="1" lang="et-EE" sz="1600" spc="-1" strike="noStrike">
                <a:solidFill>
                  <a:srgbClr val="000000"/>
                </a:solidFill>
                <a:latin typeface="Times New Roman"/>
              </a:rPr>
              <a:t>we should end &lt;/i&gt;&lt;/b&gt;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(not &lt;/b&gt;&lt;/i&gt;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Always close t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tml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tml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066680"/>
            <a:ext cx="6400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ead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ead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67652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title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Help desk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title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6400" y="3048120"/>
            <a:ext cx="8129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body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r>
              <a:rPr b="0" sz="2800" spc="-1" strike="noStrike">
                <a:solidFill>
                  <a:srgbClr val="ff3300"/>
                </a:solidFill>
                <a:latin typeface="Arial"/>
              </a:rPr>
              <a:t>My computer just told me that I h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3300"/>
                </a:solidFill>
                <a:latin typeface="Arial"/>
              </a:rPr>
              <a:t>completed an illegal operation, and I'm not even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3300"/>
                </a:solidFill>
                <a:latin typeface="Arial"/>
              </a:rPr>
              <a:t>doctor.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body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HTML </a:t>
            </a:r>
            <a:r>
              <a:rPr b="1" lang="et-EE" sz="44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ags can have attributes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, which provides extra information about how the tag (HTML element) behaves/displays etc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p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For example we can add into the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tag an attribute specifying that the background color of the body (i.e. document in web browser) should we 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&lt;body bgcolor="red"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ttributes always come in name/value pairs like this: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name="valu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ttributes are always added to the start tag of an HTML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Quote Styles, "red" or 'red'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values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always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enclosed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n quote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Double style quotes are the most common, but single style quotes are also all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n some rare situation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like when the attribute value itself contains quotes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t is necessary to use single quote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name='John "ShotGun" Nelson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3200" spc="-1" strike="noStrike">
                <a:solidFill>
                  <a:srgbClr val="000000"/>
                </a:solidFill>
                <a:latin typeface="Arial Unicode MS"/>
              </a:rPr>
              <a:t>body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t-EE" sz="3200" spc="-1" strike="noStrike">
                <a:solidFill>
                  <a:srgbClr val="3333cc"/>
                </a:solidFill>
                <a:latin typeface="Arial Unicode MS"/>
              </a:rPr>
              <a:t>bgcolor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</a:rPr>
              <a:t>="#CCFFCC"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3200" spc="-1" strike="noStrike">
                <a:solidFill>
                  <a:srgbClr val="000000"/>
                </a:solidFill>
                <a:latin typeface="Arial Unicode MS"/>
              </a:rPr>
              <a:t>body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t-EE" sz="3200" spc="-1" strike="noStrike">
                <a:solidFill>
                  <a:srgbClr val="3333cc"/>
                </a:solidFill>
                <a:latin typeface="Arial Unicode MS"/>
              </a:rPr>
              <a:t>background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</a:rPr>
              <a:t>=“</a:t>
            </a:r>
            <a:r>
              <a:rPr b="0" lang="et-EE" sz="3200" spc="-1" strike="noStrike">
                <a:solidFill>
                  <a:srgbClr val="3333cc"/>
                </a:solidFill>
                <a:latin typeface="Arial Unicode MS"/>
              </a:rPr>
              <a:t>abc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</a:rPr>
              <a:t>.gif"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3200" spc="-1" strike="noStrike">
                <a:solidFill>
                  <a:srgbClr val="000000"/>
                </a:solidFill>
                <a:latin typeface="Arial Unicode MS"/>
              </a:rPr>
              <a:t>body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t-EE" sz="3200" spc="-1" strike="noStrike">
                <a:solidFill>
                  <a:srgbClr val="3333cc"/>
                </a:solidFill>
                <a:latin typeface="Arial Unicode MS"/>
              </a:rPr>
              <a:t>bgproperties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</a:rPr>
              <a:t>=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“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</a:rPr>
              <a:t>FIXED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”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Hea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Headings are defined with the &lt;h1&gt; to &lt;h6&gt; tags. &lt;h1&gt; defines the largest heading. &lt;h6&gt; defines the smallest h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h1&gt;This is a heading&lt;/h1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h2&gt;This is a heading&lt;/h2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h3&gt;This is a heading&lt;/h3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h4&gt;This is a heading&lt;/h4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h5&gt;This is a heading&lt;/h5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h6&gt;This is a heading&lt;/h6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352680"/>
            <a:ext cx="29718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663300"/>
                </a:solidFill>
                <a:latin typeface="Verdana"/>
              </a:rPr>
              <a:t>HTML automatically adds an extra blank line before and after a h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Verdana"/>
              </a:rPr>
              <a:t>Para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Verdana"/>
              </a:rPr>
              <a:t>Paragraphs are defined with the </a:t>
            </a:r>
            <a:r>
              <a:rPr b="0" sz="2000" spc="-1" strike="noStrike">
                <a:solidFill>
                  <a:srgbClr val="3333cc"/>
                </a:solidFill>
                <a:latin typeface="Verdana"/>
              </a:rPr>
              <a:t>&lt;p&gt;</a:t>
            </a:r>
            <a:r>
              <a:rPr b="0" sz="2000" spc="-1" strike="noStrike">
                <a:solidFill>
                  <a:srgbClr val="000000"/>
                </a:solidFill>
                <a:latin typeface="Verdana"/>
              </a:rPr>
              <a:t> ta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p&gt;This is a paragraph&lt;/p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Verdana"/>
              </a:rPr>
              <a:t>Line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sz="2000" spc="-1" strike="noStrike">
                <a:solidFill>
                  <a:srgbClr val="3333cc"/>
                </a:solidFill>
                <a:latin typeface="Verdana"/>
              </a:rPr>
              <a:t>&lt;br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/</a:t>
            </a:r>
            <a:r>
              <a:rPr b="0" sz="2000" spc="-1" strike="noStrike">
                <a:solidFill>
                  <a:srgbClr val="3333cc"/>
                </a:solidFill>
                <a:latin typeface="Verdana"/>
              </a:rPr>
              <a:t>&gt;</a:t>
            </a:r>
            <a:r>
              <a:rPr b="0" sz="2000" spc="-1" strike="noStrike">
                <a:solidFill>
                  <a:srgbClr val="000000"/>
                </a:solidFill>
                <a:latin typeface="Verdana"/>
              </a:rPr>
              <a:t> tag is used when you want to end a line, but don't want to start a new paragraph.</a:t>
            </a:r>
            <a:r>
              <a:rPr b="1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!-</a:t>
            </a:r>
            <a:r>
              <a:rPr b="1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This is a comment -</a:t>
            </a:r>
            <a:r>
              <a:rPr b="1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or example you can comment out some html parts (here a paragraph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&lt;!--p&gt;Text is here&lt;/p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28:58Z</dcterms:created>
  <dc:creator>Niina</dc:creator>
  <dc:description/>
  <dc:language>en-US</dc:language>
  <cp:lastModifiedBy>kumlanderd</cp:lastModifiedBy>
  <dcterms:modified xsi:type="dcterms:W3CDTF">2007-10-20T10:05:35Z</dcterms:modified>
  <cp:revision>25</cp:revision>
  <dc:subject/>
  <dc:title>PowerPoint Presentation</dc:title>
</cp:coreProperties>
</file>