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E4F-8C50-4141-87E0-3F3914C7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8D2-E931-467A-B390-789C233A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5D1-23AE-467F-80C9-8435AED2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910-94FB-41A5-A576-7D6BC55B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964-5BCC-4AA0-B7F3-5BA450AB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57E-4155-480D-9989-A50888CA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3D1-C425-4E91-9B30-60E5A659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A3C-E43B-4FA7-9A03-07B64D8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C90-C22B-4E47-9955-A325B332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7E8-4AFF-421E-A4D3-0C91B9F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788-8391-4AA4-8146-5E2628AD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3BC-B9D7-489A-B339-0A0F40B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D14-8166-4CF3-98F7-4B86E73B8F3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2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51640" y="2997360"/>
            <a:ext cx="1246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h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sub&gt;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s subscrip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sup&gt;Defines superscrip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060800" cy="127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2276640"/>
            <a:ext cx="201600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 useful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heading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attribute is ALIGN... fairly self-explan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2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align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="left"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 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align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="center"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 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align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="right"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2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center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other way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3333cc"/>
                </a:solidFill>
                <a:latin typeface="Arial Unicode MS"/>
              </a:rPr>
              <a:t>center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d etc: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strong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lt;bi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alic: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66"/>
                </a:solidFill>
                <a:latin typeface="Arial Unicode MS"/>
              </a:rPr>
              <a:t>&lt;i&gt;&lt;b&gt;This is Bold AND Italic&lt;/b&gt;&lt;/i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Unicode MS"/>
              </a:rPr>
              <a:t>Underlining:  &lt;u&gt;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XHTML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font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009900"/>
                </a:solidFill>
                <a:latin typeface="Arial Unicode MS"/>
              </a:rPr>
              <a:t>color</a:t>
            </a: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="#FF0000" </a:t>
            </a:r>
            <a:r>
              <a:rPr b="0" lang="et-EE" sz="3200" spc="-1" strike="noStrike">
                <a:solidFill>
                  <a:srgbClr val="009900"/>
                </a:solidFill>
                <a:latin typeface="Arial Unicode MS"/>
              </a:rPr>
              <a:t>face</a:t>
            </a: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="ARIAL" </a:t>
            </a:r>
            <a:r>
              <a:rPr b="0" lang="et-EE" sz="3200" spc="-1" strike="noStrike">
                <a:solidFill>
                  <a:srgbClr val="009900"/>
                </a:solidFill>
                <a:latin typeface="Arial Unicode MS"/>
              </a:rPr>
              <a:t>size</a:t>
            </a: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="7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istor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FONT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symbols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(entit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nbsp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non-breaking sp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l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less-than symb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g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greater-than symb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amp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&amp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amper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quot;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quotation 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sect;</a:t>
            </a:r>
            <a:r>
              <a:rPr b="0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§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00"/>
                </a:solidFill>
                <a:latin typeface="Arial Unicode MS"/>
              </a:rPr>
              <a:t>&amp;copy</a:t>
            </a:r>
            <a:r>
              <a:rPr b="0" lang="en-US" sz="3200" spc="-1" strike="noStrike">
                <a:solidFill>
                  <a:srgbClr val="009900"/>
                </a:solidFill>
                <a:latin typeface="Arial Unicode MS"/>
              </a:rPr>
              <a:t>;</a:t>
            </a:r>
            <a:r>
              <a:rPr b="0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sz="3200" spc="-1" strike="noStrike">
                <a:solidFill>
                  <a:srgbClr val="3333cc"/>
                </a:solidFill>
                <a:latin typeface="Arial Unicode MS"/>
              </a:rPr>
              <a:t>©</a:t>
            </a:r>
            <a:r>
              <a:rPr b="0" sz="32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copyr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lt;IMG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SRC="chef.gif" WIDTH=130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HEIGHT=101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lt;IMG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SRC=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… 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ALT="Chef"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tags: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Go to 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href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="http://home.netscape.com/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Netscape!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t-EE" sz="2400" spc="-1" strike="noStrike">
                <a:solidFill>
                  <a:srgbClr val="009900"/>
                </a:solidFill>
                <a:latin typeface="Arial Unicode MS"/>
              </a:rPr>
              <a:t>href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="myresume.doc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Download my resume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r>
              <a:rPr b="0" sz="2400" spc="-1" strike="noStrike">
                <a:solidFill>
                  <a:srgbClr val="dd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Go to &lt;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href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"http://home.netscape.com/"&gt;&lt;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img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src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"chef.gif"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width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130 </a:t>
            </a:r>
            <a:r>
              <a:rPr b="0" lang="et-EE" sz="2400" spc="-1" strike="noStrike">
                <a:solidFill>
                  <a:srgbClr val="ff9900"/>
                </a:solidFill>
                <a:latin typeface="Arial Unicode MS"/>
              </a:rPr>
              <a:t>height</a:t>
            </a:r>
            <a:r>
              <a:rPr b="0" sz="2400" spc="-1" strike="noStrike">
                <a:solidFill>
                  <a:srgbClr val="ff9900"/>
                </a:solidFill>
                <a:latin typeface="Arial Unicode MS"/>
              </a:rPr>
              <a:t>=101&gt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t-EE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avigating within the document (between s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Bookmark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a name="tips"&gt;Useful Tips Sectio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Go to the bookmark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Within </a:t>
            </a:r>
            <a:r>
              <a:rPr b="0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a href="#tips"&gt;</a:t>
            </a:r>
            <a:r>
              <a:rPr b="0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Jump to the Useful Tips Sectio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Go to another pge and there to the book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a href=“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mypage.html</a:t>
            </a:r>
            <a:r>
              <a:rPr b="0" sz="1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#tips</a:t>
            </a:r>
            <a:r>
              <a:rPr b="0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"&gt; Jump to the Useful Tips Section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tags: e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Send me</a:t>
            </a:r>
            <a:r>
              <a:rPr b="0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 href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="mailto: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kalkin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@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solo.ee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"&gt;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Mail!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lt;/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&lt;a href="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mailto: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someone@microsoft.com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?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cc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someoneelse@microsoft.com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&amp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bcc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andsomeoneelse2@microsoft.com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&amp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subject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Summer%20Party</a:t>
            </a:r>
            <a:r>
              <a:rPr b="0" sz="2400" spc="-1" strike="noStrike">
                <a:solidFill>
                  <a:srgbClr val="009900"/>
                </a:solidFill>
                <a:latin typeface="Arial Unicode MS"/>
              </a:rPr>
              <a:t>&amp;</a:t>
            </a:r>
            <a:r>
              <a:rPr b="0" sz="2400" spc="-1" strike="noStrike">
                <a:solidFill>
                  <a:srgbClr val="3333cc"/>
                </a:solidFill>
                <a:latin typeface="Arial Unicode MS"/>
              </a:rPr>
              <a:t>body</a:t>
            </a:r>
            <a:r>
              <a:rPr b="0" sz="2400" spc="-1" strike="noStrike">
                <a:solidFill>
                  <a:srgbClr val="000000"/>
                </a:solidFill>
                <a:latin typeface="Arial Unicode MS"/>
              </a:rPr>
              <a:t>=You%20are%20invited%20to%20a%20big%20summer%20party!"&gt;Send mail!&lt;/a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HEAD: </a:t>
            </a:r>
            <a:r>
              <a:rPr b="0" lang="et-EE" sz="4400" spc="-1" strike="noStrike">
                <a:solidFill>
                  <a:srgbClr val="3333cc"/>
                </a:solidFill>
                <a:latin typeface="Times New Roman"/>
              </a:rPr>
              <a:t>M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a name="keywords" content="HTML"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a http-equiv="Refresh" content="12"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ther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v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meta http-equiv ="Content-Type" content ="text/html;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ar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0:25:00Z</dcterms:created>
  <dc:creator>Niina</dc:creator>
  <dc:description/>
  <dc:language>en-US</dc:language>
  <cp:lastModifiedBy>kumlanderd</cp:lastModifiedBy>
  <dcterms:modified xsi:type="dcterms:W3CDTF">2007-10-20T10:04:42Z</dcterms:modified>
  <cp:revision>26</cp:revision>
  <dc:subject/>
  <dc:title>PowerPoint Presentation</dc:title>
</cp:coreProperties>
</file>