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17B9-D522-4516-9891-E4D8ADB4C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EF0A-1344-4540-973F-C738C03A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DE83-B365-4008-924C-ECC98762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21A0-DB40-4A40-BDE1-9A48FB5DD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F5B4-DE5C-411A-B333-462DF534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DF6D-CD97-4BCE-B6BC-B8E9970F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B564-9F2C-4763-8369-753AC9EA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9D71-FF19-477B-AF51-DC783832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B6ED-1737-484F-9275-3767D8AC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5398-2B64-4735-94EF-42663EFE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6340-CB53-47BE-9A55-752E601E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CFD3-EAF2-4971-9AB6-F3679A35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1396-ABD1-47D9-A8A2-908E1D3A9A18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3333cc"/>
                </a:solidFill>
                <a:latin typeface="Times New Roman"/>
              </a:rPr>
              <a:t>IDK0040 Võrgurakendused I</a:t>
            </a:r>
            <a:br>
              <a:rPr sz="4000"/>
            </a:br>
            <a:br>
              <a:rPr sz="3200"/>
            </a:b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harjutus 03:</a:t>
            </a:r>
            <a:br>
              <a:rPr sz="3200"/>
            </a:b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Lists, tables and fr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5409720"/>
            <a:ext cx="836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808080"/>
                </a:solidFill>
                <a:latin typeface="Times New Roman"/>
              </a:rPr>
              <a:t>Deniss Kumla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table border="1"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tr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&lt;t</a:t>
            </a:r>
            <a:r>
              <a:rPr b="1" lang="et-EE" sz="28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1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&gt;</a:t>
            </a:r>
            <a:r>
              <a:rPr b="1" lang="et-EE" sz="2800" spc="-1" strike="noStrike">
                <a:solidFill>
                  <a:srgbClr val="3333cc"/>
                </a:solidFill>
                <a:latin typeface="Times New Roman"/>
              </a:rPr>
              <a:t>Heading</a:t>
            </a:r>
            <a:r>
              <a:rPr b="1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 1&lt;/t</a:t>
            </a:r>
            <a:r>
              <a:rPr b="1" lang="et-EE" sz="28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1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&lt;t</a:t>
            </a:r>
            <a:r>
              <a:rPr b="1" lang="et-EE" sz="28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1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&gt;</a:t>
            </a:r>
            <a:r>
              <a:rPr b="1" lang="et-EE" sz="2800" spc="-1" strike="noStrike">
                <a:solidFill>
                  <a:srgbClr val="3333cc"/>
                </a:solidFill>
                <a:latin typeface="Times New Roman"/>
              </a:rPr>
              <a:t>Heading</a:t>
            </a:r>
            <a:r>
              <a:rPr b="1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 2&lt;/t</a:t>
            </a:r>
            <a:r>
              <a:rPr b="1" lang="et-EE" sz="28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1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&gt;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/tr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tr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td&gt;row 2, cell 1&lt;/td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td&gt;row 2, cell 2&lt;/td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/tr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/tabl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715000" y="2514600"/>
            <a:ext cx="5943240" cy="1370160"/>
            <a:chOff x="5715000" y="2514600"/>
            <a:chExt cx="5943240" cy="1370160"/>
          </a:xfrm>
        </p:grpSpPr>
        <p:sp>
          <p:nvSpPr>
            <p:cNvPr id="105" name=""/>
            <p:cNvSpPr/>
            <p:nvPr/>
          </p:nvSpPr>
          <p:spPr>
            <a:xfrm>
              <a:off x="5721120" y="2526480"/>
              <a:ext cx="5937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5715000" y="2514600"/>
              <a:ext cx="2877480" cy="1370160"/>
              <a:chOff x="5715000" y="2514600"/>
              <a:chExt cx="2877480" cy="137016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5721120" y="2526480"/>
                <a:ext cx="2864520" cy="1345680"/>
                <a:chOff x="5721120" y="2526480"/>
                <a:chExt cx="2864520" cy="1345680"/>
              </a:xfrm>
            </p:grpSpPr>
            <p:grpSp>
              <p:nvGrpSpPr>
                <p:cNvPr id="108" name=""/>
                <p:cNvGrpSpPr/>
                <p:nvPr/>
              </p:nvGrpSpPr>
              <p:grpSpPr>
                <a:xfrm>
                  <a:off x="5721120" y="2526480"/>
                  <a:ext cx="2864160" cy="1344960"/>
                  <a:chOff x="5721120" y="2526480"/>
                  <a:chExt cx="2864160" cy="1344960"/>
                </a:xfrm>
              </p:grpSpPr>
              <p:grpSp>
                <p:nvGrpSpPr>
                  <p:cNvPr id="109" name=""/>
                  <p:cNvGrpSpPr/>
                  <p:nvPr/>
                </p:nvGrpSpPr>
                <p:grpSpPr>
                  <a:xfrm>
                    <a:off x="5727240" y="2538000"/>
                    <a:ext cx="2850120" cy="1318320"/>
                    <a:chOff x="5727240" y="2538000"/>
                    <a:chExt cx="2850120" cy="1318320"/>
                  </a:xfrm>
                </p:grpSpPr>
                <p:grpSp>
                  <p:nvGrpSpPr>
                    <p:cNvPr id="110" name=""/>
                    <p:cNvGrpSpPr/>
                    <p:nvPr/>
                  </p:nvGrpSpPr>
                  <p:grpSpPr>
                    <a:xfrm>
                      <a:off x="5727240" y="2538000"/>
                      <a:ext cx="1424880" cy="658800"/>
                      <a:chOff x="5727240" y="2538000"/>
                      <a:chExt cx="1424880" cy="658800"/>
                    </a:xfrm>
                  </p:grpSpPr>
                  <p:sp>
                    <p:nvSpPr>
                      <p:cNvPr id="111" name=""/>
                      <p:cNvSpPr/>
                      <p:nvPr/>
                    </p:nvSpPr>
                    <p:spPr>
                      <a:xfrm>
                        <a:off x="5727240" y="2538000"/>
                        <a:ext cx="1424880" cy="658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t-EE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Heading 1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2" name=""/>
                      <p:cNvSpPr/>
                      <p:nvPr/>
                    </p:nvSpPr>
                    <p:spPr>
                      <a:xfrm>
                        <a:off x="5727240" y="2538000"/>
                        <a:ext cx="1424880" cy="65880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3" name=""/>
                    <p:cNvGrpSpPr/>
                    <p:nvPr/>
                  </p:nvGrpSpPr>
                  <p:grpSpPr>
                    <a:xfrm>
                      <a:off x="7152480" y="2538000"/>
                      <a:ext cx="1424880" cy="658800"/>
                      <a:chOff x="7152480" y="2538000"/>
                      <a:chExt cx="1424880" cy="658800"/>
                    </a:xfrm>
                  </p:grpSpPr>
                  <p:sp>
                    <p:nvSpPr>
                      <p:cNvPr id="114" name=""/>
                      <p:cNvSpPr/>
                      <p:nvPr/>
                    </p:nvSpPr>
                    <p:spPr>
                      <a:xfrm>
                        <a:off x="7152480" y="2538000"/>
                        <a:ext cx="1424880" cy="658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t-EE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Heading 2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" name=""/>
                      <p:cNvSpPr/>
                      <p:nvPr/>
                    </p:nvSpPr>
                    <p:spPr>
                      <a:xfrm>
                        <a:off x="7152480" y="2538000"/>
                        <a:ext cx="1424880" cy="65880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6" name=""/>
                    <p:cNvGrpSpPr/>
                    <p:nvPr/>
                  </p:nvGrpSpPr>
                  <p:grpSpPr>
                    <a:xfrm>
                      <a:off x="5727240" y="3197520"/>
                      <a:ext cx="1424880" cy="658800"/>
                      <a:chOff x="5727240" y="3197520"/>
                      <a:chExt cx="1424880" cy="658800"/>
                    </a:xfrm>
                  </p:grpSpPr>
                  <p:sp>
                    <p:nvSpPr>
                      <p:cNvPr id="117" name=""/>
                      <p:cNvSpPr/>
                      <p:nvPr/>
                    </p:nvSpPr>
                    <p:spPr>
                      <a:xfrm>
                        <a:off x="5727240" y="3197520"/>
                        <a:ext cx="1424880" cy="658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row 2, cell 1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5727240" y="3197520"/>
                        <a:ext cx="1424880" cy="65880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7152480" y="3197520"/>
                      <a:ext cx="1424880" cy="658800"/>
                      <a:chOff x="7152480" y="3197520"/>
                      <a:chExt cx="1424880" cy="65880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7152480" y="3197520"/>
                        <a:ext cx="1424880" cy="658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row 2, cell 2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7152480" y="3197520"/>
                        <a:ext cx="1424880" cy="65880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22" name=""/>
                  <p:cNvSpPr/>
                  <p:nvPr/>
                </p:nvSpPr>
                <p:spPr>
                  <a:xfrm>
                    <a:off x="5721120" y="2526480"/>
                    <a:ext cx="2864160" cy="134496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5721120" y="2526480"/>
                  <a:ext cx="2864520" cy="134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" name=""/>
              <p:cNvSpPr/>
              <p:nvPr/>
            </p:nvSpPr>
            <p:spPr>
              <a:xfrm>
                <a:off x="5715000" y="2514600"/>
                <a:ext cx="2877480" cy="137016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77724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rowspan="</a:t>
            </a:r>
            <a:r>
              <a:rPr b="0" lang="et-EE" sz="2400" spc="-1" strike="noStrike">
                <a:solidFill>
                  <a:srgbClr val="009999"/>
                </a:solidFill>
                <a:latin typeface="Times New Roman"/>
              </a:rPr>
              <a:t>x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"</a:t>
            </a:r>
            <a:r>
              <a:rPr b="0" lang="et-EE" sz="2400" spc="-1" strike="noStrike">
                <a:solidFill>
                  <a:srgbClr val="009999"/>
                </a:solidFill>
                <a:latin typeface="Times New Roman"/>
              </a:rPr>
              <a:t>, col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span="</a:t>
            </a:r>
            <a:r>
              <a:rPr b="0" lang="et-EE" sz="2400" spc="-1" strike="noStrike">
                <a:solidFill>
                  <a:srgbClr val="009999"/>
                </a:solidFill>
                <a:latin typeface="Times New Roman"/>
              </a:rPr>
              <a:t>x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table border="1"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t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td&gt;col 1&lt;/t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td&gt;col 2&lt;/t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/t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t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td </a:t>
            </a:r>
            <a:r>
              <a:rPr b="0" sz="2400" spc="-1" strike="noStrike">
                <a:solidFill>
                  <a:srgbClr val="3333cc"/>
                </a:solidFill>
                <a:latin typeface="Times New Roman"/>
              </a:rPr>
              <a:t>rowspan="2"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gt;row 2,3 col 2&lt;/t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td&gt;row 2, col 2&lt;/t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/t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t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td&gt;row 3, col 2&lt;/t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/tr&gt;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tabl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932360" y="1484280"/>
            <a:ext cx="3384720" cy="1800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284720" y="3141720"/>
            <a:ext cx="3533760" cy="2881080"/>
          </a:xfrm>
          <a:custGeom>
            <a:avLst/>
            <a:gdLst/>
            <a:ahLst/>
            <a:rect l="l" t="t" r="r" b="b"/>
            <a:pathLst>
              <a:path w="2226" h="1605">
                <a:moveTo>
                  <a:pt x="0" y="1605"/>
                </a:moveTo>
                <a:lnTo>
                  <a:pt x="2226" y="1603"/>
                </a:lnTo>
                <a:lnTo>
                  <a:pt x="222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Empty cell &lt;td&gt;&lt;/td&gt; -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dd &amp;nbsp; into the cell to have a cell similar to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border="0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&lt;table </a:t>
            </a:r>
            <a:r>
              <a:rPr b="0" sz="3200" spc="-1" strike="noStrike">
                <a:solidFill>
                  <a:srgbClr val="3333cc"/>
                </a:solidFill>
                <a:latin typeface="Times New Roman"/>
              </a:rPr>
              <a:t>cellpadding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="50"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gcolor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, background etc for table, td (cel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al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With frames, you can display more than one HTML document in the same browser window. Each HTML document is called a frame, and each frame is independent of the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The &lt;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frameset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&gt; tag defines how to divide the window into fram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Each frameset defines a set of rows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or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 colum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The values of the rows/columns indicate the amount of screen area each row/column will occu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The &lt;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frame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&gt; tag defines what HTML document to put into each frame</a:t>
            </a:r>
            <a:r>
              <a:rPr b="0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frameset cols="25%,75%"&gt; 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frame src="</a:t>
            </a:r>
            <a:r>
              <a:rPr b="0" sz="32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frame_a.htm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"&gt; 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frame src="</a:t>
            </a:r>
            <a:r>
              <a:rPr b="0" sz="32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frame_b.htm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"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/framese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4508640"/>
            <a:ext cx="78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frameset rows="50%,50%"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frameset cols="120,*"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s: mi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&lt;frameset rows="50%,50%"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&lt;frame src="</a:t>
            </a:r>
            <a:r>
              <a:rPr b="0" sz="3200" spc="-1" strike="noStrike">
                <a:solidFill>
                  <a:srgbClr val="3333cc"/>
                </a:solidFill>
                <a:latin typeface="Times New Roman"/>
              </a:rPr>
              <a:t>tryhtml_frame_a.htm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&lt;frameset cols="25%,75%"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&lt;frame src="</a:t>
            </a:r>
            <a:r>
              <a:rPr b="0" sz="3200" spc="-1" strike="noStrike">
                <a:solidFill>
                  <a:srgbClr val="3333cc"/>
                </a:solidFill>
                <a:latin typeface="Times New Roman"/>
              </a:rPr>
              <a:t>tryhtml_frame_b.htm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&lt;frame src="</a:t>
            </a:r>
            <a:r>
              <a:rPr b="0" sz="3200" spc="-1" strike="noStrike">
                <a:solidFill>
                  <a:srgbClr val="3333cc"/>
                </a:solidFill>
                <a:latin typeface="Times New Roman"/>
              </a:rPr>
              <a:t>tryhtml_frame_c.htm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&lt;/framese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&lt;/framese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Frames: Adv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Inline frame: is a document inside the amin docu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cc"/>
                </a:solidFill>
                <a:latin typeface="Times New Roman"/>
              </a:rPr>
              <a:t>&lt;iframe src=“</a:t>
            </a:r>
            <a:r>
              <a:rPr b="0" lang="et-EE" sz="2800" spc="-1" strike="noStrike">
                <a:solidFill>
                  <a:srgbClr val="3333cc"/>
                </a:solidFill>
                <a:latin typeface="Times New Roman"/>
              </a:rPr>
              <a:t>http://www.ttu.ee</a:t>
            </a:r>
            <a:r>
              <a:rPr b="0" sz="2800" spc="-1" strike="noStrike">
                <a:solidFill>
                  <a:srgbClr val="3333cc"/>
                </a:solidFill>
                <a:latin typeface="Times New Roman"/>
              </a:rPr>
              <a:t>"&gt;&lt;/ifra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3333cc"/>
                </a:solidFill>
                <a:latin typeface="Times New Roman"/>
              </a:rPr>
              <a:t>noresize </a:t>
            </a:r>
            <a:r>
              <a:rPr b="0" lang="et-EE" sz="3200" spc="-1" strike="noStrike">
                <a:solidFill>
                  <a:srgbClr val="3333cc"/>
                </a:solidFill>
                <a:latin typeface="Times New Roman"/>
              </a:rPr>
              <a:t> =&gt; </a:t>
            </a:r>
            <a:r>
              <a:rPr b="0" sz="3200" spc="-1" strike="noStrike">
                <a:solidFill>
                  <a:srgbClr val="3333cc"/>
                </a:solidFill>
                <a:latin typeface="Times New Roman"/>
              </a:rPr>
              <a:t>noresize="noresize“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: makes impossible to move the frme b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Frames: nofr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frameset cols="25%,50%,25%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frame src="tryhtml_frame_a.htm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frame src="tryhtml_frame_b.htm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frame src="tryhtml_frame_c.htm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&lt;nofram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r>
              <a:rPr b="0" sz="2400" spc="-1" strike="noStrike">
                <a:solidFill>
                  <a:srgbClr val="3333cc"/>
                </a:solidFill>
                <a:latin typeface="Times New Roman"/>
              </a:rPr>
              <a:t>Your browser does not</a:t>
            </a:r>
            <a:r>
              <a:rPr b="0" lang="et-EE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3333cc"/>
                </a:solidFill>
                <a:latin typeface="Times New Roman"/>
              </a:rPr>
              <a:t>handle frames!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&lt;/nofram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/framese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/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Links: target and fr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8930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a href=http://www.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ttu</a:t>
            </a:r>
            <a:r>
              <a:rPr b="0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.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ee/</a:t>
            </a:r>
            <a:r>
              <a:rPr b="0" lang="et-EE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target</a:t>
            </a:r>
            <a:r>
              <a:rPr b="0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="</a:t>
            </a:r>
            <a:r>
              <a:rPr b="1" sz="2000" spc="-1" strike="noStrike">
                <a:solidFill>
                  <a:srgbClr val="009999"/>
                </a:solidFill>
                <a:latin typeface="Arial Unicode MS"/>
                <a:ea typeface="Courier New"/>
              </a:rPr>
              <a:t>_blank</a:t>
            </a:r>
            <a:r>
              <a:rPr b="0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"&gt;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TTU</a:t>
            </a:r>
            <a:r>
              <a:rPr b="0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/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9999"/>
                </a:solidFill>
                <a:latin typeface="Arial Unicode MS"/>
                <a:ea typeface="Courier New"/>
              </a:rPr>
              <a:t>_</a:t>
            </a:r>
            <a:r>
              <a:rPr b="1" lang="et-EE" sz="2000" spc="-1" strike="noStrike">
                <a:solidFill>
                  <a:srgbClr val="009999"/>
                </a:solidFill>
                <a:latin typeface="Times New Roman"/>
              </a:rPr>
              <a:t>top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– Break out of a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9999"/>
                </a:solidFill>
                <a:latin typeface="Arial Unicode MS"/>
                <a:ea typeface="Courier New"/>
              </a:rPr>
              <a:t>_</a:t>
            </a:r>
            <a:r>
              <a:rPr b="1" lang="en-GB" sz="2000" spc="-1" strike="noStrike">
                <a:solidFill>
                  <a:srgbClr val="009999"/>
                </a:solidFill>
                <a:latin typeface="Times New Roman"/>
              </a:rPr>
              <a:t>blan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- the target URL will open in a new wind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9999"/>
                </a:solidFill>
                <a:latin typeface="Arial Unicode MS"/>
                <a:ea typeface="Courier New"/>
              </a:rPr>
              <a:t>_</a:t>
            </a:r>
            <a:r>
              <a:rPr b="1" lang="en-GB" sz="2000" spc="-1" strike="noStrike">
                <a:solidFill>
                  <a:srgbClr val="009999"/>
                </a:solidFill>
                <a:latin typeface="Times New Roman"/>
              </a:rPr>
              <a:t>self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- the target URL will open in the same frame as it was click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9999"/>
                </a:solidFill>
                <a:latin typeface="Arial Unicode MS"/>
                <a:ea typeface="Courier New"/>
              </a:rPr>
              <a:t>_</a:t>
            </a:r>
            <a:r>
              <a:rPr b="1" lang="en-GB" sz="2000" spc="-1" strike="noStrike">
                <a:solidFill>
                  <a:srgbClr val="009999"/>
                </a:solidFill>
                <a:latin typeface="Times New Roman"/>
              </a:rPr>
              <a:t>pare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- the target URL will open in the parent frame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5920" y="3736800"/>
            <a:ext cx="8785080" cy="28933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&lt;frame name="left" src="Links.htm" scrolling="auto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&lt;frame name="</a:t>
            </a:r>
            <a:r>
              <a:rPr b="1" lang="et-EE" sz="2800" spc="-1" strike="noStrike">
                <a:solidFill>
                  <a:srgbClr val="3333cc"/>
                </a:solidFill>
                <a:latin typeface="Times New Roman"/>
              </a:rPr>
              <a:t>right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" src="homeEn.htm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800" spc="-1" strike="noStrike">
                <a:solidFill>
                  <a:srgbClr val="3333cc"/>
                </a:solidFill>
                <a:latin typeface="Times New Roman"/>
              </a:rPr>
              <a:t>In Links.ht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a href=</a:t>
            </a:r>
            <a:r>
              <a:rPr b="0" lang="et-EE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“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http://www.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tu.ee</a:t>
            </a:r>
            <a:r>
              <a:rPr b="0" lang="et-EE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” 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target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=“</a:t>
            </a:r>
            <a:r>
              <a:rPr b="1" lang="et-EE" sz="2800" spc="-1" strike="noStrike">
                <a:solidFill>
                  <a:srgbClr val="3333cc"/>
                </a:solidFill>
                <a:latin typeface="Times New Roman"/>
              </a:rPr>
              <a:t>right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"&gt;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TU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/a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s: </a:t>
            </a:r>
            <a:r>
              <a:rPr b="0" sz="4400" spc="-1" strike="noStrike">
                <a:solidFill>
                  <a:srgbClr val="000000"/>
                </a:solidFill>
                <a:latin typeface="Times New Roman"/>
              </a:rPr>
              <a:t>Unordered L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&lt;ul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&lt;li&gt;Coffee&lt;/li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&lt;li&gt;Milk&lt;/li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&lt;/ul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410080" y="2362320"/>
            <a:ext cx="2743200" cy="1475640"/>
            <a:chOff x="5410080" y="2362320"/>
            <a:chExt cx="2743200" cy="1475640"/>
          </a:xfrm>
        </p:grpSpPr>
        <p:sp>
          <p:nvSpPr>
            <p:cNvPr id="46" name=""/>
            <p:cNvSpPr/>
            <p:nvPr/>
          </p:nvSpPr>
          <p:spPr>
            <a:xfrm>
              <a:off x="5412960" y="2369160"/>
              <a:ext cx="27374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5410080" y="2362320"/>
              <a:ext cx="2743200" cy="1475640"/>
              <a:chOff x="5410080" y="2362320"/>
              <a:chExt cx="2743200" cy="147564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5412960" y="2369160"/>
                <a:ext cx="2737440" cy="1460520"/>
                <a:chOff x="5412960" y="2369160"/>
                <a:chExt cx="2737440" cy="1460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5412960" y="2369160"/>
                  <a:ext cx="2737440" cy="146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000000"/>
                    </a:buClr>
                    <a:buFont typeface="Verdan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r>
                    <a:rPr b="0" sz="2400" spc="-1" strike="noStrike">
                      <a:solidFill>
                        <a:srgbClr val="000000"/>
                      </a:solidFill>
                      <a:latin typeface="Verdana"/>
                    </a:rPr>
                    <a:t>Coffee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000000"/>
                    </a:buClr>
                    <a:buFont typeface="Verdan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r>
                    <a:rPr b="0" sz="2400" spc="-1" strike="noStrike">
                      <a:solidFill>
                        <a:srgbClr val="000000"/>
                      </a:solidFill>
                      <a:latin typeface="Verdana"/>
                    </a:rPr>
                    <a:t>Milk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412960" y="2369160"/>
                  <a:ext cx="2737440" cy="146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" name=""/>
              <p:cNvSpPr/>
              <p:nvPr/>
            </p:nvSpPr>
            <p:spPr>
              <a:xfrm>
                <a:off x="5410080" y="2362320"/>
                <a:ext cx="2743200" cy="147564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s: O</a:t>
            </a:r>
            <a:r>
              <a:rPr b="0" sz="4400" spc="-1" strike="noStrike">
                <a:solidFill>
                  <a:srgbClr val="000000"/>
                </a:solidFill>
                <a:latin typeface="Times New Roman"/>
              </a:rPr>
              <a:t>rdered L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o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l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&lt;li&gt;Coffee&lt;/li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&lt;li&gt;Milk&lt;/li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&lt;/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o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l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410080" y="2362320"/>
            <a:ext cx="2743200" cy="1475640"/>
            <a:chOff x="5410080" y="2362320"/>
            <a:chExt cx="2743200" cy="1475640"/>
          </a:xfrm>
        </p:grpSpPr>
        <p:sp>
          <p:nvSpPr>
            <p:cNvPr id="55" name=""/>
            <p:cNvSpPr/>
            <p:nvPr/>
          </p:nvSpPr>
          <p:spPr>
            <a:xfrm>
              <a:off x="5412960" y="2369160"/>
              <a:ext cx="27374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5410080" y="2362320"/>
              <a:ext cx="2743200" cy="1475640"/>
              <a:chOff x="5410080" y="2362320"/>
              <a:chExt cx="2743200" cy="147564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5412960" y="2369160"/>
                <a:ext cx="2737440" cy="1460520"/>
                <a:chOff x="5412960" y="2369160"/>
                <a:chExt cx="2737440" cy="146052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5412960" y="2369160"/>
                  <a:ext cx="2737440" cy="146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457200" indent="-457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914400" indent="-457200">
                    <a:lnSpc>
                      <a:spcPct val="100000"/>
                    </a:lnSpc>
                    <a:buClr>
                      <a:srgbClr val="000000"/>
                    </a:buClr>
                    <a:buFont typeface="Verdana"/>
                    <a:buAutoNum type="arabicPeriod"/>
                    <a:tabLst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2400" spc="-1" strike="noStrike">
                      <a:solidFill>
                        <a:srgbClr val="000000"/>
                      </a:solidFill>
                      <a:latin typeface="Verdana"/>
                    </a:rPr>
                    <a:t>Coffee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914400" indent="-457200">
                    <a:lnSpc>
                      <a:spcPct val="100000"/>
                    </a:lnSpc>
                    <a:buClr>
                      <a:srgbClr val="000000"/>
                    </a:buClr>
                    <a:buFont typeface="Verdana"/>
                    <a:buAutoNum type="arabicPeriod"/>
                    <a:tabLst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2400" spc="-1" strike="noStrike">
                      <a:solidFill>
                        <a:srgbClr val="000000"/>
                      </a:solidFill>
                      <a:latin typeface="Verdana"/>
                    </a:rPr>
                    <a:t>Milk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5412960" y="2369160"/>
                  <a:ext cx="2737440" cy="146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" name=""/>
              <p:cNvSpPr/>
              <p:nvPr/>
            </p:nvSpPr>
            <p:spPr>
              <a:xfrm>
                <a:off x="5410080" y="2362320"/>
                <a:ext cx="2743200" cy="147564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s: N</a:t>
            </a:r>
            <a:r>
              <a:rPr b="0" sz="4400" spc="-1" strike="noStrike">
                <a:solidFill>
                  <a:srgbClr val="000000"/>
                </a:solidFill>
                <a:latin typeface="Times New Roman"/>
              </a:rPr>
              <a:t>ested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u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li&gt;Coffee&lt;/li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li&gt;T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u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li&gt;Black tea&lt;/li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li&gt;Green tea&lt;/li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/u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/li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li&gt;Milk&lt;/li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/u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2133720"/>
            <a:ext cx="335268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ff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Black t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Green t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Mil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s: Adv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l type=“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disc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"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l type=“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circle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l type=“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square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"&gt;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s: Adv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&lt;ol type="A"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, B, C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&lt;ol type=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"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, b, c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&lt;ol type=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"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, II, III, IV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&lt;ol type=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"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, ii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s: Definitions lis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A definition list is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a list of items. This is a list 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terms and explanation of th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dl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dt&gt;Coffee&lt;/d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dd&gt;Black hot drink&lt;/dd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dt&gt;Milk&lt;/dt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dd&gt;White cold drink&lt;/dd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/dl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791320" y="2666880"/>
            <a:ext cx="2819160" cy="1688400"/>
            <a:chOff x="5791320" y="2666880"/>
            <a:chExt cx="2819160" cy="1688400"/>
          </a:xfrm>
        </p:grpSpPr>
        <p:sp>
          <p:nvSpPr>
            <p:cNvPr id="71" name=""/>
            <p:cNvSpPr/>
            <p:nvPr/>
          </p:nvSpPr>
          <p:spPr>
            <a:xfrm>
              <a:off x="5794200" y="2672640"/>
              <a:ext cx="2813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5791320" y="2666880"/>
              <a:ext cx="2819160" cy="1688400"/>
              <a:chOff x="5791320" y="2666880"/>
              <a:chExt cx="2819160" cy="168840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5794200" y="2672640"/>
                <a:ext cx="2813040" cy="1676160"/>
                <a:chOff x="5794200" y="2672640"/>
                <a:chExt cx="2813040" cy="167616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5794200" y="2672640"/>
                  <a:ext cx="2813040" cy="167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2000" spc="-1" strike="noStrike">
                      <a:solidFill>
                        <a:srgbClr val="000000"/>
                      </a:solidFill>
                      <a:latin typeface="Verdana"/>
                    </a:rPr>
                    <a:t>Coffee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2000" spc="-1" strike="noStrike">
                      <a:solidFill>
                        <a:srgbClr val="000000"/>
                      </a:solidFill>
                      <a:latin typeface="Verdana"/>
                    </a:rPr>
                    <a:t>Black hot drink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2000" spc="-1" strike="noStrike">
                      <a:solidFill>
                        <a:srgbClr val="000000"/>
                      </a:solidFill>
                      <a:latin typeface="Verdana"/>
                    </a:rPr>
                    <a:t>Milk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2000" spc="-1" strike="noStrike">
                      <a:solidFill>
                        <a:srgbClr val="000000"/>
                      </a:solidFill>
                      <a:latin typeface="Verdana"/>
                    </a:rPr>
                    <a:t>White cold drink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794200" y="2672640"/>
                  <a:ext cx="2813040" cy="16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" name=""/>
              <p:cNvSpPr/>
              <p:nvPr/>
            </p:nvSpPr>
            <p:spPr>
              <a:xfrm>
                <a:off x="5791320" y="2666880"/>
                <a:ext cx="2819160" cy="168840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ables are defined with the </a:t>
            </a:r>
            <a:r>
              <a:rPr b="0" sz="2400" spc="-1" strike="noStrike">
                <a:solidFill>
                  <a:srgbClr val="3333cc"/>
                </a:solidFill>
                <a:latin typeface="Times New Roman"/>
              </a:rPr>
              <a:t>&lt;table&gt;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ta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 table is divided into rows (with the </a:t>
            </a:r>
            <a:r>
              <a:rPr b="0" sz="2400" spc="-1" strike="noStrike">
                <a:solidFill>
                  <a:srgbClr val="3333cc"/>
                </a:solidFill>
                <a:latin typeface="Times New Roman"/>
              </a:rPr>
              <a:t>&lt;tr&gt;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tag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....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nd each row is divided into data cells (with the </a:t>
            </a:r>
            <a:r>
              <a:rPr b="0" sz="2400" spc="-1" strike="noStrike">
                <a:solidFill>
                  <a:srgbClr val="3333cc"/>
                </a:solidFill>
                <a:latin typeface="Times New Roman"/>
              </a:rPr>
              <a:t>&lt;td&gt;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ta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2000" spc="-1" strike="noStrike">
                <a:solidFill>
                  <a:srgbClr val="000000"/>
                </a:solidFill>
                <a:latin typeface="Times New Roman"/>
              </a:rPr>
              <a:t>so the table is always a set of rows and thereafter a set of cells and is never a set of columns (except [auto]finding columns widths)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he letters </a:t>
            </a:r>
            <a:r>
              <a:rPr b="0" sz="2400" spc="-1" strike="noStrike">
                <a:solidFill>
                  <a:srgbClr val="3333cc"/>
                </a:solidFill>
                <a:latin typeface="Times New Roman"/>
              </a:rPr>
              <a:t>td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stands for "table data," which is the content of a data cell. 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A data cell can contain text, images, lists, paragraphs, forms, horizontal rules, tables, etc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table border="1"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tr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td&gt;row 1, cell 1&lt;/td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td&gt;row 1, cell 2&lt;/td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/tr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tr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td&gt;row 2, cell 1&lt;/td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td&gt;row 2, cell 2&lt;/td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/tr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/tabl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486400" y="2514600"/>
            <a:ext cx="4266720" cy="1370160"/>
            <a:chOff x="5486400" y="2514600"/>
            <a:chExt cx="4266720" cy="1370160"/>
          </a:xfrm>
        </p:grpSpPr>
        <p:sp>
          <p:nvSpPr>
            <p:cNvPr id="82" name=""/>
            <p:cNvSpPr/>
            <p:nvPr/>
          </p:nvSpPr>
          <p:spPr>
            <a:xfrm>
              <a:off x="5490720" y="2526480"/>
              <a:ext cx="4262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5486400" y="2514600"/>
              <a:ext cx="2066040" cy="1370160"/>
              <a:chOff x="5486400" y="2514600"/>
              <a:chExt cx="2066040" cy="1370160"/>
            </a:xfrm>
          </p:grpSpPr>
          <p:grpSp>
            <p:nvGrpSpPr>
              <p:cNvPr id="84" name=""/>
              <p:cNvGrpSpPr/>
              <p:nvPr/>
            </p:nvGrpSpPr>
            <p:grpSpPr>
              <a:xfrm>
                <a:off x="5490720" y="2526480"/>
                <a:ext cx="2056680" cy="1345680"/>
                <a:chOff x="5490720" y="2526480"/>
                <a:chExt cx="2056680" cy="1345680"/>
              </a:xfrm>
            </p:grpSpPr>
            <p:grpSp>
              <p:nvGrpSpPr>
                <p:cNvPr id="85" name=""/>
                <p:cNvGrpSpPr/>
                <p:nvPr/>
              </p:nvGrpSpPr>
              <p:grpSpPr>
                <a:xfrm>
                  <a:off x="5490720" y="2526480"/>
                  <a:ext cx="2056680" cy="1344960"/>
                  <a:chOff x="5490720" y="2526480"/>
                  <a:chExt cx="2056680" cy="1344960"/>
                </a:xfrm>
              </p:grpSpPr>
              <p:grpSp>
                <p:nvGrpSpPr>
                  <p:cNvPr id="86" name=""/>
                  <p:cNvGrpSpPr/>
                  <p:nvPr/>
                </p:nvGrpSpPr>
                <p:grpSpPr>
                  <a:xfrm>
                    <a:off x="5495040" y="2538000"/>
                    <a:ext cx="2046960" cy="1318320"/>
                    <a:chOff x="5495040" y="2538000"/>
                    <a:chExt cx="2046960" cy="1318320"/>
                  </a:xfrm>
                </p:grpSpPr>
                <p:grpSp>
                  <p:nvGrpSpPr>
                    <p:cNvPr id="87" name=""/>
                    <p:cNvGrpSpPr/>
                    <p:nvPr/>
                  </p:nvGrpSpPr>
                  <p:grpSpPr>
                    <a:xfrm>
                      <a:off x="5495040" y="2538000"/>
                      <a:ext cx="1023480" cy="658800"/>
                      <a:chOff x="5495040" y="2538000"/>
                      <a:chExt cx="1023480" cy="658800"/>
                    </a:xfrm>
                  </p:grpSpPr>
                  <p:sp>
                    <p:nvSpPr>
                      <p:cNvPr id="88" name=""/>
                      <p:cNvSpPr/>
                      <p:nvPr/>
                    </p:nvSpPr>
                    <p:spPr>
                      <a:xfrm>
                        <a:off x="5495040" y="2538000"/>
                        <a:ext cx="1023480" cy="658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row 1, cell 1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" name=""/>
                      <p:cNvSpPr/>
                      <p:nvPr/>
                    </p:nvSpPr>
                    <p:spPr>
                      <a:xfrm>
                        <a:off x="5495040" y="2538000"/>
                        <a:ext cx="1023480" cy="65880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0" name=""/>
                    <p:cNvGrpSpPr/>
                    <p:nvPr/>
                  </p:nvGrpSpPr>
                  <p:grpSpPr>
                    <a:xfrm>
                      <a:off x="6518520" y="2538000"/>
                      <a:ext cx="1023480" cy="658800"/>
                      <a:chOff x="6518520" y="2538000"/>
                      <a:chExt cx="1023480" cy="658800"/>
                    </a:xfrm>
                  </p:grpSpPr>
                  <p:sp>
                    <p:nvSpPr>
                      <p:cNvPr id="91" name=""/>
                      <p:cNvSpPr/>
                      <p:nvPr/>
                    </p:nvSpPr>
                    <p:spPr>
                      <a:xfrm>
                        <a:off x="6518520" y="2538000"/>
                        <a:ext cx="1023480" cy="658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row 1, cell 2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" name=""/>
                      <p:cNvSpPr/>
                      <p:nvPr/>
                    </p:nvSpPr>
                    <p:spPr>
                      <a:xfrm>
                        <a:off x="6518520" y="2538000"/>
                        <a:ext cx="1023480" cy="65880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3" name=""/>
                    <p:cNvGrpSpPr/>
                    <p:nvPr/>
                  </p:nvGrpSpPr>
                  <p:grpSpPr>
                    <a:xfrm>
                      <a:off x="5495040" y="3197520"/>
                      <a:ext cx="1023480" cy="658800"/>
                      <a:chOff x="5495040" y="3197520"/>
                      <a:chExt cx="1023480" cy="658800"/>
                    </a:xfrm>
                  </p:grpSpPr>
                  <p:sp>
                    <p:nvSpPr>
                      <p:cNvPr id="94" name=""/>
                      <p:cNvSpPr/>
                      <p:nvPr/>
                    </p:nvSpPr>
                    <p:spPr>
                      <a:xfrm>
                        <a:off x="5495040" y="3197520"/>
                        <a:ext cx="1023480" cy="658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row 2, cell 1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" name=""/>
                      <p:cNvSpPr/>
                      <p:nvPr/>
                    </p:nvSpPr>
                    <p:spPr>
                      <a:xfrm>
                        <a:off x="5495040" y="3197520"/>
                        <a:ext cx="1023480" cy="65880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6" name=""/>
                    <p:cNvGrpSpPr/>
                    <p:nvPr/>
                  </p:nvGrpSpPr>
                  <p:grpSpPr>
                    <a:xfrm>
                      <a:off x="6518520" y="3197520"/>
                      <a:ext cx="1023480" cy="658800"/>
                      <a:chOff x="6518520" y="3197520"/>
                      <a:chExt cx="1023480" cy="658800"/>
                    </a:xfrm>
                  </p:grpSpPr>
                  <p:sp>
                    <p:nvSpPr>
                      <p:cNvPr id="97" name=""/>
                      <p:cNvSpPr/>
                      <p:nvPr/>
                    </p:nvSpPr>
                    <p:spPr>
                      <a:xfrm>
                        <a:off x="6518520" y="3197520"/>
                        <a:ext cx="1023480" cy="658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row 2, cell 2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" name=""/>
                      <p:cNvSpPr/>
                      <p:nvPr/>
                    </p:nvSpPr>
                    <p:spPr>
                      <a:xfrm>
                        <a:off x="6518520" y="3197520"/>
                        <a:ext cx="1023480" cy="65880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99" name=""/>
                  <p:cNvSpPr/>
                  <p:nvPr/>
                </p:nvSpPr>
                <p:spPr>
                  <a:xfrm>
                    <a:off x="5490720" y="2526480"/>
                    <a:ext cx="2056680" cy="134496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0" name=""/>
                <p:cNvSpPr/>
                <p:nvPr/>
              </p:nvSpPr>
              <p:spPr>
                <a:xfrm>
                  <a:off x="5490720" y="2526480"/>
                  <a:ext cx="2056680" cy="134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5486400" y="2514600"/>
                <a:ext cx="2066040" cy="137016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1T13:30:04Z</dcterms:created>
  <dc:creator>Niina</dc:creator>
  <dc:description/>
  <dc:language>en-US</dc:language>
  <cp:lastModifiedBy>kumlanderd</cp:lastModifiedBy>
  <dcterms:modified xsi:type="dcterms:W3CDTF">2007-10-20T10:05:11Z</dcterms:modified>
  <cp:revision>25</cp:revision>
  <dc:subject/>
  <dc:title>PowerPoint Presentation</dc:title>
</cp:coreProperties>
</file>