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779-579A-4C4F-B40C-F587F146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720-2862-49BF-B2AC-34FE7403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454-222A-4C51-8A08-0A555A05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D26-1622-4E9F-BD0E-8D3779D6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632-0BD4-49B0-84E3-A76048F7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F05-C061-4178-B36B-B04DF7DC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308-F5C8-45A0-BC60-B2384766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F3F-DBDE-4BFD-AE95-EEBD71CC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1AB-1434-4BFB-A928-5502E3F0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F92-FA0A-4150-AF3F-1E63ED8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285-B1B7-434D-8B90-08389BC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A69-713C-4D09-82BC-33F6CD19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BFA4-1EF6-4ECD-8FA7-D36526D390A0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harjutus 03:</a:t>
            </a: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ists, tables and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able border="1"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r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gt;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eading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 1&lt;/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gt;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eading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 2&lt;/t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gt;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r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2, cell 1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2, cell 2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ab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14600"/>
            <a:ext cx="5943240" cy="1370160"/>
            <a:chOff x="5715000" y="2514600"/>
            <a:chExt cx="5943240" cy="1370160"/>
          </a:xfrm>
        </p:grpSpPr>
        <p:sp>
          <p:nvSpPr>
            <p:cNvPr id="105" name=""/>
            <p:cNvSpPr/>
            <p:nvPr/>
          </p:nvSpPr>
          <p:spPr>
            <a:xfrm>
              <a:off x="5721120" y="2526480"/>
              <a:ext cx="593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15000" y="2514600"/>
              <a:ext cx="2877480" cy="1370160"/>
              <a:chOff x="5715000" y="2514600"/>
              <a:chExt cx="2877480" cy="13701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5721120" y="2526480"/>
                <a:ext cx="2864520" cy="1345680"/>
                <a:chOff x="5721120" y="2526480"/>
                <a:chExt cx="2864520" cy="134568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5721120" y="2526480"/>
                  <a:ext cx="2864160" cy="1344960"/>
                  <a:chOff x="5721120" y="2526480"/>
                  <a:chExt cx="2864160" cy="1344960"/>
                </a:xfrm>
              </p:grpSpPr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5727240" y="2538000"/>
                    <a:ext cx="2850120" cy="1318320"/>
                    <a:chOff x="5727240" y="2538000"/>
                    <a:chExt cx="2850120" cy="1318320"/>
                  </a:xfrm>
                </p:grpSpPr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5727240" y="2538000"/>
                      <a:ext cx="1424880" cy="658800"/>
                      <a:chOff x="5727240" y="2538000"/>
                      <a:chExt cx="1424880" cy="658800"/>
                    </a:xfrm>
                  </p:grpSpPr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5727240" y="253800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t-EE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Heading 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5727240" y="253800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" name=""/>
                    <p:cNvGrpSpPr/>
                    <p:nvPr/>
                  </p:nvGrpSpPr>
                  <p:grpSpPr>
                    <a:xfrm>
                      <a:off x="7152480" y="2538000"/>
                      <a:ext cx="1424880" cy="658800"/>
                      <a:chOff x="7152480" y="2538000"/>
                      <a:chExt cx="1424880" cy="658800"/>
                    </a:xfrm>
                  </p:grpSpPr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7152480" y="253800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t-EE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Heading 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7152480" y="253800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5727240" y="3197520"/>
                      <a:ext cx="1424880" cy="658800"/>
                      <a:chOff x="5727240" y="3197520"/>
                      <a:chExt cx="1424880" cy="658800"/>
                    </a:xfrm>
                  </p:grpSpPr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5727240" y="319752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2, cell 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5727240" y="319752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7152480" y="3197520"/>
                      <a:ext cx="1424880" cy="658800"/>
                      <a:chOff x="7152480" y="3197520"/>
                      <a:chExt cx="1424880" cy="65880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7152480" y="319752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2, cell 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7152480" y="3197520"/>
                        <a:ext cx="14248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2" name=""/>
                  <p:cNvSpPr/>
                  <p:nvPr/>
                </p:nvSpPr>
                <p:spPr>
                  <a:xfrm>
                    <a:off x="5721120" y="2526480"/>
                    <a:ext cx="2864160" cy="13449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5721120" y="2526480"/>
                  <a:ext cx="2864520" cy="13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715000" y="2514600"/>
                <a:ext cx="2877480" cy="1370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rowspan="</a:t>
            </a:r>
            <a:r>
              <a:rPr b="0" lang="et-EE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"</a:t>
            </a:r>
            <a:r>
              <a:rPr b="0" lang="et-EE" sz="2400" spc="-1" strike="noStrike">
                <a:solidFill>
                  <a:srgbClr val="009999"/>
                </a:solidFill>
                <a:latin typeface="Times New Roman"/>
              </a:rPr>
              <a:t>, col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pan="</a:t>
            </a:r>
            <a:r>
              <a:rPr b="0" lang="et-EE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table border="1"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&gt;col 1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&gt;col 2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rowspan="2"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gt;row 2,3 col 2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&gt;row 2, col 2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td&gt;row 3, col 2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384720" cy="180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84720" y="3141720"/>
            <a:ext cx="3533760" cy="2881080"/>
          </a:xfrm>
          <a:custGeom>
            <a:avLst/>
            <a:gdLst/>
            <a:ahLst/>
            <a:rect l="l" t="t" r="r" b="b"/>
            <a:pathLst>
              <a:path w="2226" h="1605">
                <a:moveTo>
                  <a:pt x="0" y="1605"/>
                </a:moveTo>
                <a:lnTo>
                  <a:pt x="2226" y="1603"/>
                </a:lnTo>
                <a:lnTo>
                  <a:pt x="22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Empty cell &lt;td&gt;&lt;/td&gt; - 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add &amp;nbsp; into the cell to have a cell similar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border="0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table 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cellpadding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="50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gcolor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, background etc for table, td (c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l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ith frames, you can display more than one HTML document in the same browser window. Each HTML document is called a frame, and each frame is independent of the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&lt;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frameset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&gt; tag defines how to divide the window into fr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Each frameset defines a set of row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colum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values of the rows/columns indicate the amount of screen area each row/column will occu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&lt;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&gt; tag defines what HTML document to put into each frame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set cols="25%,75%"&gt; 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frame_a.htm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 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frame_b.htm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framese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50864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set rows="50%,50%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frameset cols="120,*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: mi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set rows="50%,50%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tryhtml_frame_a.htm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set cols="25%,75%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tryhtml_frame_b.htm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frame src="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tryhtml_frame_c.htm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/framese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/frameset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Frames: Adv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Inline frame: is a document inside the amin docu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cc"/>
                </a:solidFill>
                <a:latin typeface="Times New Roman"/>
              </a:rPr>
              <a:t>&lt;iframe src=“</a:t>
            </a: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http://www.ttu.ee</a:t>
            </a:r>
            <a:r>
              <a:rPr b="0" sz="2800" spc="-1" strike="noStrike">
                <a:solidFill>
                  <a:srgbClr val="3333cc"/>
                </a:solidFill>
                <a:latin typeface="Times New Roman"/>
              </a:rPr>
              <a:t>"&gt;&lt;/ifr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noresize </a:t>
            </a:r>
            <a:r>
              <a:rPr b="0" lang="et-EE" sz="3200" spc="-1" strike="noStrike">
                <a:solidFill>
                  <a:srgbClr val="3333cc"/>
                </a:solidFill>
                <a:latin typeface="Times New Roman"/>
              </a:rPr>
              <a:t> =&gt; </a:t>
            </a:r>
            <a:r>
              <a:rPr b="0" sz="3200" spc="-1" strike="noStrike">
                <a:solidFill>
                  <a:srgbClr val="3333cc"/>
                </a:solidFill>
                <a:latin typeface="Times New Roman"/>
              </a:rPr>
              <a:t>noresize="noresize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: makes impossible to move the frme b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Frames: no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frameset cols="25%,50%,25%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frame src="tryhtml_frame_a.htm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frame src="tryhtml_frame_b.htm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frame src="tryhtml_frame_c.htm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&lt;nofram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Your browser does not</a:t>
            </a:r>
            <a:r>
              <a:rPr b="0" lang="et-E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handle frames!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&lt;/nofram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frames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inks: target and 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a href=http://www.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tu</a:t>
            </a: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.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e/</a:t>
            </a:r>
            <a:r>
              <a:rPr b="0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arget</a:t>
            </a: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"</a:t>
            </a: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blank</a:t>
            </a: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TU</a:t>
            </a:r>
            <a:r>
              <a:rPr b="0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</a:t>
            </a:r>
            <a:r>
              <a:rPr b="1" lang="et-EE" sz="2000" spc="-1" strike="noStrike">
                <a:solidFill>
                  <a:srgbClr val="009999"/>
                </a:solidFill>
                <a:latin typeface="Times New Roman"/>
              </a:rPr>
              <a:t>top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– Break out of a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</a:t>
            </a: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bla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the target URL will open in a new wind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</a:t>
            </a: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sel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the target URL will open in the same frame as it was click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9999"/>
                </a:solidFill>
                <a:latin typeface="Arial Unicode MS"/>
                <a:ea typeface="Courier New"/>
              </a:rPr>
              <a:t>_</a:t>
            </a: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par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the target URL will open in the parent frame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920" y="3736800"/>
            <a:ext cx="8785080" cy="289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frame name="left" src="Links.htm" scrolling="auto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&lt;frame name="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right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" src="homeEn.htm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3333cc"/>
                </a:solidFill>
                <a:latin typeface="Times New Roman"/>
              </a:rPr>
              <a:t>In Links.ht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a href=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ttp://www.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tu.ee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” 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arget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“</a:t>
            </a:r>
            <a:r>
              <a:rPr b="1" lang="et-EE" sz="2800" spc="-1" strike="noStrike">
                <a:solidFill>
                  <a:srgbClr val="3333cc"/>
                </a:solidFill>
                <a:latin typeface="Times New Roman"/>
              </a:rPr>
              <a:t>right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TU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Unordered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ul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li&gt;Coffee&lt;/li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li&gt;Milk&lt;/li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/u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410080" y="2362320"/>
            <a:ext cx="2743200" cy="1475640"/>
            <a:chOff x="5410080" y="2362320"/>
            <a:chExt cx="2743200" cy="1475640"/>
          </a:xfrm>
        </p:grpSpPr>
        <p:sp>
          <p:nvSpPr>
            <p:cNvPr id="46" name=""/>
            <p:cNvSpPr/>
            <p:nvPr/>
          </p:nvSpPr>
          <p:spPr>
            <a:xfrm>
              <a:off x="5412960" y="2369160"/>
              <a:ext cx="2737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5410080" y="2362320"/>
              <a:ext cx="2743200" cy="1475640"/>
              <a:chOff x="5410080" y="2362320"/>
              <a:chExt cx="2743200" cy="1475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412960" y="2369160"/>
                <a:ext cx="2737440" cy="1460520"/>
                <a:chOff x="5412960" y="2369160"/>
                <a:chExt cx="2737440" cy="1460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412960" y="2369160"/>
                  <a:ext cx="2737440" cy="14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0000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sz="2400" spc="-1" strike="noStrike">
                      <a:solidFill>
                        <a:srgbClr val="000000"/>
                      </a:solidFill>
                      <a:latin typeface="Verdana"/>
                    </a:rPr>
                    <a:t>Coffee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0000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sz="2400" spc="-1" strike="noStrike">
                      <a:solidFill>
                        <a:srgbClr val="000000"/>
                      </a:solidFill>
                      <a:latin typeface="Verdana"/>
                    </a:rPr>
                    <a:t>Milk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412960" y="2369160"/>
                  <a:ext cx="2737440" cy="14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5410080" y="2362320"/>
                <a:ext cx="2743200" cy="1475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O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rdered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l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li&gt;Coffee&lt;/li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li&gt;Milk&lt;/li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10080" y="2362320"/>
            <a:ext cx="2743200" cy="1475640"/>
            <a:chOff x="5410080" y="2362320"/>
            <a:chExt cx="2743200" cy="1475640"/>
          </a:xfrm>
        </p:grpSpPr>
        <p:sp>
          <p:nvSpPr>
            <p:cNvPr id="55" name=""/>
            <p:cNvSpPr/>
            <p:nvPr/>
          </p:nvSpPr>
          <p:spPr>
            <a:xfrm>
              <a:off x="5412960" y="2369160"/>
              <a:ext cx="2737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5410080" y="2362320"/>
              <a:ext cx="2743200" cy="1475640"/>
              <a:chOff x="5410080" y="2362320"/>
              <a:chExt cx="2743200" cy="14756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5412960" y="2369160"/>
                <a:ext cx="2737440" cy="1460520"/>
                <a:chOff x="5412960" y="2369160"/>
                <a:chExt cx="2737440" cy="14605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5412960" y="2369160"/>
                  <a:ext cx="2737440" cy="14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914400" indent="-457200">
                    <a:lnSpc>
                      <a:spcPct val="100000"/>
                    </a:lnSpc>
                    <a:buClr>
                      <a:srgbClr val="000000"/>
                    </a:buClr>
                    <a:buFont typeface="Verdana"/>
                    <a:buAutoNum type="arabicPeriod"/>
                    <a:tabLst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400" spc="-1" strike="noStrike">
                      <a:solidFill>
                        <a:srgbClr val="000000"/>
                      </a:solidFill>
                      <a:latin typeface="Verdana"/>
                    </a:rPr>
                    <a:t>Coffee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914400" indent="-457200">
                    <a:lnSpc>
                      <a:spcPct val="100000"/>
                    </a:lnSpc>
                    <a:buClr>
                      <a:srgbClr val="000000"/>
                    </a:buClr>
                    <a:buFont typeface="Verdana"/>
                    <a:buAutoNum type="arabicPeriod"/>
                    <a:tabLst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400" spc="-1" strike="noStrike">
                      <a:solidFill>
                        <a:srgbClr val="000000"/>
                      </a:solidFill>
                      <a:latin typeface="Verdana"/>
                    </a:rPr>
                    <a:t>Milk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412960" y="2369160"/>
                  <a:ext cx="2737440" cy="14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5410080" y="2362320"/>
                <a:ext cx="2743200" cy="1475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N</a:t>
            </a:r>
            <a:r>
              <a:rPr b="0" sz="4400" spc="-1" strike="noStrike">
                <a:solidFill>
                  <a:srgbClr val="000000"/>
                </a:solidFill>
                <a:latin typeface="Times New Roman"/>
              </a:rPr>
              <a:t>ested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Coffee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Black tea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Green tea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li&gt;Milk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/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133720"/>
            <a:ext cx="33526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lack 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reen t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il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Adv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l type=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l type=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l type=“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Adv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ol type="A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, B, C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ol type=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, b, c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ol type=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, II, III, IV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ol type=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, ii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s: Definitions lis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 definition list is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a list of items. This is a list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terms and explanation of th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t&gt;Coffee&lt;/d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d&gt;Black hot drink&lt;/d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t&gt;Milk&lt;/dt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dd&gt;White cold drink&lt;/d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d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791320" y="2666880"/>
            <a:ext cx="2819160" cy="1688400"/>
            <a:chOff x="5791320" y="2666880"/>
            <a:chExt cx="2819160" cy="1688400"/>
          </a:xfrm>
        </p:grpSpPr>
        <p:sp>
          <p:nvSpPr>
            <p:cNvPr id="71" name=""/>
            <p:cNvSpPr/>
            <p:nvPr/>
          </p:nvSpPr>
          <p:spPr>
            <a:xfrm>
              <a:off x="5794200" y="2672640"/>
              <a:ext cx="2813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791320" y="2666880"/>
              <a:ext cx="2819160" cy="1688400"/>
              <a:chOff x="5791320" y="2666880"/>
              <a:chExt cx="2819160" cy="168840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794200" y="2672640"/>
                <a:ext cx="2813040" cy="1676160"/>
                <a:chOff x="5794200" y="2672640"/>
                <a:chExt cx="2813040" cy="16761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794200" y="2672640"/>
                  <a:ext cx="2813040" cy="16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000" spc="-1" strike="noStrike">
                      <a:solidFill>
                        <a:srgbClr val="000000"/>
                      </a:solidFill>
                      <a:latin typeface="Verdana"/>
                    </a:rPr>
                    <a:t>Coffe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000" spc="-1" strike="noStrike">
                      <a:solidFill>
                        <a:srgbClr val="000000"/>
                      </a:solidFill>
                      <a:latin typeface="Verdana"/>
                    </a:rPr>
                    <a:t>Black hot drink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000" spc="-1" strike="noStrike">
                      <a:solidFill>
                        <a:srgbClr val="000000"/>
                      </a:solidFill>
                      <a:latin typeface="Verdana"/>
                    </a:rPr>
                    <a:t>Milk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2000" spc="-1" strike="noStrike">
                      <a:solidFill>
                        <a:srgbClr val="000000"/>
                      </a:solidFill>
                      <a:latin typeface="Verdana"/>
                    </a:rPr>
                    <a:t>White cold drin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794200" y="2672640"/>
                  <a:ext cx="2813040" cy="16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5791320" y="2666880"/>
                <a:ext cx="2819160" cy="16884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ables are defined with the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&lt;table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a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 table is divided into rows (with the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&lt;tr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ag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...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 each row is divided into data cells (with the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&lt;td&gt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a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000" spc="-1" strike="noStrike">
                <a:solidFill>
                  <a:srgbClr val="000000"/>
                </a:solidFill>
                <a:latin typeface="Times New Roman"/>
              </a:rPr>
              <a:t>so the table is always a set of rows and thereafter a set of cells and is never a set of columns (except [auto]finding columns widths)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letters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t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stands for "table data," which is the content of a data cell.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A data cell can contain text, images, lists, paragraphs, forms, horizontal rules, tables, etc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able border="1"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r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1, cell 1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1, cell 2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r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2, cell 1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td&gt;row 2, cell 2&lt;/td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/tab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86400" y="2514600"/>
            <a:ext cx="4266720" cy="1370160"/>
            <a:chOff x="5486400" y="2514600"/>
            <a:chExt cx="4266720" cy="1370160"/>
          </a:xfrm>
        </p:grpSpPr>
        <p:sp>
          <p:nvSpPr>
            <p:cNvPr id="82" name=""/>
            <p:cNvSpPr/>
            <p:nvPr/>
          </p:nvSpPr>
          <p:spPr>
            <a:xfrm>
              <a:off x="5490720" y="2526480"/>
              <a:ext cx="4262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486400" y="2514600"/>
              <a:ext cx="2066040" cy="1370160"/>
              <a:chOff x="5486400" y="2514600"/>
              <a:chExt cx="2066040" cy="137016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5490720" y="2526480"/>
                <a:ext cx="2056680" cy="1345680"/>
                <a:chOff x="5490720" y="2526480"/>
                <a:chExt cx="2056680" cy="1345680"/>
              </a:xfrm>
            </p:grpSpPr>
            <p:grpSp>
              <p:nvGrpSpPr>
                <p:cNvPr id="85" name=""/>
                <p:cNvGrpSpPr/>
                <p:nvPr/>
              </p:nvGrpSpPr>
              <p:grpSpPr>
                <a:xfrm>
                  <a:off x="5490720" y="2526480"/>
                  <a:ext cx="2056680" cy="1344960"/>
                  <a:chOff x="5490720" y="2526480"/>
                  <a:chExt cx="2056680" cy="134496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5495040" y="2538000"/>
                    <a:ext cx="2046960" cy="1318320"/>
                    <a:chOff x="5495040" y="2538000"/>
                    <a:chExt cx="2046960" cy="13183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5495040" y="2538000"/>
                      <a:ext cx="1023480" cy="658800"/>
                      <a:chOff x="5495040" y="2538000"/>
                      <a:chExt cx="1023480" cy="658800"/>
                    </a:xfrm>
                  </p:grpSpPr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5495040" y="253800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1, cell 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5495040" y="253800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6518520" y="2538000"/>
                      <a:ext cx="1023480" cy="658800"/>
                      <a:chOff x="6518520" y="2538000"/>
                      <a:chExt cx="1023480" cy="65880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6518520" y="253800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1, cell 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6518520" y="253800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3" name=""/>
                    <p:cNvGrpSpPr/>
                    <p:nvPr/>
                  </p:nvGrpSpPr>
                  <p:grpSpPr>
                    <a:xfrm>
                      <a:off x="5495040" y="3197520"/>
                      <a:ext cx="1023480" cy="658800"/>
                      <a:chOff x="5495040" y="3197520"/>
                      <a:chExt cx="1023480" cy="658800"/>
                    </a:xfrm>
                  </p:grpSpPr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5495040" y="319752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2, cell 1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5495040" y="319752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" name=""/>
                    <p:cNvGrpSpPr/>
                    <p:nvPr/>
                  </p:nvGrpSpPr>
                  <p:grpSpPr>
                    <a:xfrm>
                      <a:off x="6518520" y="3197520"/>
                      <a:ext cx="1023480" cy="658800"/>
                      <a:chOff x="6518520" y="3197520"/>
                      <a:chExt cx="1023480" cy="658800"/>
                    </a:xfrm>
                  </p:grpSpPr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6518520" y="319752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ow 2, cell 2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6518520" y="3197520"/>
                        <a:ext cx="1023480" cy="658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9" name=""/>
                  <p:cNvSpPr/>
                  <p:nvPr/>
                </p:nvSpPr>
                <p:spPr>
                  <a:xfrm>
                    <a:off x="5490720" y="2526480"/>
                    <a:ext cx="2056680" cy="13449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5490720" y="2526480"/>
                  <a:ext cx="2056680" cy="134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5486400" y="2514600"/>
                <a:ext cx="2066040" cy="1370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3:30:04Z</dcterms:created>
  <dc:creator>Niina</dc:creator>
  <dc:description/>
  <dc:language>en-US</dc:language>
  <cp:lastModifiedBy>kumlanderd</cp:lastModifiedBy>
  <dcterms:modified xsi:type="dcterms:W3CDTF">2007-10-20T10:05:11Z</dcterms:modified>
  <cp:revision>25</cp:revision>
  <dc:subject/>
  <dc:title>PowerPoint Presentation</dc:title>
</cp:coreProperties>
</file>