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EA1-FDE7-4DA7-8840-5B79D365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DB7-5EAD-4ECB-94F5-5C05E3CB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0C180-EA03-477A-949C-4549405C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E88DF-5F93-404B-8D1C-8D42B491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D6468-56D4-45FE-AC33-4BB8F55D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46F32-6823-4124-9A04-65A69259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86EDE-41FC-4843-9206-AF1B7352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5DF30-54B5-47F8-B5E4-DD0BEBDA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B7AE9-3E61-4D84-931E-E1DD510C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99167-3460-429E-AD92-7089719C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A6976-ADF6-401B-92E6-4E44841E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5E505-A9F8-4373-A9A5-51344135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74C1-37B6-479B-8E42-FCFCA85C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FE474-361A-482C-BFA2-5A28B4B2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016B0-0DD9-4658-A0B3-6A34E4F3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1B37C-0BE8-4CA0-84BF-F9BF185F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C906C-2A08-421C-ADE0-A5FA30C2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57594-F60B-4C22-91A7-4927DDF7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B2BCC-346E-4BC5-A9B3-5BC021E7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9EBC8-D366-4C42-91E9-CF02CE08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97585-9D7B-405A-9AD4-85C5D2DF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1E01D-EC76-4F71-99E9-2A5D1E12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B789B-2EA6-43E3-A420-CAAB21FE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6EB2-9BAE-4AF1-935A-C767DBEC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86D4D-47CB-4F40-B717-CC979F83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678C9-4B7F-4F9F-B207-C162C5CF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3E630-C1EF-4DF9-8851-3E728124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E3417-9CBB-4DC8-9944-CE026204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0E883-C340-461E-9ABE-120A1BF0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E17FC-0336-42E6-B01F-AB69DA9E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831F9-9E5A-4459-B10A-AA29C934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1A91C-932D-40D4-BA17-9844C2DA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0B5E8-C67A-4EC1-8E89-18212C2D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27689-DBF4-47DC-99DB-535B55C0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6A72-5209-4F4C-8C3D-BFF489E7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F619D-6CCD-4728-B819-38B9CE4E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0F5CD-FBD3-460D-85C5-B2DE5007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08BA9-50A8-4C4A-A3A5-88A5B126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0477A-71FC-484E-8443-CE5AC2D8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7D44E-DFD6-4318-8634-0229F027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9FE12-C850-4516-BEB4-969298DF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00B13-E848-4D50-9C2D-CCBE4F2E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D4D76-6C17-44C2-99F2-08730970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38192-4114-46CF-B6C5-50AC5D8C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1205C-A640-470E-B945-7C7C7A7B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C4B0-2AE9-462B-A14C-83F69246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D8A36-1E36-4000-8685-C5525D6D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2B04F-E826-4340-9393-8A9F209B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45730-EADC-4E40-9F3F-51B1FDD3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32C89-D3E4-4A3C-B953-3C987865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51538-58DD-45A3-BC15-FE114458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E53B-E182-4828-8C2B-C127B782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8F08-0760-4248-BF8D-34EC56FE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5496-1796-4990-85BB-E6BDB558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CF3A-0C7A-4437-9157-65AAD8E7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E7BB-1676-4304-BB74-072DFFFE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CF0-81F3-4999-BA41-9C16F1A4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4D35-957C-4B11-AEB0-38A4FA3C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6A93-9D31-4818-8C4B-54B58E2A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7ADA-B7B7-4EED-BB33-5D616592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BCD9-3A94-4088-8271-1C14C12E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E92A-062A-47D6-97B0-B7985E25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662F9-3A08-4276-82F0-D2E87EA7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DB80D-FD7B-429F-9B4E-5FA27D2F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1CD8E-8FC3-46FD-AF3C-A05893B1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FF06B-6539-4A4B-8F2F-24C7141E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D1709-4889-42ED-8361-38651652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D8D-751A-441B-921F-317A903B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F8258-7E8A-4C3C-AECE-41C5FA87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3D40F-383A-4F1B-B5AC-61E01C1D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648E7-B388-4E59-8732-63BCAA9E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4D3EA-CE33-483B-93C2-148AB143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E0B36-A43F-4991-86E8-BC49603D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E6AF2-9177-4494-9B29-45D4B208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6E21D-915A-44D3-8F6D-29E2DA86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547EE-62F2-4BCF-8B47-302AF5E3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8D9CB-E9C7-4627-9D4F-628C4D3C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824FA-0FB2-41F4-87CA-811EE9D4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20C-601E-4F63-9137-544F3AD6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1C8B6-002F-4BBF-8948-995D1700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1EBE6-4604-46F8-9BBD-953F05AF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71B3B-838D-44AE-84BB-56329FC7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84C86-B40A-4AA8-8545-AFD6E6EC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80C76-163E-408A-96BD-D5B14EF8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D68E4-205F-4B26-BEF5-26A095D0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A7E57-A8A0-433A-86CC-0C34B5FF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D4CA4-593F-4131-9E64-A147C178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AD600-FE1A-41F7-BB6E-03BF9C63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1A3C3-3846-4CD8-A518-E9C3C4ED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E8F3-948E-4DF7-A42F-15DCFC65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32AA8-9B66-495F-B420-140A5EA1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AB3C9-C318-4B83-9C8F-CAB5C991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91489-6A16-45DB-A4AD-0075025D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981DC-ABA8-4656-A043-A75AFE97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98E62-E0C4-442F-9F80-3A0AF059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9C78F-191A-43AA-8898-39095635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22137-5B39-42C3-ACB4-CC69548E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CF228-F58E-453B-8798-7A7C96AA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E5D46-D4CE-426E-A021-3C9172B8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EA9AA-AC0E-4E07-B604-F1319D31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DA5E-E1AC-4DE8-96FC-6D232732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193C2-B030-43E9-8242-22A19797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242CC-4BAD-4146-AFDC-6DAF3511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E78F7-774A-4240-A1EA-E16CB774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02269-ECA8-48FE-8B6F-CAAF8468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CBD08-E3FF-4B8D-B199-05AD569B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FD447-D5AD-4A6A-A425-F0675E57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FA4F1-3452-4DBB-B9C6-9F6A7F93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D696F-2D02-42A9-A3A0-02126FC8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C90EC-1FDC-46FD-A825-D6A552E7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49AFE-B120-4ECB-9549-403A8C4E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B1A7-2B38-427B-88BA-498B59D8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0B94A-6108-4729-AD78-78FAF8D6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C58B4-616D-411F-8562-8730C91A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9205A-9D6F-4A35-821B-DFF9601F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F819C-DD59-41E0-9AC0-C543EF57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246FB-CF85-4586-A50B-AFCAD8B4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DAAD3-6855-4214-8FDD-D167D294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E9FDC-68ED-4859-8E5D-08B6FE1C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5FE5F-99FC-4A96-839E-E2F11278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57E89-59F0-40D9-867B-9D8B36C0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B8096-9CB6-404E-95BE-01B1879E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5B23-4B95-4052-97CC-CC2F1D61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DD6CA-D875-444F-8C07-62715E20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3DA29-84F7-45F5-9577-F4A92E08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77E32-7691-4DBA-977B-E5FD94DF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DF8D2-05A6-4A96-BEEB-0C8BB5CA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7ABC3-0DD7-4AED-8439-2C93A255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306C7-D15B-4781-86AF-69E4DA61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60466-6032-4665-923C-B7BA1F48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9FF8A-0B28-45BD-AAEE-0DF1363D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0FEAF-45F9-4B23-9414-63AB2469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2581D-209A-4DBE-8B41-3C3031F6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7CE-498B-438B-928E-FD86DDD8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28283-226F-49F8-8330-6B229E85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91A23-1021-4E63-8E52-19406F4A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A2632-4F15-4FDD-8A5D-DFF625CA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E7C0B-0A99-4AEA-BE31-F98CD315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C39D9-9764-48C7-B2A9-FA99189E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5AB9D-D995-4E4B-B319-E68E34F9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6FA96-CFD9-4845-8B57-E96321FD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4D4A8-564F-44BD-B715-9FE282A4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1DEA8-A101-4483-813D-942795C0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983E7-C00B-4E62-9BEF-833DF2C8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3DC1-678A-4F1B-99AF-BA6DADAD1BF2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503A-C479-4D8B-896D-335645BEAFE6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1899-8DEA-46C4-968C-0B766DF27CC2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2D13-7790-455E-AF91-34D567D5AA70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7000-17CA-4900-959B-A64A6EC95C58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7F92-B1AB-4F34-AF23-9CB210EAF1C6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4E06-C9FE-447E-822D-F54D2D0BC57F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848F-03C0-4141-9F64-8278540E6CDC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FC42-FAE4-4F69-BF80-F7D79526437D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007B-E823-4D03-8A1E-6D9047E32B6F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1669-B06A-4673-BAEF-AB0E97CA9544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ECC0-9265-4D26-90BE-7F8998246662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scading Style She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04560" y="42670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http://www.w3schools.com/css/demo_default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yles: Lists (mo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ist-style-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ecim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wer-rom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pper-rom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wer-alph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pper-alpha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as a list-item mar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ff"/>
                </a:solidFill>
                <a:latin typeface="Times New Roman"/>
              </a:rPr>
              <a:t>list-style-image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url("</a:t>
            </a:r>
            <a:r>
              <a:rPr b="0" sz="2800" spc="-1" strike="noStrike">
                <a:solidFill>
                  <a:srgbClr val="cc9900"/>
                </a:solidFill>
                <a:latin typeface="Times New Roman"/>
              </a:rPr>
              <a:t>/images/arrow.gif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: </a:t>
            </a:r>
            <a:r>
              <a:rPr b="0" sz="2800" spc="-1" strike="noStrike">
                <a:solidFill>
                  <a:srgbClr val="0000ff"/>
                </a:solidFill>
                <a:latin typeface="Times New Roman"/>
              </a:rPr>
              <a:t>list-style-position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: outs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cc9900"/>
                </a:solidFill>
                <a:latin typeface="Times New Roman"/>
              </a:rPr>
              <a:t>{list-style: square inside url("/images/arrow.gif"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Cascading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rd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h3 { </a:t>
            </a:r>
            <a:r>
              <a:rPr b="0" sz="2800" spc="-1" strike="noStrike">
                <a:solidFill>
                  <a:srgbClr val="0000ff"/>
                </a:solidFill>
                <a:latin typeface="Arial Unicode MS"/>
                <a:ea typeface="Courier New"/>
              </a:rPr>
              <a:t>color: red;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text-align: left; font-size: 8pt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h3 { </a:t>
            </a:r>
            <a:r>
              <a:rPr b="0" sz="2800" spc="-1" strike="noStrike">
                <a:solidFill>
                  <a:srgbClr val="0000ff"/>
                </a:solidFill>
                <a:latin typeface="Arial Unicode MS"/>
                <a:ea typeface="Courier New"/>
              </a:rPr>
              <a:t>text-align: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sz="2800" spc="-1" strike="noStrike">
                <a:solidFill>
                  <a:srgbClr val="0000ff"/>
                </a:solidFill>
                <a:latin typeface="Arial Unicode MS"/>
                <a:ea typeface="Courier New"/>
              </a:rPr>
              <a:t>right; font-size: 20pt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Unicode MS"/>
                <a:ea typeface="Courier New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ff"/>
                </a:solidFill>
                <a:latin typeface="Arial Unicode MS"/>
                <a:ea typeface="Courier New"/>
              </a:rPr>
              <a:t>color: red; text-align: right; font-size: 20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yles: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3200" spc="-1" strike="noStrike">
                <a:solidFill>
                  <a:srgbClr val="cc9900"/>
                </a:solidFill>
                <a:latin typeface="Times New Roman"/>
              </a:rPr>
              <a:t>#00ff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3200" spc="-1" strike="noStrike">
                <a:solidFill>
                  <a:srgbClr val="cc9900"/>
                </a:solidFill>
                <a:latin typeface="Times New Roman"/>
              </a:rPr>
              <a:t>rgb(0,255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ff"/>
                </a:solidFill>
                <a:latin typeface="Times New Roman"/>
              </a:rPr>
              <a:t>text-align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: cen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f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igh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ust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ff"/>
                </a:solidFill>
                <a:latin typeface="Times New Roman"/>
              </a:rPr>
              <a:t>text-indent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sz="3200" spc="-1" strike="noStrike">
                <a:solidFill>
                  <a:srgbClr val="cc9900"/>
                </a:solidFill>
                <a:latin typeface="Times New Roman"/>
              </a:rPr>
              <a:t>1c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ext-transfor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pperc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c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it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yles: Fo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nt-fami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ti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sans-ser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cc9900"/>
                </a:solidFill>
                <a:latin typeface="Arial Unicode MS"/>
              </a:rPr>
              <a:t>font-family: "lucida calligraphy", arial, 'sans serif'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nt-sty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ital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ff"/>
                </a:solidFill>
                <a:latin typeface="Times New Roman"/>
              </a:rPr>
              <a:t>font-size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15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%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m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-sm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r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-large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ff"/>
                </a:solidFill>
                <a:latin typeface="Times New Roman"/>
              </a:rPr>
              <a:t>font-weight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: bo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0 … 90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body {background-color: yellow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h1 {background-color: #00ff0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h2 {background-color: transparent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p {background-color: rgb(250,0,255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Picture 5" descr=""/>
          <p:cNvPicPr/>
          <p:nvPr/>
        </p:nvPicPr>
        <p:blipFill>
          <a:blip r:embed="rId1"/>
          <a:stretch/>
        </p:blipFill>
        <p:spPr>
          <a:xfrm>
            <a:off x="4343400" y="4191120"/>
            <a:ext cx="34290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 i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background-imag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url("/images/bg.jpg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6" descr=""/>
          <p:cNvPicPr/>
          <p:nvPr/>
        </p:nvPicPr>
        <p:blipFill>
          <a:blip r:embed="rId1"/>
          <a:stretch/>
        </p:blipFill>
        <p:spPr>
          <a:xfrm>
            <a:off x="1285920" y="3000240"/>
            <a:ext cx="857160" cy="10004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7" descr=""/>
          <p:cNvPicPr/>
          <p:nvPr/>
        </p:nvPicPr>
        <p:blipFill>
          <a:blip r:embed="rId2"/>
          <a:stretch/>
        </p:blipFill>
        <p:spPr>
          <a:xfrm>
            <a:off x="3581280" y="2743200"/>
            <a:ext cx="370548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 i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background-repeat: no-repe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repeat-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repeat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6"/>
          <p:cNvSpPr/>
          <p:nvPr/>
        </p:nvSpPr>
        <p:spPr>
          <a:xfrm>
            <a:off x="4191120" y="29718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8"/>
          <p:cNvSpPr/>
          <p:nvPr/>
        </p:nvSpPr>
        <p:spPr>
          <a:xfrm>
            <a:off x="327672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10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795240" cy="2449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1" descr=""/>
          <p:cNvPicPr/>
          <p:nvPr/>
        </p:nvPicPr>
        <p:blipFill>
          <a:blip r:embed="rId2"/>
          <a:stretch/>
        </p:blipFill>
        <p:spPr>
          <a:xfrm>
            <a:off x="2143080" y="4429080"/>
            <a:ext cx="3278160" cy="7858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" descr=""/>
          <p:cNvPicPr/>
          <p:nvPr/>
        </p:nvPicPr>
        <p:blipFill>
          <a:blip r:embed="rId3"/>
          <a:stretch/>
        </p:blipFill>
        <p:spPr>
          <a:xfrm>
            <a:off x="2928960" y="2643120"/>
            <a:ext cx="857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 i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background-repeat: no-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background-position: center cen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p lef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ttom righ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 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% y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b</a:t>
            </a:r>
            <a:r>
              <a:rPr b="0" sz="2800" spc="-1" strike="noStrike">
                <a:solidFill>
                  <a:srgbClr val="cc9900"/>
                </a:solidFill>
                <a:latin typeface="Times New Roman"/>
              </a:rPr>
              <a:t>ody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cc9900"/>
                </a:solidFill>
                <a:latin typeface="Times New Roman"/>
              </a:rPr>
              <a:t>{ background-imag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cc9900"/>
                </a:solidFill>
                <a:latin typeface="Times New Roman"/>
              </a:rPr>
              <a:t>url("smiley.gif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cc9900"/>
                </a:solidFill>
                <a:latin typeface="Times New Roman"/>
              </a:rPr>
              <a:t>background-repea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cc9900"/>
                </a:solidFill>
                <a:latin typeface="Times New Roman"/>
              </a:rPr>
              <a:t>no-repea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cc9900"/>
                </a:solidFill>
                <a:latin typeface="Times New Roman"/>
              </a:rPr>
              <a:t>background-pos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cc9900"/>
                </a:solidFill>
                <a:latin typeface="Times New Roman"/>
              </a:rPr>
              <a:t>center center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5" descr=""/>
          <p:cNvPicPr/>
          <p:nvPr/>
        </p:nvPicPr>
        <p:blipFill>
          <a:blip r:embed="rId1"/>
          <a:stretch/>
        </p:blipFill>
        <p:spPr>
          <a:xfrm>
            <a:off x="4952880" y="3429000"/>
            <a:ext cx="333396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CSS Margin properties define the space around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in-top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in-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margin-bottom: </a:t>
            </a:r>
            <a:r>
              <a:rPr b="0" sz="2800" spc="-1" strike="noStrike">
                <a:solidFill>
                  <a:srgbClr val="cc9900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x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20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in-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h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{position: absolute;bottom: 30px;right: 40px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h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{position: absolute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p: 10%; left: 20%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cc9900"/>
                </a:solidFill>
                <a:latin typeface="Times New Roman"/>
              </a:rPr>
              <a:t>Image: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vertical-align: baseline </a:t>
            </a: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0" i="1" lang="sv-SE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bottom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5" descr=""/>
          <p:cNvPicPr/>
          <p:nvPr/>
        </p:nvPicPr>
        <p:blipFill>
          <a:blip r:embed="rId1"/>
          <a:stretch/>
        </p:blipFill>
        <p:spPr>
          <a:xfrm>
            <a:off x="3962520" y="3048120"/>
            <a:ext cx="38862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What is C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verdana"/>
              </a:rPr>
              <a:t>CS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stands for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ascading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yle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he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Styles define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how to display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HTML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Styles were added to HTML 4.0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to solve a problem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verdana"/>
              </a:rPr>
              <a:t>External Style Sheet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can save you a lot of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External Style Sheets are stored in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CSS file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Multiple style definitions will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cascade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into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Cursor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head&gt;&lt;style type="text/css"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p {cursor: 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help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}&lt;/styl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cross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w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Inline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Inside a tag as an attribute, but following the css description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&lt;p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tyle="color:</a:t>
            </a:r>
            <a:r>
              <a:rPr b="0" lang="et-EE" sz="3200" spc="-1" strike="noStrike">
                <a:solidFill>
                  <a:srgbClr val="0000ff"/>
                </a:solidFill>
                <a:latin typeface="Times New Roman"/>
              </a:rPr>
              <a:t>orange;cursor:help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&gt;This is a paragraph.&lt;/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How to make invi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h1 {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visibility:visible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v-SE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hidden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h1 {display:none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714240" y="4214880"/>
          <a:ext cx="7715520" cy="2286000"/>
        </p:xfrm>
        <a:graphic>
          <a:graphicData uri="http://schemas.openxmlformats.org/drawingml/2006/table">
            <a:tbl>
              <a:tblPr/>
              <a:tblGrid>
                <a:gridCol w="4071960"/>
                <a:gridCol w="364356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table border=1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tr&gt;&lt;td&gt;1&lt;/td&gt;&lt;/tr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tr style="</a:t>
                      </a:r>
                      <a:r>
                        <a:rPr b="1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isibility:hidden</a:t>
                      </a: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"&gt;&lt;td&gt;2&lt;/td&gt;</a:t>
                      </a:r>
                      <a:br>
                        <a:rPr sz="1800"/>
                      </a:b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/tr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tr&gt;&lt;td&gt;3&lt;/td&gt;&lt;/tr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/table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table border=1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tr&gt;&lt;td&gt;1&lt;/td&gt;&lt;/tr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tr style="</a:t>
                      </a:r>
                      <a:r>
                        <a:rPr b="1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splay:none</a:t>
                      </a: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"&gt;&lt;td&gt;2&lt;/td&gt;</a:t>
                      </a:r>
                      <a:br>
                        <a:rPr sz="1800"/>
                      </a:b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/tr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tr&gt;&lt;td&gt;3&lt;/td&gt;&lt;/tr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800" spc="-1" strike="noStrike">
                          <a:solidFill>
                            <a:srgbClr val="ffc000"/>
                          </a:solidFill>
                          <a:latin typeface="Times New Roman"/>
                        </a:rPr>
                        <a:t>&lt;/table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55" name="Picture 4" descr=""/>
          <p:cNvPicPr/>
          <p:nvPr/>
        </p:nvPicPr>
        <p:blipFill>
          <a:blip r:embed="rId1"/>
          <a:stretch/>
        </p:blipFill>
        <p:spPr>
          <a:xfrm>
            <a:off x="4214880" y="5429160"/>
            <a:ext cx="228600" cy="8668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" descr=""/>
          <p:cNvPicPr/>
          <p:nvPr/>
        </p:nvPicPr>
        <p:blipFill>
          <a:blip r:embed="rId2"/>
          <a:stretch/>
        </p:blipFill>
        <p:spPr>
          <a:xfrm>
            <a:off x="7858080" y="5500800"/>
            <a:ext cx="2574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Other sel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Connect css and html using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D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of an html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a6a6a6"/>
                </a:solidFill>
                <a:latin typeface="Times New Roman"/>
              </a:rPr>
              <a:t>css: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t-EE" sz="3200" spc="-1" strike="noStrike">
                <a:solidFill>
                  <a:srgbClr val="0000ff"/>
                </a:solidFill>
                <a:latin typeface="Times New Roman"/>
              </a:rPr>
              <a:t>#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example  {color:blue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a6a6a6"/>
                </a:solidFill>
                <a:latin typeface="Times New Roman"/>
              </a:rPr>
              <a:t>Html: 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&lt;p </a:t>
            </a:r>
            <a:r>
              <a:rPr b="0" lang="et-EE" sz="3200" spc="-1" strike="noStrike">
                <a:solidFill>
                  <a:srgbClr val="0000ff"/>
                </a:solidFill>
                <a:latin typeface="Times New Roman"/>
              </a:rPr>
              <a:t>id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"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"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&gt; somekind text &lt;/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Where instead of “example” you can write any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Other sel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Formatting links (tag 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ink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 {color: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}      /* unvisited link 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visited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 {color: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green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}  /* visited link 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over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 {color: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orange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}  /* mouse over link 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 {color: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white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}  /* selected link 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Other sel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Othe pseudo elements (defined using “</a:t>
            </a: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a6a6a6"/>
                </a:solidFill>
                <a:latin typeface="Times New Roman"/>
              </a:rPr>
              <a:t>css: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:first-l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ine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 {color: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green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a6a6a6"/>
                </a:solidFill>
                <a:latin typeface="Times New Roman"/>
              </a:rPr>
              <a:t>html: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&lt;p&gt;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Info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&lt;/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a6a6a6"/>
                </a:solidFill>
                <a:latin typeface="Times New Roman"/>
              </a:rPr>
              <a:t>css: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p.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inf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:first-letter {color: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blue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a6a6a6"/>
                </a:solidFill>
                <a:latin typeface="Times New Roman"/>
              </a:rPr>
              <a:t>html: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&lt;p class=“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inf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"&gt;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Info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&lt;/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1285920" y="2857680"/>
          <a:ext cx="6095880" cy="11127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first-chi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yles first subelement (chil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first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yles first text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first-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yles first charac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4" name="Straight Connector 5"/>
          <p:cNvSpPr/>
          <p:nvPr/>
        </p:nvSpPr>
        <p:spPr>
          <a:xfrm>
            <a:off x="428760" y="4214880"/>
            <a:ext cx="778644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traight Connector 6"/>
          <p:cNvSpPr/>
          <p:nvPr/>
        </p:nvSpPr>
        <p:spPr>
          <a:xfrm>
            <a:off x="428760" y="5572080"/>
            <a:ext cx="778644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85800" y="1981080"/>
            <a:ext cx="831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Defines how it looks on different media (hiding for example some elements in prin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@media screen</a:t>
            </a:r>
            <a:br>
              <a:rPr sz="3200"/>
            </a:b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  {  p {font-family:verdana}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 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@media print</a:t>
            </a:r>
            <a:br>
              <a:rPr sz="3200"/>
            </a:b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  {  p {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display:none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}</a:t>
            </a:r>
            <a:r>
              <a:rPr b="0" lang="et-EE" sz="32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 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@media screen,print</a:t>
            </a:r>
            <a:br>
              <a:rPr sz="3200"/>
            </a:b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  {  p.test {font-weight:bold}  }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For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input[type="text"] {background-color:blue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Cascading Order</a:t>
            </a:r>
            <a:r>
              <a:rPr b="1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Browser defaul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External Style She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Internal Style Sheet (inside the &lt;head&gt; ta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Inline Style (inside HTML e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o, an inline style (inside an HTML element) has the highest prior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selector {property: value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Times New Roman"/>
                <a:ea typeface="Courier New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ody {color: black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 {font-family: "sans serif"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 {text-align:center</a:t>
            </a:r>
            <a:r>
              <a:rPr b="1" sz="3200" spc="-1" strike="noStrike">
                <a:solidFill>
                  <a:srgbClr val="0000ff"/>
                </a:solidFill>
                <a:latin typeface="Arial Unicode MS"/>
                <a:ea typeface="Courier New"/>
              </a:rPr>
              <a:t>;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color:red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237600" y="5105520"/>
            <a:ext cx="85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 Unicode MS"/>
                <a:ea typeface="Courier New"/>
              </a:rPr>
              <a:t>Grouping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h1,h2,h3,h4,h5,h6 { color: green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el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Y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u can define different styles for the s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ype of HTML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p.right {text-align: right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p.center {text-align: center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304920" y="4952880"/>
            <a:ext cx="8610480" cy="1169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p class="right"&gt; This paragrap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s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ight-aligned. &lt;/p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p class="center"&gt; This paragrap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s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center-aligned. &lt;/p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el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You can omit the tag na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ff"/>
                </a:solidFill>
                <a:latin typeface="Arial Unicode MS"/>
                <a:ea typeface="Courier New"/>
              </a:rPr>
              <a:t>.center {text-align: center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h1 </a:t>
            </a:r>
            <a:r>
              <a:rPr b="0" sz="3200" spc="-1" strike="noStrike">
                <a:solidFill>
                  <a:srgbClr val="00cc00"/>
                </a:solidFill>
                <a:latin typeface="Arial Unicode MS"/>
                <a:ea typeface="Courier New"/>
              </a:rPr>
              <a:t>class="center"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gt; This heading will be center-aligned &lt;/h1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p </a:t>
            </a:r>
            <a:r>
              <a:rPr b="0" sz="3200" spc="-1" strike="noStrike">
                <a:solidFill>
                  <a:srgbClr val="00cc00"/>
                </a:solidFill>
                <a:latin typeface="Arial Unicode MS"/>
                <a:ea typeface="Courier New"/>
              </a:rPr>
              <a:t>class="center"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gt; This paragraph will also be center-aligned. &lt;/p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to insert a style sheet: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3818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sz="3200" spc="-1" strike="noStrike">
                <a:solidFill>
                  <a:srgbClr val="000000"/>
                </a:solidFill>
                <a:latin typeface="Times New Roman"/>
              </a:rPr>
              <a:t>is ideal when the style is applied to many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468360" y="5516640"/>
            <a:ext cx="7924680" cy="950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body {background-color: tan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h1 {color:maroon; font-size:20pt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468360" y="2205000"/>
            <a:ext cx="7924680" cy="3080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&lt;head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&lt;link rel="stylesheet" type="text/css"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ref="</a:t>
            </a:r>
            <a:r>
              <a:rPr b="0" sz="2800" spc="-1" strike="noStrike">
                <a:solidFill>
                  <a:srgbClr val="008000"/>
                </a:solidFill>
                <a:latin typeface="Times New Roman"/>
              </a:rPr>
              <a:t>mystyle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sz="2800" spc="-1" strike="noStrike">
                <a:solidFill>
                  <a:srgbClr val="0000ff"/>
                </a:solidFill>
                <a:latin typeface="Times New Roman"/>
              </a:rPr>
              <a:t>css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&lt;body&gt;&lt;h1&gt;ttt&lt;/h1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&lt;/body&gt;&lt;/htm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9"/>
          <p:cNvSpPr/>
          <p:nvPr/>
        </p:nvSpPr>
        <p:spPr>
          <a:xfrm>
            <a:off x="6659640" y="2060640"/>
            <a:ext cx="1584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8000"/>
                </a:solidFill>
                <a:latin typeface="Times New Roman"/>
              </a:rPr>
              <a:t>abc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20"/>
          <p:cNvSpPr/>
          <p:nvPr/>
        </p:nvSpPr>
        <p:spPr>
          <a:xfrm>
            <a:off x="6659640" y="5373720"/>
            <a:ext cx="158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8000"/>
                </a:solidFill>
                <a:latin typeface="Times New Roman"/>
              </a:rPr>
              <a:t>mystyle.c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to insert a style sheet: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  <a:ea typeface="Courier New"/>
              </a:rPr>
              <a:t>.. is used</a:t>
            </a:r>
            <a:r>
              <a:rPr b="0" sz="2800" spc="-1" strike="noStrike">
                <a:solidFill>
                  <a:srgbClr val="00cc00"/>
                </a:solidFill>
                <a:latin typeface="Times New Roman"/>
                <a:ea typeface="Courier New"/>
              </a:rPr>
              <a:t> when a single document has a unique sty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808080"/>
                </a:solidFill>
                <a:latin typeface="Times New Roman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80"/>
                </a:solidFill>
                <a:latin typeface="Times New Roman"/>
                <a:ea typeface="Courier New"/>
              </a:rPr>
              <a:t>&lt;head&gt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style type="text/css"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 {margin-left: 20px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ody {background-image: url("images/back40.gif"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style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808080"/>
                </a:solidFill>
                <a:latin typeface="Times New Roman"/>
                <a:ea typeface="Courier New"/>
              </a:rPr>
              <a:t>&lt;/head&gt;</a:t>
            </a:r>
            <a:r>
              <a:rPr b="0" lang="et-EE" sz="2400" spc="-1" strike="noStrike">
                <a:solidFill>
                  <a:srgbClr val="808080"/>
                </a:solidFill>
                <a:latin typeface="Times New Roman"/>
                <a:ea typeface="Courier New"/>
              </a:rPr>
              <a:t>....</a:t>
            </a:r>
            <a:r>
              <a:rPr b="0" lang="et-EE" sz="2400" spc="-1" strike="noStrike">
                <a:solidFill>
                  <a:srgbClr val="808080"/>
                </a:solidFill>
                <a:latin typeface="Times New Roman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yles: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&lt;style type="text/css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ul.disc {list-style-type: disc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ul.circle {list-style-type: circl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ul.squ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{list-style-type: squar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ul.none {list-style-type: non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&lt;/styl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6400800" y="1905120"/>
            <a:ext cx="2057400" cy="41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ff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ff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ff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ff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762120" y="5181480"/>
            <a:ext cx="4572000" cy="1083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&lt;ul class="disc"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&lt;ul class="circle"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tc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8:45:10Z</dcterms:created>
  <dc:creator>Niina</dc:creator>
  <dc:description/>
  <dc:language>en-US</dc:language>
  <cp:lastModifiedBy>Deniss Kumlander</cp:lastModifiedBy>
  <dcterms:modified xsi:type="dcterms:W3CDTF">2009-09-20T13:11:09Z</dcterms:modified>
  <cp:revision>39</cp:revision>
  <dc:subject/>
  <dc:title>Cascading Style Sheets</dc:title>
</cp:coreProperties>
</file>