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F04-73A6-4033-B39F-3DCE68B2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474-A6CE-4CCF-95A3-9C74C09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1F11-2033-4F59-9E6B-2DE602D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0973A-8CA4-4ABB-9285-68B10F83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9D6E-58DD-490D-8F86-4A30A8BB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5EFC8-29BB-490E-A87F-096E6E4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2B4C2-31A2-41B5-A6B2-4B1359C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F8050-5342-4020-8BA3-644060A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6E93D-EDCF-4AC3-9D97-EADAD80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7959A-0D81-44D6-84A0-20631933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6A23B-1FCC-473C-8193-843F2F05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0730C-E5B8-48A7-89B5-0A26EFD4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386-D7D6-43DD-8547-B5717F84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75C9E-2F76-4285-80CF-0C48C3D3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35B0C-2E49-4CD2-8919-ACCDF0F1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63426-0207-4830-A080-D7097E6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280FB-DB69-4DEE-B061-8CEB78B9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F4CA7-7F76-4099-B6E2-B55AB57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ABCC3-98F8-4CF8-BE05-FF972AF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03D50-8FD6-4899-9A80-56A6958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FA3BA-E004-40A5-8CCD-FC421A6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DEDF1-4F16-45E1-9551-D5807E1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F6F2-EAA2-46BB-A5AE-739E32E1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0CB-5988-4A72-81F1-58DCDEC7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F4879-C23D-4D1B-A32E-F23DC207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05559-0C97-4339-B3A4-65D87CFC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0A886-C909-4D72-AA38-3A0BC3F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8066-A07A-49E4-8A22-E66124A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99D77-1026-48C9-91E2-BE4F7FCD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AE047-0596-4044-ACD3-AC7FCAA6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CDD4-62F5-4831-B2DC-73B63A6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21447-9708-48F9-9BC8-BF1D1A7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5067-1EE5-4EC4-9C17-B38B513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EEF1-64AA-4424-A9B1-AFE5CEE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D45D-D563-4CDF-971B-6C76B8E3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26529-2AD0-4DC0-A2B1-47CBD87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6C09D-B697-4F21-9E67-306D7069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EE9A8-5C7D-496C-8334-62DA97AB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4B549-E48E-4AAE-A73A-0B398BB7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B7CA-AA33-46C0-9EB1-8E5F1CC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CDB74-85B3-42E5-A673-EE262A0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7DF31-2DF3-4E70-ABD4-3B222D2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363E1-6136-4F5C-92F7-3D5A3E80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E933-7DDE-46D5-BBDB-9D59F8E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A111-7F64-4CE2-B42A-742E610C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C8ED-2AFE-4FB3-BC64-A1371E3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1A521-516A-4D6A-B449-73FE76F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A5E0B-49EC-4D67-95A5-4335926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33278-F935-4244-9CD1-63D8D63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8FF13-9B22-4353-8F55-D75EA70E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44643-296C-4C8A-BFDA-856AFF64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0478-FD0C-47F2-A1E8-6CDB2E9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A5C6-EA1C-4339-881A-6F4DFB16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E2D-1993-4B7B-B12B-79AAC6B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495A-D5F4-4D89-A345-98C51A3A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3ADF-DBA7-4A6A-81D9-F6A884F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B60-D651-40B9-8881-A73BBE78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3101-E286-49DE-9378-29E2D81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A3F-8366-4E55-B857-AB861DC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5913-B6CA-492C-BA4D-C7A9668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D246-4D96-4EC1-AA61-8D2D5250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D492-7CD3-4DB1-A538-77E6DF78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C93F-958B-4B32-BFDA-689F63B3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77D1-AA79-46B5-A286-BDCD51C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0526-957D-417F-B61E-06B2776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899C-D178-4F25-81D7-272523AD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61CF-AF87-4A85-96DF-8E14F0DD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02D-C45E-4714-9300-8513EBDF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3032-0F6C-444D-9A38-5C090E51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BAC3-D2EB-4A43-9D7D-A1DF4222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2D72-1297-4713-98C8-D6DD631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7CD3-C579-401E-BC3C-D2CF2819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6C89-FBAB-4EF6-8027-0FB273D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F53B-C77E-42D5-B87C-1E906EA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E510-28A0-4FF5-9356-F8774F41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66FB-CC6E-4032-BDAD-838B9BAF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F819-090C-43FA-9EA9-50EE902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5F34-0B3D-4F2A-AE1E-6BCE4E38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A7E-B186-427A-8286-F756A00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4BD8-281E-45E8-9CC3-56B7675A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55B5-B093-4DE3-A181-F6AA0F8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E31A-6AB1-4E4D-A562-27D78BB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A346-1920-46F1-801E-7527211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01DE-BB6E-4A59-84E3-097240C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305B-D347-43E6-8D8A-6BA3A87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D170-2657-40EA-817A-F7B4B19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81CE-94AC-4F6C-B00B-6C1C4868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17C3-9358-4DFB-82AE-07B3618E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436D-3F0C-491C-86D8-77068329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394-E632-4D73-B7FB-274CE2A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8DF2-40CB-4959-8F0E-87104B5A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1E11-A8DD-409E-BA6E-77B3D93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75B6-1E03-4242-AAC2-853B0E4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7C3B-9BFA-40A7-9CA9-CD06E2A6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AA67-113B-4915-9863-7B6693EF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8978-4162-4D63-89AE-84657AB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57D8-C9E3-4C3F-8452-E6F322A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9CB1-F5AB-4EBB-8CF1-025D3CA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E4DA-FE95-4C61-A05E-61C2ACB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26D4-D60A-403E-8F80-4F0CDB3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270-5870-4ED7-B43D-023679EA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E294-0EFF-430D-B656-584D5134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2BB7B-1F41-4B16-9E81-A29D88AC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41ADC-A02F-4AAF-84E7-89AACCE8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0EEF-9915-4900-8639-56878C8C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11A3-D08B-433C-9539-D98157A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7129-A3D7-4C58-9882-6F0B658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21E2-9E02-49DD-AFE2-1C13FCC5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B2FE-2EFA-413F-AE50-CBFB6DD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83A3-148D-4AC9-95CE-85FE927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3892-B8BC-4A9B-9DD1-7E4C99D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E74-81A7-476D-A998-036CC13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C009-DA07-4790-A28A-AFF5FA13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FED0-1D37-4824-B433-B2081692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F693-44E8-4C40-8AC2-BAC288BF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E5CF-5F13-40FB-BF8C-3F67AF5D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01EC8-E502-446B-8BE9-858059F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63CD4-B8E2-44C3-BC44-ADF9652F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137D-7E02-42FB-8069-931F6CF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C0A0E-3BF3-47C3-B66C-27B9E2E2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F346C-B35D-4144-9BEF-BE22F789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C59B6-FB74-4546-9F0E-F627216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490-9F75-44FF-8E1E-E5A134A2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1D3D-3820-4440-97EB-B62AE84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AB901-BBDE-4AA3-A95E-BAE6C63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051C5-1F60-41D0-A454-B6C2DF07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73E0-CA0F-4BAD-A910-36CBEEEE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76DCC-B91D-4F65-A5BF-EBB5C455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6951-F2C7-4698-BC6F-1AA30558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7CE06-0FDC-4B50-9B5E-B3D9A703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E0C5-8865-4FBB-B006-656BDF5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01844-4BCE-42CB-ABE2-D27476E2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CEEC1-E8D8-45C5-BE87-52DB0E08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3F3-42A4-4141-BD48-2537203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C6F9-C1D1-435E-9E73-8EAD8FAE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A40C-927A-4770-8928-64A83731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3389-17EE-4E2E-AEB2-31B859D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89D5A-DE8B-47DE-B67A-0FB38AF9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F629-AFF1-42A8-838F-2963D15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C8A0A-9D40-4401-B039-ACEBF911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53520-302B-4086-B9E6-5B5BB06A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ABE15-B9E4-426D-8E65-CD885070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E7059-3220-4854-B546-86AD456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393AB-5E3F-4C7F-8054-FAF04CBA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2A05-ADB7-4B22-A463-3B977F9C57C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6CF1-AE43-4021-9C11-1A08FCB0022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781-79C5-43DD-98B1-9E16D6E9FB8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D02E-CFBB-4F67-802D-8EC237A9983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523-0A6B-4193-9208-437DBA9B0F1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1684-6931-4DAE-AA65-C9FFE340C32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AAD5-88AC-41F3-8FCF-9D0BA343CA0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E14-0B59-4564-8977-6B5A0EAD9F0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396F-8218-43BA-9150-5F7CDD7252F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BD0-45F2-46EE-8D42-99D8E2A7E0D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EF4E-A807-46E6-A79A-6630A8D68C4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1997-B16E-4A49-B156-4B9F477F202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cading Style 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4560" y="4267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ttp://www.w3schools.com/css/demo_default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Lists (m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st-style-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cim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wer-rom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per-rom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wer-alph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per-alpha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as a list-item m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Times New Roman"/>
              </a:rPr>
              <a:t>list-style-imag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rl("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/images/arrow.gif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: </a:t>
            </a:r>
            <a:r>
              <a:rPr b="0" sz="2800" spc="-1" strike="noStrike">
                <a:solidFill>
                  <a:srgbClr val="0000ff"/>
                </a:solidFill>
                <a:latin typeface="Times New Roman"/>
              </a:rPr>
              <a:t>list-style-posi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: out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{list-style: square inside url("/images/arrow.gif"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Cascad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r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3 { </a:t>
            </a: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color: red;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text-align: left; font-size: 8pt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3 { </a:t>
            </a: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text-align: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right; font-size: 20pt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color: red; text-align: right; font-size: 20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cc9900"/>
                </a:solidFill>
                <a:latin typeface="Times New Roman"/>
              </a:rPr>
              <a:t>#00ff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cc9900"/>
                </a:solidFill>
                <a:latin typeface="Times New Roman"/>
              </a:rPr>
              <a:t>rgb(0,255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text-align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 c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gh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s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text-indent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sz="3200" spc="-1" strike="noStrike">
                <a:solidFill>
                  <a:srgbClr val="cc9900"/>
                </a:solidFill>
                <a:latin typeface="Times New Roman"/>
              </a:rPr>
              <a:t>1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xt-transfor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per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F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nt-fam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sans-ser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cc9900"/>
                </a:solidFill>
                <a:latin typeface="Arial Unicode MS"/>
              </a:rPr>
              <a:t>font-family: "lucida calligraphy", arial, 'sans serif'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nt-sty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ita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font-siz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15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-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larg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font-weight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 b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 … 90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ody {background-color: yellow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1 {background-color: #00ff0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2 {background-color: transparent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 {background-color: rgb(250,0,255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4290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background-imag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url("/images/bg.jp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1285920" y="3000240"/>
            <a:ext cx="857160" cy="1000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37054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ckground-repeat: no-repe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peat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peat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4191120" y="2971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8"/>
          <p:cNvSpPr/>
          <p:nvPr/>
        </p:nvSpPr>
        <p:spPr>
          <a:xfrm>
            <a:off x="327672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10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795240" cy="244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1" descr=""/>
          <p:cNvPicPr/>
          <p:nvPr/>
        </p:nvPicPr>
        <p:blipFill>
          <a:blip r:embed="rId2"/>
          <a:stretch/>
        </p:blipFill>
        <p:spPr>
          <a:xfrm>
            <a:off x="2143080" y="4429080"/>
            <a:ext cx="3278160" cy="785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"/>
          <p:cNvPicPr/>
          <p:nvPr/>
        </p:nvPicPr>
        <p:blipFill>
          <a:blip r:embed="rId3"/>
          <a:stretch/>
        </p:blipFill>
        <p:spPr>
          <a:xfrm>
            <a:off x="2928960" y="2643120"/>
            <a:ext cx="857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ckground-repeat: no-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ckground-position: center ce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p lef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ttom r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% y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b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ody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{ background-ima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url("smiley.gif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background-repea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no-repea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background-pos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center cent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339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CSS Margin properties define the space ar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-top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argin-bottom: 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20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-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position: absolute;bottom: 30px;right: 40px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position: absolute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p: 10%; left: 20%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cc9900"/>
                </a:solidFill>
                <a:latin typeface="Times New Roman"/>
              </a:rPr>
              <a:t>Image: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vertical-align: baseline 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botto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38862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hat is C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S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stands for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scading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yl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he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Styles defin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how to display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HTML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Styles were added to HTML 4.0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o solve a problem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External Style Sheet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can save you a lot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External Style Sheets are stored i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SS file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Multiple style definitions will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ascade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into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Cursor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head&gt;&lt;style type="text/css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p {cursor: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}&lt;/sty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ross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Inlin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nside a tag as an attribute, but following the css description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yle="color: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orange;cursor:help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gt;This is a paragraph.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How to make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h1 {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visibility:visible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hidden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1 {display:non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14240" y="4214880"/>
          <a:ext cx="7715520" cy="2286000"/>
        </p:xfrm>
        <a:graphic>
          <a:graphicData uri="http://schemas.openxmlformats.org/drawingml/2006/table">
            <a:tbl>
              <a:tblPr/>
              <a:tblGrid>
                <a:gridCol w="4071960"/>
                <a:gridCol w="36435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able border=1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1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 style="</a:t>
                      </a:r>
                      <a:r>
                        <a:rPr b="1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sibility:hidden</a:t>
                      </a: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"&gt;&lt;td&gt;2&lt;/td&gt;</a:t>
                      </a:r>
                      <a:br>
                        <a:rPr sz="1800"/>
                      </a:b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3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abl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able border=1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1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 style="</a:t>
                      </a:r>
                      <a:r>
                        <a:rPr b="1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splay:none</a:t>
                      </a: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"&gt;&lt;td&gt;2&lt;/td&gt;</a:t>
                      </a:r>
                      <a:br>
                        <a:rPr sz="1800"/>
                      </a:b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3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abl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4214880" y="5429160"/>
            <a:ext cx="228600" cy="866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7858080" y="5500800"/>
            <a:ext cx="25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nnect css and html using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of an html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css: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3200" spc="-1" strike="noStrike">
                <a:solidFill>
                  <a:srgbClr val="0000ff"/>
                </a:solidFill>
                <a:latin typeface="Times New Roman"/>
              </a:rPr>
              <a:t>#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example  {color:blu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Html: 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&lt;p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id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"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"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&gt; somekind text 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Where instead of “example” you can write any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ormatting links (tag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k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     /* unvisited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gree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 /* visited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over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orang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 /* mouse over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whit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 /* selected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Othe pseudo elements (defined using “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css: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:first-l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gree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html: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p&gt;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o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css: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.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:first-letter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blu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html: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p class=“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"&gt;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o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285920" y="2857680"/>
          <a:ext cx="6095880" cy="1112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first-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 first subelement (chi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first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 first tex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first-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 first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Straight Connector 5"/>
          <p:cNvSpPr/>
          <p:nvPr/>
        </p:nvSpPr>
        <p:spPr>
          <a:xfrm>
            <a:off x="428760" y="4214880"/>
            <a:ext cx="778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traight Connector 6"/>
          <p:cNvSpPr/>
          <p:nvPr/>
        </p:nvSpPr>
        <p:spPr>
          <a:xfrm>
            <a:off x="428760" y="5572080"/>
            <a:ext cx="778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Defines how it looks on different media (hiding for example some elements in prin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@media screen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{  p {font-family:verdana}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@media print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{  p {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display:non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@media screen,print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{  p.test {font-weight:bold}  }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input[type="text"] {background-color:blu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ascading Order</a:t>
            </a:r>
            <a:r>
              <a:rPr b="1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rowser defau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xternal Style Sh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ternal Style Sheet (inside the &lt;head&gt;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line Style (inside HTML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an inline style (inside an HTML element) has the highest prio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selector {property: valu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  <a:ea typeface="Courier New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ody {color: black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 {font-family: "sans serif"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 {text-align:center</a:t>
            </a:r>
            <a:r>
              <a:rPr b="1" sz="32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or:red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37600" y="5105520"/>
            <a:ext cx="85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Unicode MS"/>
                <a:ea typeface="Courier New"/>
              </a:rPr>
              <a:t>Grouping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1,h2,h3,h4,h5,h6 { color: green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u can define different styles for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ype of HTML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.right {text-align: right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.center {text-align: cente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304920" y="4952880"/>
            <a:ext cx="8610480" cy="1169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p class="right"&gt; This paragrap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ight-aligned. &lt;/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p class="center"&gt; This paragrap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center-aligned. &lt;/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You can omit the tag n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.center {text-align: cente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h1 </a:t>
            </a:r>
            <a:r>
              <a:rPr b="0" sz="3200" spc="-1" strike="noStrike">
                <a:solidFill>
                  <a:srgbClr val="00cc00"/>
                </a:solidFill>
                <a:latin typeface="Arial Unicode MS"/>
                <a:ea typeface="Courier New"/>
              </a:rPr>
              <a:t>class="center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This heading will be center-aligned &lt;/h1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p </a:t>
            </a:r>
            <a:r>
              <a:rPr b="0" sz="3200" spc="-1" strike="noStrike">
                <a:solidFill>
                  <a:srgbClr val="00cc00"/>
                </a:solidFill>
                <a:latin typeface="Arial Unicode MS"/>
                <a:ea typeface="Courier New"/>
              </a:rPr>
              <a:t>class="center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This paragraph will also be center-aligned. &lt;/p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insert a style sheet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381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is ideal when the style is applied to many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68360" y="5516640"/>
            <a:ext cx="7924680" cy="950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body {background-color: tan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1 {color:maroon; font-size:20pt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468360" y="2205000"/>
            <a:ext cx="7924680" cy="3080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hea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link rel="stylesheet" type="text/css"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f="</a:t>
            </a:r>
            <a:r>
              <a:rPr b="0" sz="2800" spc="-1" strike="noStrike">
                <a:solidFill>
                  <a:srgbClr val="008000"/>
                </a:solidFill>
                <a:latin typeface="Times New Roman"/>
              </a:rPr>
              <a:t>mystyl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2800" spc="-1" strike="noStrike">
                <a:solidFill>
                  <a:srgbClr val="0000ff"/>
                </a:solidFill>
                <a:latin typeface="Times New Roman"/>
              </a:rPr>
              <a:t>cs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body&gt;&lt;h1&gt;ttt&lt;/h1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/body&gt;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6659640" y="206064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8000"/>
                </a:solidFill>
                <a:latin typeface="Times New Roman"/>
              </a:rPr>
              <a:t>ab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6659640" y="537372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mystyle.c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insert a style sheet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Courier New"/>
              </a:rPr>
              <a:t>.. is used</a:t>
            </a:r>
            <a:r>
              <a:rPr b="0" sz="2800" spc="-1" strike="noStrike">
                <a:solidFill>
                  <a:srgbClr val="00cc00"/>
                </a:solidFill>
                <a:latin typeface="Times New Roman"/>
                <a:ea typeface="Courier New"/>
              </a:rPr>
              <a:t> when a single document has a unique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80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80"/>
                </a:solidFill>
                <a:latin typeface="Times New Roman"/>
                <a:ea typeface="Courier New"/>
              </a:rPr>
              <a:t>&lt;head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style type="text/css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 {margin-left: 20px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ody {background-image: url("images/back40.gif"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style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80"/>
                </a:solidFill>
                <a:latin typeface="Times New Roman"/>
                <a:ea typeface="Courier New"/>
              </a:rPr>
              <a:t>&lt;/head&gt;</a:t>
            </a:r>
            <a:r>
              <a:rPr b="0" lang="et-EE" sz="2400" spc="-1" strike="noStrike">
                <a:solidFill>
                  <a:srgbClr val="808080"/>
                </a:solidFill>
                <a:latin typeface="Times New Roman"/>
                <a:ea typeface="Courier New"/>
              </a:rPr>
              <a:t>....</a:t>
            </a:r>
            <a:r>
              <a:rPr b="0" lang="et-EE" sz="2400" spc="-1" strike="noStrike">
                <a:solidFill>
                  <a:srgbClr val="80808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style type="text/css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disc {list-style-type: disc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circle {list-style-type: circ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list-style-type: squar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none {list-style-type: non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/sty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6400800" y="1905120"/>
            <a:ext cx="205740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762120" y="5181480"/>
            <a:ext cx="4572000" cy="1083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ul class="disc"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ul class="circle"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8:45:10Z</dcterms:created>
  <dc:creator>Niina</dc:creator>
  <dc:description/>
  <dc:language>en-US</dc:language>
  <cp:lastModifiedBy>Deniss Kumlander</cp:lastModifiedBy>
  <dcterms:modified xsi:type="dcterms:W3CDTF">2009-09-20T13:11:09Z</dcterms:modified>
  <cp:revision>39</cp:revision>
  <dc:subject/>
  <dc:title>Cascading Style Sheets</dc:title>
</cp:coreProperties>
</file>