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EE1-D110-47FE-9681-603E64E0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EFA-7431-4419-B039-B7B3CF62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7AC-2D4C-4508-8004-AC577BB6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DAE-5C1E-4BFC-B840-DF4A59F6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D42-B12B-4AA4-BED5-2CCF628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AF5-3421-42AB-9D1E-C44F32B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6B3-91C4-49FE-9AC3-5C5584F5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A96-54E8-4107-AA89-63D5ABA2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B9D-6C95-4C43-8B7B-B46C02B5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F5C-0851-48EB-8271-9AB93F9F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214-6C2D-424F-8056-3D25190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515-39BF-4568-9E14-BA5C073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C807-52B9-4798-8084-B2D95DFE334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7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PHP: Operators, Switch,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+   -   *  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odulus (division remai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ncrement: x=5; x++; =&gt; x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--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Decrement: x=5; x--; =&gt; x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+=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x+=2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x=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=   *=   /=     %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Comparison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!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no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 great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less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gt;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less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&amp;&amp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Conditional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(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condition is true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condition is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d=date("D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($d=="Fri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cho "Have a nice weekend!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cho "Have a nice day!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Conditional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more than one line should be executed when 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 i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, for example,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rue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?ph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 ($x==1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cho "Hello&lt;br /&gt;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cho "Good morning&lt;br /&gt;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}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?&gt;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witch (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xpress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s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el1: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expression = label1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s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el2: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expression = label2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a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expression is different from both label1 and label2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Form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e most important thing to notice when dealing with HTML forms and PHP is that any form element in an HTML page will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be available to your PHP scri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</a:t>
            </a:r>
            <a:r>
              <a:rPr b="1" lang="et-EE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Form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2438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orm action="</a:t>
            </a:r>
            <a:r>
              <a:rPr b="0" sz="2400" spc="-1" strike="noStrike">
                <a:solidFill>
                  <a:srgbClr val="008000"/>
                </a:solidFill>
                <a:latin typeface="Arial Unicode MS"/>
                <a:ea typeface="Courier New"/>
              </a:rPr>
              <a:t>welcome.php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 method=“</a:t>
            </a:r>
            <a:r>
              <a:rPr b="1" lang="et-EE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ost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nter your name: &lt;input type="text" name=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name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 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nter your age: &lt;input type="text" name="age" 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input type="submit" 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form&gt;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9120" y="4572000"/>
            <a:ext cx="80010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?php echo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POS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"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nam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"]; ?&gt;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ou said that you ar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?php echo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POS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"age"]; ?&gt;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ears o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0864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8000"/>
                </a:solidFill>
                <a:latin typeface="Times New Roman"/>
              </a:rPr>
              <a:t>welcome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84464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8000"/>
                </a:solidFill>
                <a:latin typeface="Times New Roman"/>
              </a:rPr>
              <a:t>ab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37:49Z</dcterms:created>
  <dc:creator>Niina</dc:creator>
  <dc:description/>
  <dc:language>en-US</dc:language>
  <cp:lastModifiedBy>kumlanderd</cp:lastModifiedBy>
  <dcterms:modified xsi:type="dcterms:W3CDTF">2007-10-20T13:44:47Z</dcterms:modified>
  <cp:revision>12</cp:revision>
  <dc:subject/>
  <dc:title>PowerPoint Presentation</dc:title>
</cp:coreProperties>
</file>