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AFF-1158-4CA2-9AE3-428AF197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947-8F28-4EB2-8AF7-75581E3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484-B523-4B37-94FC-A38AAD6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382-08BC-4271-A781-E7A0C62B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B5F-C82A-4649-9151-1F4CB25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C22-A64C-4673-AD1D-AD584B6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8F0-F6AA-46E1-A29A-E86DCAC6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B2D-44B0-4D16-9DD3-ECEB7CBD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5BC-57E2-416A-BA1E-4467FCF9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0C0-1D43-4392-8DF1-2572719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240-1DF7-4BAB-BE98-FD5122C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4D3-EEBE-4186-9F8D-1EE409D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4233-8CC7-4FA6-A112-F255A79D386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7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PHP: Operators, Switch,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+   -   *  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odulus (division remai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ncrement: x=5; x++; =&gt; x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--   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Decrement: x=5; x--; =&gt; x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+=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x+=2 </a:t>
            </a:r>
            <a:r>
              <a:rPr b="0" lang="sv-S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x=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=   *=   /=     %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Comparison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!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no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 great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less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gt;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=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s less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&amp;&amp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Conditional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(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condition is true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condition is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?ph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d=date("D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($d=="Fri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cho "Have a nice weekend!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cho "Have a nice day!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Conditional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more than one line should be executed when a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dition i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, for example,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rue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?ph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 ($x==1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cho "Hello&lt;br /&gt;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cho "Good morning&lt;br /&gt;"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}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?&gt;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witch (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xpress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s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el1: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expression = label1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s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el2: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expression = label2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a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de to be executed if expression is different from both label1 and label2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Form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e most important thing to notice when dealing with HTML forms and PHP is that any form element in an HTML page will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be available to your PHP scri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</a:t>
            </a:r>
            <a:r>
              <a:rPr b="1" lang="et-EE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PHP Form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2438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orm action="</a:t>
            </a:r>
            <a:r>
              <a:rPr b="0" sz="2400" spc="-1" strike="noStrike">
                <a:solidFill>
                  <a:srgbClr val="008000"/>
                </a:solidFill>
                <a:latin typeface="Arial Unicode MS"/>
                <a:ea typeface="Courier New"/>
              </a:rPr>
              <a:t>welcome.php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 method=“</a:t>
            </a:r>
            <a:r>
              <a:rPr b="1" lang="et-EE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ost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nter your name: &lt;input type="text" name=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name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 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nter your age: &lt;input type="text" name="age" 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input type="submit" 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form&gt;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9120" y="4572000"/>
            <a:ext cx="80010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html&gt; 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?php echo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POS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"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nam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"]; ?&gt;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ou said that you ar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?php echo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$_POS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"age"]; ?&gt;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ears o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body&gt;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0864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8000"/>
                </a:solidFill>
                <a:latin typeface="Times New Roman"/>
              </a:rPr>
              <a:t>welcome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84464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8000"/>
                </a:solidFill>
                <a:latin typeface="Times New Roman"/>
              </a:rPr>
              <a:t>ab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37:49Z</dcterms:created>
  <dc:creator>Niina</dc:creator>
  <dc:description/>
  <dc:language>en-US</dc:language>
  <cp:lastModifiedBy>kumlanderd</cp:lastModifiedBy>
  <dcterms:modified xsi:type="dcterms:W3CDTF">2007-10-20T13:44:47Z</dcterms:modified>
  <cp:revision>12</cp:revision>
  <dc:subject/>
  <dc:title>PowerPoint Presentation</dc:title>
</cp:coreProperties>
</file>