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F0B-E358-4F4F-9810-2DAAAACE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28F-26F5-4FCC-9BFD-9DDD8A53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052-77F9-4507-B7EE-2855ACDA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824-C34C-4F46-A23C-0F3DE87E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835-0E48-4C36-91FE-DFD4087C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3BB-74DC-45AB-A2FB-B8B6161C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1CF-1CD0-46E8-BB61-216D0D00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AD1-CA8F-41DA-BED9-03CECB02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7DC-B4BB-4F83-8FFF-244246EC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25D-DF67-4571-8ED9-B1AF5F1E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3A4-CD5D-4DFB-BD58-4383EC3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E4B-7702-4CCE-AC61-784AC50D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08F6-E5DC-4B02-BD98-9F2EA0BE63D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PHP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onstants, Arrays, Lo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The do...while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{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de to be executed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while (</a:t>
            </a:r>
            <a:r>
              <a:rPr b="0" i="1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ndition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or (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nitialization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ndition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ncrement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;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for ($i=1; $i&lt;=5; $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echo "Hello World!&lt;br /&gt;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The for</a:t>
            </a:r>
            <a:r>
              <a:rPr b="1" lang="sv-SE" sz="4000" spc="-1" strike="noStrike">
                <a:solidFill>
                  <a:srgbClr val="000000"/>
                </a:solidFill>
                <a:latin typeface="verdana"/>
              </a:rPr>
              <a:t>each</a:t>
            </a:r>
            <a:r>
              <a:rPr b="1" sz="4000" spc="-1" strike="noStrike">
                <a:solidFill>
                  <a:srgbClr val="000000"/>
                </a:solidFill>
                <a:latin typeface="verdana"/>
              </a:rPr>
              <a:t>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&lt;?ph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$string = '</a:t>
            </a:r>
            <a:r>
              <a:rPr b="0" lang="sv-SE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We have a string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'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$array = </a:t>
            </a:r>
            <a:r>
              <a:rPr b="1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explode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(" ",$string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3333cc"/>
                </a:solidFill>
                <a:latin typeface="Arial Unicode MS"/>
                <a:ea typeface="Tahoma"/>
              </a:rPr>
              <a:t>foreach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  <a:ea typeface="Tahoma"/>
              </a:rPr>
              <a:t>($array as $value)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	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echo $value</a:t>
            </a:r>
            <a:r>
              <a:rPr b="0" lang="sv-SE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 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.</a:t>
            </a:r>
            <a:r>
              <a:rPr b="0" lang="sv-SE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 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'&lt;</a:t>
            </a:r>
            <a:r>
              <a:rPr b="0" lang="sv-SE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br /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&gt;'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?&gt;</a:t>
            </a:r>
            <a:r>
              <a:rPr b="0" sz="3200" spc="-1" strike="noStrike">
                <a:solidFill>
                  <a:srgbClr val="808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verdana"/>
              </a:rPr>
              <a:t>Lo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ends execution of the current for, foreach while, do..while or switch struc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is used within looping structures to skip the rest of the current loop iteration and continue execution at the beginning of the next iteration.</a:t>
            </a:r>
            <a:r>
              <a:rPr b="0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verdana"/>
              </a:rPr>
              <a:t>Const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annot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re used without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efine ($name, $value [, $case_sen]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&lt;?php</a:t>
            </a:r>
            <a:br>
              <a:rPr sz="2400"/>
            </a:b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define ("text", “</a:t>
            </a:r>
            <a:r>
              <a:rPr b="0" lang="et-EE" sz="2400" spc="-1" strike="noStrike">
                <a:solidFill>
                  <a:srgbClr val="808000"/>
                </a:solidFill>
                <a:latin typeface="Tahoma"/>
              </a:rPr>
              <a:t>Hello from</a:t>
            </a: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 </a:t>
            </a:r>
            <a:r>
              <a:rPr b="0" lang="et-EE" sz="2400" spc="-1" strike="noStrike">
                <a:solidFill>
                  <a:srgbClr val="808000"/>
                </a:solidFill>
                <a:latin typeface="Tahoma"/>
              </a:rPr>
              <a:t>PHP</a:t>
            </a: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!");</a:t>
            </a:r>
            <a:br>
              <a:rPr sz="2400"/>
            </a:b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define ("num", 10);</a:t>
            </a:r>
            <a:br>
              <a:rPr sz="2400"/>
            </a:b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$result = num*5;</a:t>
            </a:r>
            <a:br>
              <a:rPr sz="2400"/>
            </a:b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echo text; </a:t>
            </a:r>
            <a:br>
              <a:rPr sz="2400"/>
            </a:b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echo "&lt;</a:t>
            </a:r>
            <a:r>
              <a:rPr b="0" lang="et-EE" sz="2400" spc="-1" strike="noStrike">
                <a:solidFill>
                  <a:srgbClr val="808000"/>
                </a:solidFill>
                <a:latin typeface="Tahoma"/>
              </a:rPr>
              <a:t>br /</a:t>
            </a: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&gt;$resul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in PHP is actually an ordered map. A map is a type that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maps </a:t>
            </a:r>
            <a:r>
              <a:rPr b="1" i="1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. This type is optimized in several ways, so you can use it as a real array, or a list (vector), hashtable (which is an implementation of a map), dictionary, collection, stack, queue and probably more. Because you can have another PHP-array as a value, you can also quite easily simulate tre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can be created by the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rray()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language-construct. It takes a certain number of comma-separated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pairs.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 key is either an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If you omit a key, the maximum of the integer-indices is taken, and the new key will be that maximum +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array( </a:t>
            </a:r>
            <a:r>
              <a:rPr b="1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sz="28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1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, ...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Courier New"/>
              </a:rPr>
              <a:t>array("foo" =&gt; "bar", 12 =&gt; tru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$color = array ('red', 'black', 'white', 'blue', 'green'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$style = array ( 'color' =&gt; 'Red', 'size' =&gt; '10px‘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 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);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// This array is the same as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array(5 =&gt; 43, 32, 56, "b" =&gt; 12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// ...this arr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array(5 =&gt; 43, 6 =&gt; 32, 7 =&gt; 56, "b" =&gt; 1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rays: multidimens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$book = array (</a:t>
            </a:r>
            <a:br>
              <a:rPr sz="2800"/>
            </a:br>
            <a:r>
              <a:rPr b="0" sz="2800" spc="-1" strike="noStrike">
                <a:solidFill>
                  <a:srgbClr val="008000"/>
                </a:solidFill>
                <a:latin typeface="Times New Roman"/>
                <a:ea typeface="Tahoma"/>
              </a:rPr>
              <a:t>/* $book[0] */</a:t>
            </a:r>
            <a:br>
              <a:rPr sz="2800"/>
            </a:b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array ('name' =&gt; 'Vasia', 'family' =&gt; 'Petrov', 'phone' =&gt; '11-11-11'),</a:t>
            </a:r>
            <a:br>
              <a:rPr sz="2800"/>
            </a:br>
            <a:r>
              <a:rPr b="0" sz="2800" spc="-1" strike="noStrike">
                <a:solidFill>
                  <a:srgbClr val="008000"/>
                </a:solidFill>
                <a:latin typeface="Times New Roman"/>
                <a:ea typeface="Tahoma"/>
              </a:rPr>
              <a:t>/* $book[1] */</a:t>
            </a:r>
            <a:br>
              <a:rPr sz="2800"/>
            </a:b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array ('name' =&gt; 'Petia', 'family' =&gt; 'Sidorov', 'phone' =&gt; '22-22-22'),</a:t>
            </a:r>
            <a:br>
              <a:rPr sz="2800"/>
            </a:br>
            <a:r>
              <a:rPr b="0" sz="2800" spc="-1" strike="noStrike">
                <a:solidFill>
                  <a:srgbClr val="008000"/>
                </a:solidFill>
                <a:latin typeface="Times New Roman"/>
                <a:ea typeface="Tahoma"/>
              </a:rPr>
              <a:t>/* $book[2] */</a:t>
            </a:r>
            <a:br>
              <a:rPr sz="2800"/>
            </a:b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array ('name' =&gt; 'Andrey', 'family' =&gt; 'Ivanov', 'phone' =&gt; '33-33-33')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rays: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Creating/modif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$arr[</a:t>
            </a:r>
            <a:r>
              <a:rPr b="0" i="1" sz="2800" spc="-1" strike="noStrike">
                <a:solidFill>
                  <a:srgbClr val="808000"/>
                </a:solidFill>
                <a:latin typeface="Times New Roman"/>
              </a:rPr>
              <a:t>key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] = </a:t>
            </a:r>
            <a:r>
              <a:rPr b="0" i="1" sz="2800" spc="-1" strike="noStrike">
                <a:solidFill>
                  <a:srgbClr val="808000"/>
                </a:solidFill>
                <a:latin typeface="Times New Roman"/>
              </a:rPr>
              <a:t>value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;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et value (add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$arr[] = </a:t>
            </a:r>
            <a:r>
              <a:rPr b="0" i="1" sz="2800" spc="-1" strike="noStrike">
                <a:solidFill>
                  <a:srgbClr val="808000"/>
                </a:solidFill>
                <a:latin typeface="Times New Roman"/>
              </a:rPr>
              <a:t>value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;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add new value to 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If $arr doesn't exist yet, it will be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cc"/>
                </a:solidFill>
                <a:latin typeface="Times New Roman"/>
              </a:rPr>
              <a:t>unset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($arr[5]);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remov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unset($arr);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delete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count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($arra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count($array)-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verdana"/>
              </a:rPr>
              <a:t>Lo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loops through a block of code as long as a specified condition is tr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o...while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- loops through a block of code once, and then repeats the loop as long as a special condition is tr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loops through a block of code a specified number of ti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foreach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The while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hile (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ndition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$i=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while($i&lt;=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echo "The number is " . $i . "&lt;br /&gt;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$i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6:38:08Z</dcterms:created>
  <dc:creator>Niina</dc:creator>
  <dc:description/>
  <dc:language>en-US</dc:language>
  <cp:lastModifiedBy>DK</cp:lastModifiedBy>
  <dcterms:modified xsi:type="dcterms:W3CDTF">2006-09-27T11:52:10Z</dcterms:modified>
  <cp:revision>18</cp:revision>
  <dc:subject/>
  <dc:title>PowerPoint Presentation</dc:title>
</cp:coreProperties>
</file>