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CD2-0D71-418A-B9BC-F0FB1C26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13B-199D-4B91-AE16-E902CE92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295-49AE-4D5D-8485-8F54D4FC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C2D-C8E3-4480-8EF3-54D6DCFB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07F-1AA4-4ED6-909E-1D2988FF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116-8916-4243-8669-99D4E3D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46F-E482-4A1D-98F1-ACF310B5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544-5E82-4A57-98F2-24BAECA2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8DB-73AD-413D-BA40-BDD61C2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A85-DB37-476D-B7F7-92E9370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1A8-456D-469B-AD71-D92EDE0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B10-0AAA-4C69-BBA8-22A3DA37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0D0C-AD4B-4C5C-BABF-A9F49D502BE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HP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nstants, Arrays,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do...while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de to be executed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while (</a:t>
            </a:r>
            <a:r>
              <a:rPr b="0" i="1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ndition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for (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itializa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crement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for ($i=1; $i&lt;=5; $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echo "Hello World!&lt;br /&gt;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for</a:t>
            </a:r>
            <a:r>
              <a:rPr b="1" lang="sv-SE" sz="4000" spc="-1" strike="noStrike">
                <a:solidFill>
                  <a:srgbClr val="000000"/>
                </a:solidFill>
                <a:latin typeface="verdana"/>
              </a:rPr>
              <a:t>each</a:t>
            </a:r>
            <a:r>
              <a:rPr b="1" sz="4000" spc="-1" strike="noStrike">
                <a:solidFill>
                  <a:srgbClr val="000000"/>
                </a:solidFill>
                <a:latin typeface="verdana"/>
              </a:rPr>
              <a:t>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&lt;?ph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$string = '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We have a string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'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$array = </a:t>
            </a:r>
            <a:r>
              <a:rPr b="1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explode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(" ",$string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3333cc"/>
                </a:solidFill>
                <a:latin typeface="Arial Unicode MS"/>
                <a:ea typeface="Tahoma"/>
              </a:rPr>
              <a:t>foreach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Tahoma"/>
              </a:rPr>
              <a:t>($array as $value)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	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echo $value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 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.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 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'&lt;</a:t>
            </a:r>
            <a:r>
              <a:rPr b="0" lang="sv-SE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br /</a:t>
            </a: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&gt;'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808000"/>
                </a:solidFill>
                <a:latin typeface="Arial Unicode MS"/>
                <a:ea typeface="Tahoma"/>
              </a:rPr>
              <a:t>?&gt;</a:t>
            </a:r>
            <a:r>
              <a:rPr b="0" sz="3200" spc="-1" strike="noStrike">
                <a:solidFill>
                  <a:srgbClr val="808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verdana"/>
              </a:rPr>
              <a:t>Lo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ends execution of the current for, foreach while, do..while or switch struc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is used within looping structures to skip the rest of the current loop iteration and continue execution at the beginning of the next iteration.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re used without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define ($name, $value [, $case_sen]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&lt;?php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define ("text", “</a:t>
            </a:r>
            <a:r>
              <a:rPr b="0" lang="et-EE" sz="2400" spc="-1" strike="noStrike">
                <a:solidFill>
                  <a:srgbClr val="808000"/>
                </a:solidFill>
                <a:latin typeface="Tahoma"/>
              </a:rPr>
              <a:t>Hello from</a:t>
            </a: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 </a:t>
            </a:r>
            <a:r>
              <a:rPr b="0" lang="et-EE" sz="2400" spc="-1" strike="noStrike">
                <a:solidFill>
                  <a:srgbClr val="808000"/>
                </a:solidFill>
                <a:latin typeface="Tahoma"/>
              </a:rPr>
              <a:t>PHP</a:t>
            </a: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!");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define ("num", 10);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$result = num*5;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echo text; </a:t>
            </a:r>
            <a:br>
              <a:rPr sz="2400"/>
            </a:b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echo "&lt;</a:t>
            </a:r>
            <a:r>
              <a:rPr b="0" lang="et-EE" sz="2400" spc="-1" strike="noStrike">
                <a:solidFill>
                  <a:srgbClr val="808000"/>
                </a:solidFill>
                <a:latin typeface="Tahoma"/>
              </a:rPr>
              <a:t>br /</a:t>
            </a: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&gt;$resul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ahoma"/>
                <a:ea typeface="Tahom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in PHP is actually an ordered map. A map is a type that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ps </a:t>
            </a:r>
            <a:r>
              <a:rPr b="1" i="1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 This type is optimized in several ways, so you can use it as a real array, or a list (vector), hashtable (which is an implementation of a map), dictionary, collection, stack, queue and probably more. Because you can have another PHP-array as a value, you can also quite easily simulate tre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can be created by the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rray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language-construct. It takes a certain number of comma-separated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pairs.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 key is either an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f you omit a key, the maximum of the integer-indices is taken, and the new key will be that maximum +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array( 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sz="28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, ...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Courier New"/>
              </a:rPr>
              <a:t>array("foo" =&gt; "bar", 12 =&gt; tru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$color = array ('red', 'black', 'white', 'blue', 'green'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$style = array ( 'color' =&gt; 'Red', 'size' =&gt; '10px‘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 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);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// This array is the same as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array(5 =&gt; 43, 32, 56, "b" =&gt; 12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// ...this arr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array(5 =&gt; 43, 6 =&gt; 32, 7 =&gt; 56, "b" =&gt; 1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rays: multidimens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$book = array (</a:t>
            </a:r>
            <a:br>
              <a:rPr sz="2800"/>
            </a:br>
            <a:r>
              <a:rPr b="0" sz="2800" spc="-1" strike="noStrike">
                <a:solidFill>
                  <a:srgbClr val="008000"/>
                </a:solidFill>
                <a:latin typeface="Times New Roman"/>
                <a:ea typeface="Tahoma"/>
              </a:rPr>
              <a:t>/* $book[0] */</a:t>
            </a:r>
            <a:br>
              <a:rPr sz="2800"/>
            </a:b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array ('name' =&gt; 'Vasia', 'family' =&gt; 'Petrov', 'phone' =&gt; '11-11-11'),</a:t>
            </a:r>
            <a:br>
              <a:rPr sz="2800"/>
            </a:br>
            <a:r>
              <a:rPr b="0" sz="2800" spc="-1" strike="noStrike">
                <a:solidFill>
                  <a:srgbClr val="008000"/>
                </a:solidFill>
                <a:latin typeface="Times New Roman"/>
                <a:ea typeface="Tahoma"/>
              </a:rPr>
              <a:t>/* $book[1] */</a:t>
            </a:r>
            <a:br>
              <a:rPr sz="2800"/>
            </a:b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array ('name' =&gt; 'Petia', 'family' =&gt; 'Sidorov', 'phone' =&gt; '22-22-22'),</a:t>
            </a:r>
            <a:br>
              <a:rPr sz="2800"/>
            </a:br>
            <a:r>
              <a:rPr b="0" sz="2800" spc="-1" strike="noStrike">
                <a:solidFill>
                  <a:srgbClr val="008000"/>
                </a:solidFill>
                <a:latin typeface="Times New Roman"/>
                <a:ea typeface="Tahoma"/>
              </a:rPr>
              <a:t>/* $book[2] */</a:t>
            </a:r>
            <a:br>
              <a:rPr sz="2800"/>
            </a:b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array ('name' =&gt; 'Andrey', 'family' =&gt; 'Ivanov', 'phone' =&gt; '33-33-33')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rays: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reating/modif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$arr[</a:t>
            </a:r>
            <a:r>
              <a:rPr b="0" i="1" sz="2800" spc="-1" strike="noStrike">
                <a:solidFill>
                  <a:srgbClr val="808000"/>
                </a:solidFill>
                <a:latin typeface="Times New Roman"/>
              </a:rPr>
              <a:t>key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] = </a:t>
            </a:r>
            <a:r>
              <a:rPr b="0" i="1" sz="2800" spc="-1" strike="noStrike">
                <a:solidFill>
                  <a:srgbClr val="808000"/>
                </a:solidFill>
                <a:latin typeface="Times New Roman"/>
              </a:rPr>
              <a:t>value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t value (add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$arr[] = </a:t>
            </a:r>
            <a:r>
              <a:rPr b="0" i="1" sz="2800" spc="-1" strike="noStrike">
                <a:solidFill>
                  <a:srgbClr val="808000"/>
                </a:solidFill>
                <a:latin typeface="Times New Roman"/>
              </a:rPr>
              <a:t>value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dd new value to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f $arr doesn't exist yet, it will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Times New Roman"/>
              </a:rPr>
              <a:t>unset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($arr[5])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remov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808000"/>
                </a:solidFill>
                <a:latin typeface="Times New Roman"/>
              </a:rPr>
              <a:t>unset($arr);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- delete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count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($arra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lang="sv-SE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	</a:t>
            </a:r>
            <a:r>
              <a:rPr b="0" sz="2800" spc="-1" strike="noStrike">
                <a:solidFill>
                  <a:srgbClr val="808000"/>
                </a:solidFill>
                <a:latin typeface="Times New Roman"/>
                <a:ea typeface="Tahoma"/>
              </a:rPr>
              <a:t>count($array)-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verdana"/>
              </a:rPr>
              <a:t>Lo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loops through a block of code as long as a specified condition is tr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o...whil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- loops through a block of code once, and then repeats the loop as long as a special condition is tr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loops through a block of code a specified number of ti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foreach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hile (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$i=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while($i&lt;=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echo "The number is " . $i . "&lt;br /&gt;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$i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00"/>
                </a:solidFill>
                <a:latin typeface="Times New Roman"/>
                <a:ea typeface="Courier New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38:08Z</dcterms:created>
  <dc:creator>Niina</dc:creator>
  <dc:description/>
  <dc:language>en-US</dc:language>
  <cp:lastModifiedBy>DK</cp:lastModifiedBy>
  <dcterms:modified xsi:type="dcterms:W3CDTF">2006-09-27T11:52:10Z</dcterms:modified>
  <cp:revision>18</cp:revision>
  <dc:subject/>
  <dc:title>PowerPoint Presentation</dc:title>
</cp:coreProperties>
</file>