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821-24DC-451A-938D-74AA761C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AE2-584B-4441-B57E-06E68409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63EAB-5856-4A38-8D95-66624664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6861A-9929-464A-8584-1281D82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263A7-CB74-4A1D-B18D-A45519CB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BCA64-D3B1-4FF6-AD15-3443B97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7FFD8-91DF-4FE8-97A8-4E4F0FD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DF93-226D-4530-B06C-A2972013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92EBA-9BBB-4FAA-B116-C567EE36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D070-EA1D-4461-9D84-CDF2703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7A99-1FF7-42F6-83FE-A65DB377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BAC91-73D1-4547-BCFB-37AA094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BB4-00EA-4989-BCB9-F918AF2F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E733D-70E8-46F9-84A2-1895E866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98E73-A964-4A94-9B42-D7819B9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98827-3E67-4C9A-8E55-AE35EC01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6412E-CD62-4C1D-96CE-CD360CB7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222C7-5794-489C-8848-4F9A7E2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C4114-3278-4243-9EBE-949C644D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40222-BE8B-4247-8582-BA4B65F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376F7-7B62-4871-B624-652B5ED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B9E31-859E-4DE5-845A-FC9868E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38781-945C-4007-B201-96D4FDAD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CBA-D925-47F2-9FBF-BC527DEB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6612B-3E4D-42F9-8211-D468C17B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E812-E7B1-4736-945A-D778530D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F51F-7A0C-4A28-AE6C-737FC4F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FC04-6FD3-4E4D-ABA8-CAD88C5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143A1-80D0-4FB0-A010-B2AB25E5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148F-5CFB-416C-9A6B-D87668E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97603-4D6A-48B6-A652-8A6B0E12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8880A-4FBA-4456-B15D-856C8C9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FC678-4276-42B4-98ED-632BD46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56D9-8707-4009-B2DD-3C371C0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B6F-9AC3-44F7-B189-C0C024C1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D7FA-C560-428B-B966-C5C6F32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3C043-FD79-4CF8-8C22-D47C6AAA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60D6-3BFD-4344-B21C-A3745EA0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AA8EB-BC09-4B41-BEB4-04D6C0F3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A1698-ED7A-4E5F-88BF-C8F0CB5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7DA52-610D-4596-B809-48A0E0F6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BB574-5E46-4B67-BA45-30A6E6EB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6BCB6-C942-4326-A047-0D64751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F7A6E-EAF7-47F0-A396-46AB1C1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CDB80-6E4F-44C6-B139-98D340C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E75-12DA-4F9C-87E9-A29A4D2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3F854-D9FD-4336-BE6F-8A76562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626FB-A70F-44D0-80BB-F5992A8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86401-400F-4D7B-BFEB-4945D0B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3DDE2-3E04-4C96-91E5-18959B2B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96D3A-09C5-4432-AA61-8E3E7BCB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A9E0-DE30-410F-BE87-08DD5CAB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82B-C7CA-46C4-8CA1-370E8A3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CC8-C579-4772-B918-13BD298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197-AE31-4B80-893C-52F2798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99AE-4DA7-444E-ACF7-1FE1F46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06E-6959-41B3-9636-9E67E95A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82E-F3C1-4902-BBA1-2A5FF59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297-0629-4BEB-8D4F-25A0D98F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8CB8-6596-47AE-84F7-0805B134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852-70B8-4304-8912-A2F6CA58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8A4-6CC7-4A22-8B1A-BD8E0021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1F55-090D-42D5-9053-A7F46F9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2EDC-C848-41D5-8EE2-D5504EF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DB4B-CB0D-4FC6-82E0-D5368ED6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6557-11CC-498B-8C18-0F29DD0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5B53-1631-4FE1-994A-5B755070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832-E389-4761-8FF7-558811E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8AE8-313B-4C23-A6A0-16643CB3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B4AF-A73D-483D-9D44-1F2D9AF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2EB3-C2A7-41C6-82C8-40537FE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86C8-1307-4D15-97C7-64C9AC8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F41C-723A-4193-B25D-6E561AA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3D70-C4C1-4D16-B837-BFD8B933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A1D4-0337-4F20-B00C-634BA6B1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9985-57B2-4B26-A510-30DE7FCC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E457-DA43-40FC-99C7-65903B4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6DD3-2235-4A60-B9B6-5C5CC90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078-FA95-4731-83F5-FAA2ADA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9225-CA5E-4F49-8017-BE7D76AE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5D0B-8228-4437-924D-8954E7B2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964C-DC66-41DD-809F-591F652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8237-C10D-4F0A-A5D3-BFDE6DA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4883-C608-4C8F-B5EB-B37C753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181A-B35F-4276-91D0-13CAF1AB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E20F-5B17-41A2-BCD6-18F7E8E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2E7B-0CA8-413C-9827-900BB015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138E-37A5-4891-B0CA-4F10CB49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4A53-ED3D-47B0-8D69-B02AE839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E68-78E1-4AC0-9CFC-303440B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75B8-B97D-46F6-A8B8-AA560F8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8CCC-7C60-415A-905E-33FD3EA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4EC5-B761-4EBB-94BD-6AD0E2A8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2A0B-1ACB-44EC-8ADC-AA9D68DE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2D6A7-F7B2-458F-A250-DC5BEA6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AD03-0989-474D-8A75-C4B87BF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259E-5EB4-4E52-A7F4-D8FDA65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206C-39FA-4BE6-BE9C-8A88819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AEE18-B23D-414E-BE19-92D04948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31243-F249-48C5-A396-9BA05552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D1B-E59B-48CD-9B63-AB53C754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3D50-445F-49A6-BAF7-ECDDBB0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F5FA-75C0-4ABD-8229-92CDAB0C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5DB23-4DBE-466E-A824-E2A16AC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4554-9C95-4CBF-8670-9C66ABC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9616-F37E-4B3B-ADE7-C1D8B8C2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91AA7-63CF-4B32-A6A7-22E3DCF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2216-FF2C-4D47-84EF-6EE12BF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7B5C-3DDD-445F-B7DC-9BDB8C7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905BA-9B45-4DEA-AB81-53F4118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B046-996D-4B77-B351-E3E8D32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056-B65E-4053-84C0-64A10EF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5D03-03B5-470F-9104-EBF3E83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2916-221A-4D89-AEA6-7445B1BD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A4C1B-661A-4C5E-9227-EEA43421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BB24-6E6F-47A2-9CB4-B5EA03D8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39C1A-3B36-4113-93E0-A30E01F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A45A-3E90-4194-A23B-06B1917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7C13-DE0A-471A-ACED-D52ED1D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9A5C-0E3D-49B8-9FE9-74D4389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1F3C-EC62-4355-91FD-103F8061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0A39-4822-425A-AE7E-638381C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9B5-BEAD-4E63-ADB6-AD55D51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5D03-BCCC-498C-BC3F-3B3334F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9824-4DA8-4B8B-9820-8705922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34DB-7C9A-48ED-B68E-D02B6F7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EB6D-49EB-408E-9989-36B518D6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659D-121A-45EF-8C1C-C68C8C1F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E651-C999-4004-909F-7E178CE6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65D6-BE5D-4C86-A590-EB6F412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BFBF-F8DD-4113-ADA0-6458774F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849A5-6B15-489E-9341-D04E7829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9C90-1F75-4BD0-9B09-DCB05359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640-130F-4DBE-AF3C-BE0C112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BEF13-A55F-4F53-B28C-A18EDBB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94A0-DC05-4B75-96A2-B00505C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854F-F32D-4BE5-A922-304F277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CA41-27F0-4D28-84AC-ACE2908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29CA-BA90-4724-815F-5CC537E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4F42-3493-40DC-B16D-291BC418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8F36-5F45-45D1-A2A0-E569C941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FF2D3-6AD4-4D9E-A3B9-20355193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60A20-EB23-46AA-A172-2E84C82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2DACA-AD2C-49B0-9F18-FA1DD506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24F2-19B4-4251-BF1F-660A3F9A72E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142-9F08-4456-8CDE-BBF41BD19C6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F8F6-9618-4A36-ACCE-0C0498EC58A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653-C986-4B73-A215-D9D2D2A664C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EA88-CF5F-4B47-92D3-31479DF0325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4FD-24BD-4AA5-84FC-45AD024C3E9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244-7E35-46CB-A4E3-6D2B6AC63B8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011-523D-4C2E-96DE-B0332A3B76F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AFF-1562-49F1-AA0C-F9D8273EAC9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CB6-4419-4A66-8ED9-3FBF0C6AC83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BB5-9065-457B-A27F-336DCCECFDC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9E95-A4EF-4EC7-BA74-AB011BEC1E4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iles,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?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function Schet($x,$y=7)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   $a = $x*$y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   return $a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$rezult = Schet(5)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cho $rezult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GetLink(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link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   $link *= $link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   $link++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400"/>
            </a:b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test = 10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Link($test)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test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HP 3, functions must be defined before they are referenced. No such requirement exists in PHP 4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a function is conditionally defi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Conditionally defin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php $makefoo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can't call foo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$makefo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function foo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echo "I don't exist until program execution reaches me.\n"; }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$makefoo) foo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bar() { echo "I exist immediately upon program start.\n"; } 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lobal key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851280" y="1773360"/>
            <a:ext cx="49118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a =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Sum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$GLOBAL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"b"] = $GLOBALS["a"] + $GLOBALS["b"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um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685800" y="1773360"/>
            <a:ext cx="30942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a =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Sum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$a,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$a +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um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Open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unction is used to open files in PH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irst parameter of this function contains the name of the file to be opened and the second parameter specifies in which mode the file should be opened i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r,  r+, w, w+, a, a+, x, x+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$f=fopen("welcome.txt","r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Open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if (!($f=fopen("welcome.txt","r"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exit("Unable to open file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los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fclose() function is used to close a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close($f);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eof() function is used to determine if the end of file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getc() function is used to read a single character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ut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$f,sting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) function is used to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if (!($f=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open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"welcome.txt","r"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exit("Unable to open file.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while (!</a:t>
            </a:r>
            <a:r>
              <a:rPr b="1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eof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{ $x=</a:t>
            </a:r>
            <a:r>
              <a:rPr b="1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getc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; echo $x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close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57120" y="198108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fge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( resource $handle [, int $length ]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ds a file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resource $handle , int $length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 from the file pointer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 Reading stops as soon 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tes have been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OF (end of file) is reac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cket becomes available (for network stream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192 bytes have been read (after opening userspace stre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Get a file into an array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TML source of a UR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lines = file ('http://www.example.com/'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Loop through our array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numb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each ($lines as $line_num =&gt; $li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ho "Line #&lt;b&gt;{$line_num}&lt;/b&gt; : "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ech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tmlspecialchars($line) . "&lt;br&gt;\n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specialchar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special character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ent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Error Contro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HP supports one error control operator: the at sign (@). When prepended to an expression in PHP, any error messages that might be generated by that expression will be ignored.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my_file =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ile ('non_existent_file') </a:t>
            </a:r>
            <a:r>
              <a:rPr b="1" sz="2400" spc="-1" strike="noStrike">
                <a:solidFill>
                  <a:srgbClr val="996633"/>
                </a:solidFill>
                <a:latin typeface="Times New Roman"/>
              </a:rPr>
              <a:t>o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die ("Failed opening file: error was '$php_errormsg'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$value =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$cache[$key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// will not issue a notice if the index $key doesn't exist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85480" y="1214280"/>
            <a:ext cx="86439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string $string , int $start [, int $length ]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urns the portion of string specified by the start and length parame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$username =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ubstr</a:t>
            </a: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($username,0,30);</a:t>
            </a:r>
            <a:r>
              <a:rPr b="0" lang="sv-SE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 </a:t>
            </a:r>
            <a:r>
              <a:rPr b="0" lang="sv-SE" sz="2800" spc="-1" strike="noStrike">
                <a:solidFill>
                  <a:srgbClr val="808080"/>
                </a:solidFill>
                <a:latin typeface="Times New Roman"/>
                <a:ea typeface="Tahoma"/>
              </a:rPr>
              <a:t>//((Mi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in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strlen (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tring $string 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)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length of the given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trim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(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tring $string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) –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uncates the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tr_replace</a:t>
            </a:r>
            <a:r>
              <a:rPr b="0" sz="2800" spc="-1" strike="noStrike">
                <a:solidFill>
                  <a:srgbClr val="444444"/>
                </a:solidFill>
                <a:latin typeface="Times New Roman"/>
                <a:ea typeface="Tahoma"/>
              </a:rPr>
              <a:t> (mixed $lookfor, mised $replacewith, mixed $stringToSearchIn) </a:t>
            </a:r>
            <a:r>
              <a:rPr b="0" lang="et-EE" sz="2400" spc="-1" strike="noStrike">
                <a:solidFill>
                  <a:srgbClr val="444444"/>
                </a:solidFill>
                <a:latin typeface="Times New Roman"/>
                <a:ea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all occurrences of the search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with the replacement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trstr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-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first occurrence of a 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for example: strstr($email, '@')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6"/>
          <p:cNvSpPr/>
          <p:nvPr/>
        </p:nvSpPr>
        <p:spPr>
          <a:xfrm>
            <a:off x="0" y="271476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7"/>
          <p:cNvSpPr/>
          <p:nvPr/>
        </p:nvSpPr>
        <p:spPr>
          <a:xfrm>
            <a:off x="0" y="385776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8"/>
          <p:cNvSpPr/>
          <p:nvPr/>
        </p:nvSpPr>
        <p:spPr>
          <a:xfrm>
            <a:off x="0" y="51436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9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"/>
          <p:cNvSpPr/>
          <p:nvPr/>
        </p:nvSpPr>
        <p:spPr>
          <a:xfrm>
            <a:off x="0" y="12142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8:18Z</dcterms:created>
  <dc:creator>Niina</dc:creator>
  <dc:description/>
  <dc:language>en-US</dc:language>
  <cp:lastModifiedBy>kasutaja</cp:lastModifiedBy>
  <dcterms:modified xsi:type="dcterms:W3CDTF">2009-10-09T11:53:09Z</dcterms:modified>
  <cp:revision>20</cp:revision>
  <dc:subject/>
  <dc:title>PowerPoint Presentation</dc:title>
</cp:coreProperties>
</file>