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3BC-57BB-4870-B6B2-67DD9BFE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3EA-8762-4F54-A314-84AFB67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4975-ABF6-4199-95FF-861CACC4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F3A4-B69C-4662-BC21-A9817DD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58ABC-CAB6-430A-AC36-3A596E0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BA7B-28DB-4EDA-A5F8-CD2635B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32A4-28B4-4345-8AAE-EA9E708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8A49D-DFC9-49CB-A34A-7361AB2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B3AF6-3AF3-4993-A535-3207D89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E6F29-CB92-43F6-AFAE-49A3CAB1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00C75-4CBA-4ADF-ABC5-89FB547A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E8598-A0C7-4B96-B477-22C7BB0D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E1B-F1AE-4EF0-8CC6-928FEFDF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E371D-27EE-4015-8B8C-0938666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4F1F0-3DF2-4411-A2FC-9033C61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13B1A-7E4B-46E0-A884-FACA449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E873D-CDC1-404D-9646-188DDD5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E6B7E-9546-4377-A12F-3ED6D1E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7B36E-FBEE-4446-9268-E0C299B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8216C-41F6-42B1-BBE6-C5FBE79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DE89-3D68-4BC8-9475-271B964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E3416-EB42-4F42-9F76-A2C6CFDE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D5466-9113-44A0-B25C-EF77CC00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2F2-F890-4C45-9CFE-BC36B416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754CC-E8D6-4995-8935-DEF512F3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8494F-041D-4865-A6AF-BDC51AA1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57A9F-2BF1-4D22-80EA-A631E48B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34B20-92FA-41A2-A007-6EA42E4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7409C-6B51-466A-91CC-578FBFD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FCC96-47A6-4792-8624-DF8B2F35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7586D-B7D1-4CCF-9E3E-2A8AE59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EC313-43F7-4D90-B5FB-BDF3041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4B2DC-B219-44D6-A0FA-3EFE29E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E32D0-7B6A-4970-B743-224C9D8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294-1748-426E-9631-4B84AFDB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A87F0-782C-4ACE-B53C-9B2ECD8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E38FE-6C00-40A5-BD93-F33ECA03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9FFB-8080-4ED7-9616-CAE95502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FB46E-4713-4E1B-89C2-761C5763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B969C-77DF-49BB-A7A4-DCC7D86A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3BE6C-DD48-40EF-9F3F-FD7D930F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484FA-FE40-473A-9BB6-D9DCCA8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AEBAF-FEEB-4CC4-ABAC-2E73C138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2A403-79C3-45A6-A839-6A44339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6B32E-5D17-4B66-98BE-F0FF007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CE06-D86B-4491-847A-67806D7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AC8AF-15FC-4AB6-8838-B8CBCC1A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04A4B-888D-419C-B3F1-2AA04EE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CF2EB-8989-4DE1-AC6A-422BDD42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E521E-A1FC-49F9-9C0F-B4F75893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54BF2-D80B-45A6-8744-C45DB399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5BE-9DD5-49FA-82B0-8B74C30C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062-DE5C-41CA-864F-62D6D531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08ED-C92D-403C-9A7F-4422215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96F4-2E9B-484E-B0CD-9E981107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C9B-A744-4ADD-B21E-3BF788D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874-08E9-4D80-AFF2-BB589A3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1D1-84FF-4C96-B80E-DD77CF3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430-1F1D-4F4F-84D7-CA8C26C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53EC-F160-4C68-B57C-30E2BB0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EAC-37B8-413C-89B0-E2C4DE8C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98C9-1124-4091-922A-BEB5FEDB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B514-EB7F-42D3-9B3D-3888EB3C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B3FB-C152-4B96-8DB8-BD71A87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7689-5AC2-4319-A321-56F1893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4754-9764-4ED5-A6D5-9ECC3E5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0ACE-5961-41ED-84D2-37D5268B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8C3-90CF-4225-BA49-481B5B4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BE7F-9EB3-42B5-9126-1F0718B5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C9DF-EBE5-42A2-8B0D-6D6DF97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BDD2-0C1F-4178-84B4-A1D34FC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1FD2-BFC6-4A73-BEBA-4B3E3AB6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D206-4BD0-4EE0-89FD-BC6B4D1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3281-C22D-4C97-B139-E37CDA0C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5580-5AE4-4E46-8A60-9C97C65A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411B-2DED-49DC-95F1-562BBFEA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C189-2926-4207-BE5D-2B184B7D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CD71-DCAA-44C2-B483-A01ABF99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FD3-251C-4132-B912-6941AC1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E7F8B-87E8-40CF-81F0-8B89F75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00F5-CD82-4F07-8BBE-CF6AFEB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3497-4C0C-4A26-A2AA-C9A6E8D3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7623-D230-40E4-85F6-CFAFF5D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BFCC-2CBA-48C8-B33F-E7353EB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E762-4ADD-4A99-8047-7231EE0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A0BA-94B5-4C63-A916-770C59A1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49A4-91A0-4916-8DEF-C34227BA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42E4-EE27-4B7B-8DE9-A603B1D3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4BB0-F88A-4BD8-8724-D5E6C684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FEB-E12C-4FC7-A21A-72CD17D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B40B-A789-471D-9BEC-E78633A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581C-B6D8-4DAE-A7EB-C7D7199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4760-DD4A-484B-AB55-67A7789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D409-95D1-48A4-8CA5-F5AD238B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E8DE-AD20-4DE2-9D36-48C2294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82F1-99FF-4469-9C1E-370559D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98D9-C277-4FD8-BABF-E453775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9EB4-D9F9-4318-80D5-0DCBF14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F4FB-A4D0-4962-85E3-B3DE8E36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E22F-30FC-4361-9291-E1CD042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8C8-799D-419E-B0FB-9E88274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0415-C294-4F83-9633-045096B3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8853-1AC6-402E-A7A9-68AC698E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6A13E-22BD-424C-9165-2301C30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8EB6-FFDC-4B7B-BEF8-0F2E970B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F404-DB82-4ED1-8D92-D5CE0EE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E9DC-AA78-49BC-8CC9-102212D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9D94-7719-485C-BA79-9B215A7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1CD9-7035-4329-8882-FA94F49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3C05-B2CF-4063-829D-62EE192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B33E-538E-43D8-BE23-2D27936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3A1-08E3-4872-A921-95FD02D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EAE0-AC27-4E4E-8523-B3B4A62C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E98E5-B932-4F70-A885-2F47AA39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5B00-089C-410B-A421-01492C9E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30D7-A433-4431-9657-78EE3C03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386B3-07C3-4EC2-A34A-9435C9EF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2BA8-BE83-4FC7-8EEF-6466FD0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DE63-1C26-45EF-BE63-83ED3E6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532B2-4779-4557-B002-D1D50A9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CAD6-AC88-4F0D-89ED-830BA981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37D63-E32E-4E61-B72B-218C159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457-D8C3-4D93-981C-A3F800C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4EE3-EE39-41B1-B4A8-0E5B2B2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1CCB-7B5C-4F9F-B7CC-53B91EA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B0B84-073E-4934-9B06-980D153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55A2-6545-46BC-A15C-B9A4B8B3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7496-5DBA-4959-969A-0B5143EF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F510-747A-4E1F-B8ED-DE6F8ED0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6F346-A278-45C9-9840-FFBD230B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17DAF-D26C-4B79-BE8D-20C3DAD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651C-63DD-40F1-8B92-87A391E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59BEB-FC13-492F-BEB3-ED75016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679-903B-4106-B4F0-1D8043B2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0F546-9B1E-4DEE-8C9F-A0829F78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D0CF-E857-4010-B053-28A236D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C5FB-7651-4762-8F0E-F3A2289F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C541-1F85-4C54-B8FD-9924A93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41341-2268-4E2F-9954-1A24136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A7954-BCB2-4EE7-9C01-C10E2C48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A1FC0-14D5-4039-9CEC-E76408E6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39DE9-6B0B-4C70-B930-FEF3F0D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32BE-F5A0-4A6E-87B6-15CBA1F7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050AE-281F-4AF0-8A1A-E0CFC70E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714-01B3-48E6-BF33-5BEBEB9473E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21B-ABE4-4624-84CD-64F04C6F6FA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F2D-22AD-4A60-B718-28DFE2EDA16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7DD5-6B1C-43F5-A208-E660A557F86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13F-2E6B-4E05-9E57-A23D42B5CE8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D1D-C227-42AE-8901-A2A0A7A768F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3CB-A9B0-46AC-A9C4-0613DD1BC51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2E7-4B96-4D9C-B062-345E2BC0DA0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0EC-1C2E-4DAC-A75D-791A633BF93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2EA-741D-4EE1-8181-71DC614630CB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6B6-D504-442A-A0C7-762AA2C0332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8A1-9D85-40C7-A256-4D6F407E6E6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iles,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?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function Schet($x,$y=7)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   $a = $x*$y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   return $a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$rezult = Schet(5)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cho $rezult;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GetLink(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link)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   $link *= $link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   $link++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400"/>
            </a:b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test = 10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Link($test)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test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HP 3, functions must be defined before they are referenced. No such requirement exists in PHP 4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a function is conditionally defi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Conditionally defin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php $makefoo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can't call foo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$makefo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function foo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echo "I don't exist until program execution reaches me.\n"; }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$makefoo) foo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bar() { echo "I exist immediately upon program start.\n"; } 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lobal key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851280" y="1773360"/>
            <a:ext cx="49118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a =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Sum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$GLOBAL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"b"] = $GLOBALS["a"] + $GLOBALS["b"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um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685800" y="1773360"/>
            <a:ext cx="30942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a =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unction Sum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$a,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b = $a +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um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cho $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Open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unction is used to open files in PH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irst parameter of this function contains the name of the file to be opened and the second parameter specifies in which mode the file should be opened i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r,  r+, w, w+, a, a+, x, x+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$f=fopen("welcome.txt","r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Open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if (!($f=fopen("welcome.txt","r"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exit("Unable to open file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?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body&gt; &lt;/htm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losing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fclose() function is used to close a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close($f);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eof() function is used to determine if the end of file i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getc() function is used to read a single character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he f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ut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$f,sting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) function is used to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if (!($f=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open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"welcome.txt","r"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exit("Unable to open file.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while (!</a:t>
            </a:r>
            <a:r>
              <a:rPr b="1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eof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{ $x=</a:t>
            </a:r>
            <a:r>
              <a:rPr b="1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getc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; echo $x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fclose</a:t>
            </a: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($f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996633"/>
                </a:solidFill>
                <a:latin typeface="Times New Roman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57120" y="198108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fge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( resource $handle [, int $length ]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ds a file from th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resource $handle , int $length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tes from the file pointer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 Reading stops as soon 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ytes have been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OF (end of file) is reac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cket becomes available (for network stream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192 bytes have been read (after opening userspace stre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Reading from a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Get a file into an array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TML source of a UR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lines = file ('http://www.example.com/'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Loop through our array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numb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each ($lines as $line_num =&gt; $li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{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ho "Line #&lt;b&gt;{$line_num}&lt;/b&gt; : "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ech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tmlspecialchars($line) . "&lt;br&gt;\n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}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specialchar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special character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 ent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Error Contro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HP supports one error control operator: the at sign (@). When prepended to an expression in PHP, any error messages that might be generated by that expression will be ignored.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$my_file =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ile ('non_existent_file') </a:t>
            </a:r>
            <a:r>
              <a:rPr b="1" sz="2400" spc="-1" strike="noStrike">
                <a:solidFill>
                  <a:srgbClr val="996633"/>
                </a:solidFill>
                <a:latin typeface="Times New Roman"/>
              </a:rPr>
              <a:t>o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die ("Failed opening file: error was '$php_errormsg'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$value =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$cache[$key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// will not issue a notice if the index $key doesn't exist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85480" y="1214280"/>
            <a:ext cx="86439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ub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string $string , int $start [, int $length ]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urns the portion of string specified by the start and length parame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$username =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ubstr</a:t>
            </a: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($username,0,30);</a:t>
            </a:r>
            <a:r>
              <a:rPr b="0" lang="sv-SE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 </a:t>
            </a:r>
            <a:r>
              <a:rPr b="0" lang="sv-SE" sz="2800" spc="-1" strike="noStrike">
                <a:solidFill>
                  <a:srgbClr val="808080"/>
                </a:solidFill>
                <a:latin typeface="Times New Roman"/>
                <a:ea typeface="Tahoma"/>
              </a:rPr>
              <a:t>//((Mi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in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strlen (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tring $string 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)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length of the given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trim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(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tring $string </a:t>
            </a: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) –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uncates the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tr_replace</a:t>
            </a:r>
            <a:r>
              <a:rPr b="0" sz="2800" spc="-1" strike="noStrike">
                <a:solidFill>
                  <a:srgbClr val="444444"/>
                </a:solidFill>
                <a:latin typeface="Times New Roman"/>
                <a:ea typeface="Tahoma"/>
              </a:rPr>
              <a:t> (mixed $lookfor, mised $replacewith, mixed $stringToSearchIn) </a:t>
            </a:r>
            <a:r>
              <a:rPr b="0" lang="et-EE" sz="2400" spc="-1" strike="noStrike">
                <a:solidFill>
                  <a:srgbClr val="444444"/>
                </a:solidFill>
                <a:latin typeface="Times New Roman"/>
                <a:ea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all occurrences of the search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with the replacement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strstr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- 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first occurrence of a 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2800" spc="-1" strike="noStrike">
                <a:solidFill>
                  <a:srgbClr val="996633"/>
                </a:solidFill>
                <a:latin typeface="Times New Roman"/>
                <a:ea typeface="Tahoma"/>
              </a:rPr>
              <a:t>for example: strstr($email, '@')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6"/>
          <p:cNvSpPr/>
          <p:nvPr/>
        </p:nvSpPr>
        <p:spPr>
          <a:xfrm>
            <a:off x="0" y="271476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7"/>
          <p:cNvSpPr/>
          <p:nvPr/>
        </p:nvSpPr>
        <p:spPr>
          <a:xfrm>
            <a:off x="0" y="385776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8"/>
          <p:cNvSpPr/>
          <p:nvPr/>
        </p:nvSpPr>
        <p:spPr>
          <a:xfrm>
            <a:off x="0" y="51436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9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"/>
          <p:cNvSpPr/>
          <p:nvPr/>
        </p:nvSpPr>
        <p:spPr>
          <a:xfrm>
            <a:off x="0" y="1214280"/>
            <a:ext cx="9144000" cy="0"/>
          </a:xfrm>
          <a:prstGeom prst="line">
            <a:avLst/>
          </a:prstGeom>
          <a:ln w="2232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8:18Z</dcterms:created>
  <dc:creator>Niina</dc:creator>
  <dc:description/>
  <dc:language>en-US</dc:language>
  <cp:lastModifiedBy>kasutaja</cp:lastModifiedBy>
  <dcterms:modified xsi:type="dcterms:W3CDTF">2009-10-09T11:53:09Z</dcterms:modified>
  <cp:revision>20</cp:revision>
  <dc:subject/>
  <dc:title>PowerPoint Presentation</dc:title>
</cp:coreProperties>
</file>