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260-3E73-45AC-98E1-C998B447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2C1-3408-4F5E-A230-F059FAE4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5C4-F06C-4FC5-81B5-F32789C5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4B0-AA1A-4B0D-899D-D863B57B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28A-19E5-4BFA-A129-2B879E64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064-51E0-4820-B7E2-03B1AEE2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044-66CF-4BDD-94C5-A0266D0A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AA6-DF38-4980-A3E8-836924A9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FE6-B2BA-46C7-BA7C-B35E3AF1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BD7-4CB8-497F-ADF3-97444C4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25E-4A01-43D5-8918-7BA98113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B9A-0811-4FFE-AB09-6226B07D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6279-1B4B-4DB5-84C2-5B3F4112683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PHP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ookies, 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How to Create a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sz="3200" spc="-1" strike="noStrike">
                <a:solidFill>
                  <a:srgbClr val="000000"/>
                </a:solidFill>
                <a:latin typeface="Courier New"/>
              </a:rPr>
              <a:t>session_start</a:t>
            </a:r>
            <a:r>
              <a:rPr b="0" sz="3200" spc="-1" strike="noStrike">
                <a:solidFill>
                  <a:srgbClr val="000000"/>
                </a:solidFill>
                <a:latin typeface="verdana"/>
              </a:rPr>
              <a:t>() function is used to create cook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&lt;?ph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session_start(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How to Retrieve a Session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Register Session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 Unicode MS"/>
                <a:ea typeface="Arial"/>
              </a:rPr>
              <a:t>session_register('var1','var2',...);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// will also create a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PS:Session variable will be created on using even if you will not register 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Us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session_star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 </a:t>
            </a: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if</a:t>
            </a: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 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(!isset($_SESSION['count']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1" sz="2400" spc="-1" strike="noStrike">
                <a:solidFill>
                  <a:srgbClr val="cc6600"/>
                </a:solidFill>
                <a:latin typeface="Courier New"/>
                <a:ea typeface="Arial"/>
              </a:rPr>
              <a:t>$</a:t>
            </a:r>
            <a:r>
              <a:rPr b="1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_</a:t>
            </a:r>
            <a:r>
              <a:rPr b="1" sz="2400" spc="-1" strike="noStrike">
                <a:solidFill>
                  <a:srgbClr val="cc6600"/>
                </a:solidFill>
                <a:latin typeface="Courier New"/>
                <a:ea typeface="Arial"/>
              </a:rPr>
              <a:t>SESSION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['count'] = 0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 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$_SESSION['count']+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How to Delete a Session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session_unregister(</a:t>
            </a:r>
            <a:r>
              <a:rPr b="0" lang="sv-SE" sz="3200" spc="-1" strike="noStrike">
                <a:solidFill>
                  <a:srgbClr val="000000"/>
                </a:solidFill>
                <a:latin typeface="Courier New"/>
              </a:rPr>
              <a:t>´varname´</a:t>
            </a: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ourier New"/>
              </a:rPr>
              <a:t>How to destroy a se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session_destroy()</a:t>
            </a:r>
            <a:r>
              <a:rPr b="1" sz="3200" spc="-1" strike="noStrike">
                <a:solidFill>
                  <a:srgbClr val="0000ff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Server Side Inclu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You can insert the content of one file into another file before the server executes it, with the 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require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() function. The require() function is used to create functions, headers, footers, or elements that will be reused on multiple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?php require("header.htm"); ?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create variables storing values across php scripts’ ca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4038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-server connection is not perma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be saved in program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clients connecting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be saved in file (you cannot identify clients as well someti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828800"/>
            <a:ext cx="457200" cy="457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800600" y="2057400"/>
            <a:ext cx="1981080" cy="1600200"/>
            <a:chOff x="4800600" y="2057400"/>
            <a:chExt cx="1981080" cy="1600200"/>
          </a:xfrm>
        </p:grpSpPr>
        <p:sp>
          <p:nvSpPr>
            <p:cNvPr id="49" name=""/>
            <p:cNvSpPr/>
            <p:nvPr/>
          </p:nvSpPr>
          <p:spPr>
            <a:xfrm>
              <a:off x="4800600" y="2057400"/>
              <a:ext cx="198108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05520" y="2133720"/>
              <a:ext cx="685800" cy="7617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43600" y="2895480"/>
              <a:ext cx="762120" cy="685800"/>
            </a:xfrm>
            <a:prstGeom prst="flowChartMagneticDisk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981080" y="2133720"/>
            <a:ext cx="27432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3276720"/>
            <a:ext cx="457200" cy="457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57400" y="3048120"/>
            <a:ext cx="26668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36232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Different mechanisms of the sam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okies are a mechanism for storing data in the remote browser and thus tracking or identifying return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ession support in PHP consists of a way to preserve certain data across subsequent accesses. This enables you to build more customized applications and increase the appeal of your web s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What is a Cooki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verdana"/>
              </a:rPr>
              <a:t>A cookie is a small file that the server embeds on the user's computer. Each time the same computer requests for a page with a browser, it will send the cookie too. With PHP, you can both create and retrieve cooki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How to Create a Cook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setcookie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() function is used to create cook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i="1" sz="2800" spc="-1" strike="noStrike">
                <a:solidFill>
                  <a:srgbClr val="000000"/>
                </a:solidFill>
                <a:latin typeface="verdana"/>
              </a:rPr>
              <a:t> The setcookie() function must appear </a:t>
            </a:r>
            <a:r>
              <a:rPr b="1" i="1" sz="28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i="1" sz="2800" spc="-1" strike="noStrike">
                <a:solidFill>
                  <a:srgbClr val="000000"/>
                </a:solidFill>
                <a:latin typeface="verdana"/>
              </a:rPr>
              <a:t> the &lt;html&gt; t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setcookie(name, 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 [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value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]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, 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[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expire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]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, 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[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path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]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, 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[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domain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]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, 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[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secure]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This</a:t>
            </a:r>
            <a:r>
              <a:rPr b="0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 sets a cookie named "uname" - that expires after t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h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&lt;?php setcookie("uname", $name, time()+36000); 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&lt;html&gt; &lt;body&gt;</a:t>
            </a: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verdana"/>
              </a:rPr>
              <a:t>How to Retrieve a Cookie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o access a cookie you just refer to the cookie name as a vari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use 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$_COOKI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verdana"/>
              </a:rPr>
              <a:t>Tip: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Use the isset() function to find out if a cookie has been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&lt;html&gt; 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if (isset($uname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echo "Welcome " . $uname . "!&lt;br /&gt;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echo "You are not logged in!&lt;br /&gt;"; 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&lt;/body&gt; 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How to Delete a Cook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verdana"/>
              </a:rPr>
              <a:t>It will ex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Cookies must be deleted with the same parameters as they were set with. If the value argument is an empty string (""), and all other arguments match a previous call to setcookie, then the cookie with the specified name will be deleted from the remote cl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What is a Ses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The session support allows you to register arbitrary numbers of variables to be preserved across reque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A visitor accessing your web site is assigned an unique id, the so-called session id. This is either stored in a cookie on the user side or is propagated in the UR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03:45Z</dcterms:created>
  <dc:creator>Niina</dc:creator>
  <dc:description/>
  <dc:language>en-US</dc:language>
  <cp:lastModifiedBy>DK</cp:lastModifiedBy>
  <dcterms:modified xsi:type="dcterms:W3CDTF">2006-09-27T11:51:26Z</dcterms:modified>
  <cp:revision>13</cp:revision>
  <dc:subject/>
  <dc:title>PowerPoint Presentation</dc:title>
</cp:coreProperties>
</file>