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298-B496-4324-BD4A-E0601299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804-F72D-424B-A720-AA3B607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333-A4EA-48B7-ACA9-E58B68FF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7B9-D519-4630-A27A-D3EEE032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302-94AA-4AC3-AE1E-A664ACF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6D8-BEAF-46E3-9509-29E9E098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5B5-4973-4C62-B7BA-E672E81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37F-415C-4392-9EDC-A6A5F8F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511-DA1B-4EE4-A5AB-5CCCE5A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F3E-12B1-41C7-88ED-4FED466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A0D-BB8C-452D-B456-46DE8F6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5E5-79A1-42CB-A81B-D50E541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DDF-575A-43D4-A275-7CCF5624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veloper.mozilla.org/en/docs/Migrate_apps_from_Internet_Explorer_to_Mozill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3schools.com/jsref/jsref_events.as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avaScript &amp; 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Client-side scri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TML DOM is a W3C standard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bbreviation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or 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Object Mod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”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TML DOM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s how HTML can be described in a way, that is similar to XML including standard objects, accessing those and manipulating producing/modifying behaviour or the entire HTML document on client.... Or we can say that it represents a well-formed html as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TML elements,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text and attributes, can be accessed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M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and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Window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p level objec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s a browser wind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Navigato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History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ited URLs in the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Docu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s the entire HTML document and can be used to access all elements in 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document.body.innerHTML – access to html under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 special object for many different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Table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var x</a:t>
            </a:r>
            <a:r>
              <a:rPr b="0" i="1" lang="et-EE" sz="1800" spc="-1" strike="noStrike">
                <a:solidFill>
                  <a:srgbClr val="333399"/>
                </a:solidFill>
                <a:latin typeface="Arial"/>
              </a:rPr>
              <a:t>Cell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document.getElementById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('myTable').rows[0].cells</a:t>
            </a:r>
            <a:r>
              <a:rPr b="0" i="1" lang="et-EE" sz="1800" spc="-1" strike="noStrike">
                <a:solidFill>
                  <a:srgbClr val="333399"/>
                </a:solidFill>
                <a:latin typeface="Arial"/>
              </a:rPr>
              <a:t>[0]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Table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9999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661000"/>
            <a:ext cx="5616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9999"/>
                </a:solidFill>
                <a:latin typeface="Arial"/>
              </a:rPr>
              <a:t>A standard way of getting a reference to an object using its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400" spc="-1" strike="noStrike">
                <a:solidFill>
                  <a:srgbClr val="009999"/>
                </a:solidFill>
                <a:latin typeface="Arial"/>
              </a:rPr>
              <a:t>For example in html we had &lt;table ID=“myTable”&gt;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500360" y="4941720"/>
            <a:ext cx="431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M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31640" y="1585800"/>
            <a:ext cx="8208720" cy="4495680"/>
            <a:chOff x="431640" y="1585800"/>
            <a:chExt cx="8208720" cy="4495680"/>
          </a:xfrm>
        </p:grpSpPr>
        <p:cxnSp>
          <p:nvCxnSpPr>
            <p:cNvPr id="70" name="_s29742"/>
            <p:cNvCxnSpPr>
              <a:stCxn id="71" idx="1"/>
              <a:endCxn id="72" idx="2"/>
            </p:cNvCxnSpPr>
            <p:nvPr/>
          </p:nvCxnSpPr>
          <p:spPr>
            <a:xfrm rot="10800000">
              <a:off x="1279800" y="1894320"/>
              <a:ext cx="3396600" cy="403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9738"/>
            <p:cNvCxnSpPr>
              <a:stCxn id="74" idx="1"/>
              <a:endCxn id="75" idx="2"/>
            </p:cNvCxnSpPr>
            <p:nvPr/>
          </p:nvCxnSpPr>
          <p:spPr>
            <a:xfrm rot="10800000">
              <a:off x="6656400" y="3291840"/>
              <a:ext cx="283680" cy="77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9734"/>
            <p:cNvCxnSpPr>
              <a:stCxn id="77" idx="1"/>
              <a:endCxn id="72" idx="2"/>
            </p:cNvCxnSpPr>
            <p:nvPr/>
          </p:nvCxnSpPr>
          <p:spPr>
            <a:xfrm rot="10800000">
              <a:off x="1279800" y="1894320"/>
              <a:ext cx="3396600" cy="263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9733"/>
            <p:cNvCxnSpPr>
              <a:stCxn id="79" idx="1"/>
              <a:endCxn id="72" idx="2"/>
            </p:cNvCxnSpPr>
            <p:nvPr/>
          </p:nvCxnSpPr>
          <p:spPr>
            <a:xfrm rot="10800000">
              <a:off x="1279800" y="1894320"/>
              <a:ext cx="339660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9730"/>
            <p:cNvCxnSpPr>
              <a:stCxn id="81" idx="0"/>
              <a:endCxn id="82" idx="2"/>
            </p:cNvCxnSpPr>
            <p:nvPr/>
          </p:nvCxnSpPr>
          <p:spPr>
            <a:xfrm flipV="1" rot="16200000">
              <a:off x="3819600" y="4735080"/>
              <a:ext cx="156960" cy="990720"/>
            </a:xfrm>
            <a:prstGeom prst="bentConnector3">
              <a:avLst>
                <a:gd name="adj1" fmla="val 49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9728"/>
            <p:cNvCxnSpPr>
              <a:stCxn id="84" idx="0"/>
              <a:endCxn id="82" idx="2"/>
            </p:cNvCxnSpPr>
            <p:nvPr/>
          </p:nvCxnSpPr>
          <p:spPr>
            <a:xfrm flipH="1" flipV="1" rot="5400000">
              <a:off x="2828880" y="4735080"/>
              <a:ext cx="156960" cy="991080"/>
            </a:xfrm>
            <a:prstGeom prst="bentConnector3">
              <a:avLst>
                <a:gd name="adj1" fmla="val 498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9724"/>
            <p:cNvCxnSpPr>
              <a:stCxn id="82" idx="3"/>
              <a:endCxn id="77" idx="2"/>
            </p:cNvCxnSpPr>
            <p:nvPr/>
          </p:nvCxnSpPr>
          <p:spPr>
            <a:xfrm flipV="1">
              <a:off x="4251960" y="4687920"/>
              <a:ext cx="1273680" cy="31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9720"/>
            <p:cNvCxnSpPr>
              <a:stCxn id="87" idx="1"/>
              <a:endCxn id="75" idx="2"/>
            </p:cNvCxnSpPr>
            <p:nvPr/>
          </p:nvCxnSpPr>
          <p:spPr>
            <a:xfrm rot="10800000">
              <a:off x="6656400" y="3291840"/>
              <a:ext cx="283680" cy="31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9718"/>
            <p:cNvCxnSpPr>
              <a:stCxn id="75" idx="1"/>
              <a:endCxn id="79" idx="2"/>
            </p:cNvCxnSpPr>
            <p:nvPr/>
          </p:nvCxnSpPr>
          <p:spPr>
            <a:xfrm rot="10800000">
              <a:off x="5524560" y="2826360"/>
              <a:ext cx="28368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9708"/>
            <p:cNvCxnSpPr>
              <a:stCxn id="90" idx="1"/>
              <a:endCxn id="72" idx="2"/>
            </p:cNvCxnSpPr>
            <p:nvPr/>
          </p:nvCxnSpPr>
          <p:spPr>
            <a:xfrm rot="10800000">
              <a:off x="1279800" y="1894320"/>
              <a:ext cx="339660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29704"/>
            <p:cNvSpPr/>
            <p:nvPr/>
          </p:nvSpPr>
          <p:spPr>
            <a:xfrm>
              <a:off x="431640" y="158580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docu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9705"/>
            <p:cNvSpPr/>
            <p:nvPr/>
          </p:nvSpPr>
          <p:spPr>
            <a:xfrm>
              <a:off x="4676400" y="205128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9711"/>
            <p:cNvSpPr/>
            <p:nvPr/>
          </p:nvSpPr>
          <p:spPr>
            <a:xfrm>
              <a:off x="4676400" y="251676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fo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9715"/>
            <p:cNvSpPr/>
            <p:nvPr/>
          </p:nvSpPr>
          <p:spPr>
            <a:xfrm>
              <a:off x="4676400" y="437796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9717"/>
            <p:cNvSpPr/>
            <p:nvPr/>
          </p:nvSpPr>
          <p:spPr>
            <a:xfrm>
              <a:off x="5808240" y="2982240"/>
              <a:ext cx="1697760" cy="310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fo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9719"/>
            <p:cNvSpPr/>
            <p:nvPr/>
          </p:nvSpPr>
          <p:spPr>
            <a:xfrm>
              <a:off x="6940440" y="3447720"/>
              <a:ext cx="1695960" cy="310320"/>
            </a:xfrm>
            <a:prstGeom prst="roundRect">
              <a:avLst>
                <a:gd name="adj" fmla="val 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el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9723"/>
            <p:cNvSpPr/>
            <p:nvPr/>
          </p:nvSpPr>
          <p:spPr>
            <a:xfrm>
              <a:off x="2554200" y="4843440"/>
              <a:ext cx="1697760" cy="30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9727"/>
            <p:cNvSpPr/>
            <p:nvPr/>
          </p:nvSpPr>
          <p:spPr>
            <a:xfrm>
              <a:off x="1563480" y="5307840"/>
              <a:ext cx="16977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hre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9729"/>
            <p:cNvSpPr/>
            <p:nvPr/>
          </p:nvSpPr>
          <p:spPr>
            <a:xfrm>
              <a:off x="3544200" y="5307840"/>
              <a:ext cx="16977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9735"/>
            <p:cNvSpPr/>
            <p:nvPr/>
          </p:nvSpPr>
          <p:spPr>
            <a:xfrm>
              <a:off x="4676400" y="5772240"/>
              <a:ext cx="169596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9737"/>
            <p:cNvSpPr/>
            <p:nvPr/>
          </p:nvSpPr>
          <p:spPr>
            <a:xfrm>
              <a:off x="6940440" y="3913200"/>
              <a:ext cx="1699920" cy="30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9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ocument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ajour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anchor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Anchor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Like &lt;a name="firs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form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Form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document.forms[0].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Image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Image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links[]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all Area and Link objects i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Like &lt;a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hre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“”&gt;, &lt;area 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href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=“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Majou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ById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reference to the first object with the specifie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ByNam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collection of objects with the specifi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getElementsByTagNam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urns a collection of objects with the specified tag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9999"/>
                </a:solidFill>
                <a:latin typeface="Arial"/>
              </a:rPr>
              <a:t>write()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ites HTML expressions or JavaScript code to 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Majour Memebrs &amp;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cells[]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array containing each cell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rows[]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array containing each row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border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table border widt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width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llows reading/defi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idth of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classNam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allows reading/defin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class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Majou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deleteRow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letes a row from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9999"/>
                </a:solidFill>
                <a:latin typeface="Arial"/>
              </a:rPr>
              <a:t>insertRow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serts a new row in 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var </a:t>
            </a: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=document.getElementById('myTable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.insertRow()</a:t>
            </a:r>
            <a:r>
              <a:rPr b="0" i="1" lang="en-GB" sz="16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333399"/>
                </a:solidFill>
                <a:latin typeface="Arial"/>
              </a:rPr>
              <a:t>tbl.insertRow(0); //inserts as the first 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Majour Members &amp;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elements[]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ay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ach elemen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control etc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action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provides access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ction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length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of elements in 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method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provides access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Majou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reset()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ets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 of all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contr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submit()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bmits a fo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ccess the element to start from via Docu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ByI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By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getElementsByTagNa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var x=document.getElementsByTagName("p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for (var i=0;i&lt;x.length;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var pp=x[i];....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ccess the element to start from  - us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ument.documentEl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turns the root node of the document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 to browse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ument.bo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 a special addition for HTML pages, and gives direct access to the &lt;body&gt;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ove up o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ent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Ch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extSi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eviousSi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Here you get either somekind node you know exactly where you are and use the node as usually (for examply if you know that it is a table then you use table object properties and meth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1413000"/>
            <a:ext cx="252108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tml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ead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title&gt;</a:t>
            </a: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title&gt;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ead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body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h1&gt;</a:t>
            </a: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HH1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1&gt;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p&gt;Hello world!&lt;/p&gt; </a:t>
            </a:r>
            <a:br>
              <a:rPr sz="1400"/>
            </a:br>
            <a:r>
              <a:rPr b="0" lang="et-EE" sz="1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body&gt;</a:t>
            </a:r>
            <a:br>
              <a:rPr sz="1400"/>
            </a:br>
            <a:r>
              <a:rPr b="0" lang="en-GB" sz="1400" spc="-1" strike="noStrike">
                <a:solidFill>
                  <a:srgbClr val="9933ff"/>
                </a:solidFill>
                <a:latin typeface="Arial"/>
              </a:rPr>
              <a:t>&lt;/ht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52840" y="3510000"/>
            <a:ext cx="464364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alert( document.body.firstChild.innerHTML)</a:t>
            </a:r>
            <a:r>
              <a:rPr b="0" lang="et-EE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gives H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alert( document.body.firstChild.nextSibling.innerHTML)</a:t>
            </a:r>
            <a:r>
              <a:rPr b="0" lang="et-EE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gives “Hello world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80360" y="1484280"/>
            <a:ext cx="81900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Moving inside DO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Nod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Na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the tag 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the attribute 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alway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tex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th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alway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docu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or the document then i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not availab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s the attribut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od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contains th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nodeTyp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n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tribut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f is a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then it is equal to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appendChild()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– for example add another “&lt;p&gt;sajdhasjdh&lt;/p&gt;” into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removeChild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replaceChild()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Other usefull function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getAttribut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setAttribut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9999"/>
                </a:solidFill>
                <a:latin typeface="Arial"/>
              </a:rPr>
              <a:t>ta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ooking at a HTML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inner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9999"/>
                </a:solidFill>
                <a:latin typeface="Arial"/>
              </a:rPr>
              <a:t>outerHTML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t-EE" sz="2400" spc="-1" strike="noStrike">
                <a:solidFill>
                  <a:srgbClr val="000000"/>
                </a:solidFill>
                <a:latin typeface="Arial"/>
              </a:rPr>
              <a:t>includes the element (and its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a tool to automate client s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which is implemented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so 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JavaSript syntax is the simple and as reduntant as PHP (even simplier), s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not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first of all f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 able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d and write HTML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(especially if DOM [html as xml] is used to position outpu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d to validate da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t-EE" sz="4400" spc="-1" strike="noStrike">
                <a:solidFill>
                  <a:srgbClr val="009999"/>
                </a:solidFill>
                <a:latin typeface="Arial"/>
              </a:rPr>
              <a:t>IE/Firefox</a:t>
            </a: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veloper.mozilla.org/en/docs/Migrate_apps_from_Internet_Explorer_to_Moz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ng nodes: IE will skip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empty spaces, while Mozilla will report those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use nodeType to avoid processing thos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from which a function wa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IE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t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rcEleme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exist automatical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9999"/>
                </a:solidFill>
                <a:latin typeface="Arial"/>
              </a:rPr>
              <a:t>Firefox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: oEvent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you have to give the ref on event [oEvent] into the function as a parameter using event calling the fun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b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ementName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Firefox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.</a:t>
            </a:r>
            <a:r>
              <a:rPr b="1" lang="et-EE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ozilla: no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CSS and postioning and man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dding JS to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type="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text/javascrip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"&gt; .... &lt;/script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99cc00"/>
                </a:solidFill>
                <a:latin typeface="Arial"/>
              </a:rPr>
              <a:t>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99cc00"/>
                </a:solidFill>
                <a:latin typeface="Arial"/>
              </a:rPr>
              <a:t>&lt;script language="javascript" type="text/javascrip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type="text/javascript"&gt; .... 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tml&gt; &lt;hea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script src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myscrip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js"&gt;&lt;/scrip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head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unction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r1,var2,...,var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me c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[return..]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ction prod(a,b) { x=a*b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return x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unction prod() { 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alert(“Alert x”)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iables: same as PHP (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var x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or just use it [x=5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ndi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if (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lse if (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condition2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witches, operations, loops – the same as we seen in PHP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Difference: </a:t>
            </a:r>
            <a:r>
              <a:rPr b="0" i="1" lang="en-GB" sz="1800" spc="-1" strike="noStrike">
                <a:solidFill>
                  <a:srgbClr val="99cc00"/>
                </a:solidFill>
                <a:latin typeface="Arial"/>
              </a:rPr>
              <a:t>for (variable in object) { code to be execut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var mycars = new Array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0] = "Saa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1] = "Volvo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mycars[2] = "BMW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for (</a:t>
            </a:r>
            <a:r>
              <a:rPr b="0" i="1" lang="en-GB" sz="14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 in mycars) { document.write(mycars[</a:t>
            </a:r>
            <a:r>
              <a:rPr b="1" i="1" lang="en-GB" sz="14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] + "&lt;br /&gt;") }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lerts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t-EE" sz="3600" spc="-1" strike="noStrike">
                <a:solidFill>
                  <a:srgbClr val="000000"/>
                </a:solidFill>
                <a:latin typeface="Arial"/>
              </a:rPr>
              <a:t>message boxe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ert("sometext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NB: no debugging in JavaScript therefore alerts are used sometimes by developer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show the debu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omment: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'\n‘ is used as a lin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alert(‘Line1’ + ‘\n’ + ‘Line2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nfirm(“sometex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var r=confirm("Do you want to submit?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if (r==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document.write("You pressed OK!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document.write("You pressed Cancel!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ar name=prompt("Please enter your </a:t>
            </a:r>
            <a:r>
              <a:rPr b="0" lang="et-EE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e","Shrek senior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99080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199080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59280" y="5229360"/>
            <a:ext cx="39988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eacting 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here are differ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3schools.com/jsref/jsref_events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blur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 element loses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i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chang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- Th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tent of a fiel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w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onclick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– An object wa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nv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input type="text" size="30" id=“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inpfld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change=“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Validate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()"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orm method="post" action=“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act.php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submit=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submit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rm()"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&lt;body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nload="ApplyExpandCollapse()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"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ccessing the element from which a function wa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I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ent.srcElemen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exist automatical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Firefox: oEvent.target (you have to give the ref on event [oEvent]in Firefox into the function as a parameter using event calling the fun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input type="text" size="30" id=“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inpfl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nchange=“</a:t>
            </a:r>
            <a:r>
              <a:rPr b="1" lang="et-EE" sz="1400" spc="-1" strike="noStrike">
                <a:solidFill>
                  <a:srgbClr val="333399"/>
                </a:solidFill>
                <a:latin typeface="Arial"/>
              </a:rPr>
              <a:t>Validate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t-EE" sz="1400" spc="-1" strike="noStrike">
                <a:solidFill>
                  <a:srgbClr val="333399"/>
                </a:solidFill>
                <a:latin typeface="Arial"/>
              </a:rPr>
              <a:t>event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)"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gt;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Function Validate(o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-c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f(x&gt;10) throw "Err1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tch(er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xt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Erro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\n\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xt+=“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scription: " + err.description + "\n\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lert(tx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ccessing objects methods and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lt;script type="text/javascript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ar txt=“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some tex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ument.write(tx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.length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aler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tx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.toUpperCase(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Useful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isNaN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s if a value is not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parseFloat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s a string and returns a floating poi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parseInt()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s a string and returns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09:22:52Z</dcterms:created>
  <dc:creator>Deniss Kumlander</dc:creator>
  <dc:description/>
  <dc:language>en-US</dc:language>
  <cp:lastModifiedBy>kumlanderd</cp:lastModifiedBy>
  <dcterms:modified xsi:type="dcterms:W3CDTF">2007-10-12T19:57:44Z</dcterms:modified>
  <cp:revision>39</cp:revision>
  <dc:subject/>
  <dc:title>Slide 1</dc:title>
</cp:coreProperties>
</file>