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E76-D056-4D4D-95E4-6136B80A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448-6370-4BC5-A742-3516EE32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41B-3314-411B-9BCA-EC1B8031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DE5-006B-431C-BEB1-BA0CBC1E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ED1-4F89-4D3A-BDE6-653297F9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19C-5C69-4927-8E19-35DECBF6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4FB-D9D8-46BC-86F4-C2EEC7CC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F87-F1DD-4CAD-87B2-4F6BB63A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5B5-725D-41F1-99C1-C6C8C0D7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D39-73A4-42AA-B235-1189939D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0C3-F127-4349-A49E-DA9C0374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20E-5E66-45E6-B8E3-694F2305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9D16-952D-469B-ADE5-40384A9E8F95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3schools.com/" TargetMode="External"/><Relationship Id="rId2" Type="http://schemas.openxmlformats.org/officeDocument/2006/relationships/hyperlink" Target="http://www.ttu.ee/it/vorgutarkvara/wav3080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3333cc"/>
                </a:solidFill>
                <a:latin typeface="Times New Roman"/>
              </a:rPr>
              <a:t>IDK0040 Võrgurakendused I</a:t>
            </a:r>
            <a:br>
              <a:rPr sz="4000"/>
            </a:br>
            <a:br>
              <a:rPr sz="3200"/>
            </a:br>
            <a:r>
              <a:rPr b="0" i="1" lang="et-EE" sz="3200" spc="-1" strike="noStrike">
                <a:solidFill>
                  <a:srgbClr val="000000"/>
                </a:solidFill>
                <a:latin typeface="Times New Roman"/>
              </a:rPr>
              <a:t>loeng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409720"/>
            <a:ext cx="836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808080"/>
                </a:solidFill>
                <a:latin typeface="Times New Roman"/>
              </a:rPr>
              <a:t>Deniss Kumla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 you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questions are asked by user (email, search engin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utomate routin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dd information which is constantly asked/searched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Some ad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t up some magnet cont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velop technical means for collabor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 prepared to interact with us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Some ad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ee the web from the users point of view w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nning site's content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/ navigation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Notice that users normally are not IT ne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sers don't understand the difference between RAM and disk and further, that they don't understand the file system or directory hierarch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omputers/webs etc should simplify users’ life instead of producing trou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Draw a Site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4864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Draw a Site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3047760" cy="2095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1905120"/>
            <a:ext cx="518148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Is content static or you need to store previous months’ new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void “entry tunnel” like “Welcome to my super homepage”: </a:t>
            </a:r>
            <a:r>
              <a:rPr b="0" lang="et-EE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should not be oriented to persons visiting only once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; have links to many services and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lan links and ways back to the main page (could arrive to a random page using Google or something like th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Draw a Site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3047760" cy="2095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1905120"/>
            <a:ext cx="5181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Keep site logic simple/easy to use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. If users start browsing manuals then something is wrong: 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do you read manuals after buying a 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Times New Roman"/>
              </a:rPr>
              <a:t>Structure content: </a:t>
            </a:r>
            <a:r>
              <a:rPr b="0" lang="et-EE" sz="4000" spc="-1" strike="noStrike">
                <a:solidFill>
                  <a:srgbClr val="000000"/>
                </a:solidFill>
                <a:latin typeface="Times New Roman"/>
              </a:rPr>
              <a:t>physical location by physical/logical categ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doc/ for documentation on the server itself, e.g., this directory sp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tutorial/ for a textbook for learning photographers, with its own index page and links from each chapter back to the ind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travel/ for travel guides to various photographic destinations. Multi-document guides with custom illustrations, e.g., maps, will have their own subdirector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technique/ for specialized how-to documents, e.g., "taking photographs of star trails" or "macro photography". Any article that needs helper drawings will be in a subdirect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about/ for general credits (a masthead), explanations of how the site works, editorial/submission polic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Times New Roman"/>
              </a:rPr>
              <a:t>Structure content: 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Use file names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void dublications: extract similar parts into a standalone file/include – organ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?: Content independent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eep the site cl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?: text only, “right” colours (Google, blo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hire a graphic desig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t-E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ad graphic design is far harder on the user than no graphic design. </a:t>
            </a:r>
            <a:r>
              <a:rPr b="0" i="1" lang="et-EE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remember that nobody will laugh at a plain text site and say "look at these losers who spent $50,000 on design for a content-free site."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6868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schools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Li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ttu.ee/it/vorgutarkvara/wav30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http://philip.greenspun.com/seia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Times New Roman"/>
              </a:rPr>
              <a:t>Internet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welve-year-old can build a nice Web application using the tools that came standard with any Linux or Windows machine. Thus it is worth asking ourselves, "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What is challenging, interesting, and inspiring about Internet-based applications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yo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 loser with a big budget, a lot of ugly graphics, and no traffic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The World Wide Web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Verdana"/>
              </a:rPr>
              <a:t>What is the World Wide Web?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World Wide Web (WWW) is most often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the Web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Web is a network of computers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all over the world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All the computers in the Web can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ommunicate with each other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All the computers use a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ommunication standard called HTTP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The World Wid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Verdana"/>
              </a:rPr>
              <a:t>How does the  WWW work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eb information is stored in documents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page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eb pages are files stored on computers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server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Computers reading the Web pages are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client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eb clients view the pages with a program called a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browser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Popular browsers are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Internet Explorer and Netscape Navigator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The World Wid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Verdana"/>
              </a:rPr>
              <a:t>How does the browser fetch the pa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A browser fetches a Web page from a server 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by a request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A request is a standard HTTP request containing 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a page address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Verdana"/>
              </a:rPr>
              <a:t>A page address looks like this: 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http://www.someone.com/page.htm.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The World Wid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Verdana"/>
              </a:rPr>
              <a:t>How does the browser display the p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All Web pages contain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instructions for display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browser displays the page by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reading these instruction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most common display instructions are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HTML tag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HTML tags look like this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&lt;p&gt;This is a Paragraph&lt;/p&gt;.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The World Wid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Verdana"/>
              </a:rPr>
              <a:t>Who is making the Web stand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Web standards are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not made up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 by Netscape or Microso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rule-making body of the Web is the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3C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3C stands for the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orld Wide Web Consortium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3C puts together specifications for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standard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most essential Web standards are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HTML, CSS and XML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latest HTML standard is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XHTML 1.0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The World Wide Web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Verdana"/>
              </a:rPr>
              <a:t>What is the World Wide Web?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World Wide Web (WWW) is most often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the Web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The Web is a network of computers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all over the world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All the computers in the Web can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ommunicate with each other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All the computers use a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communication standard called HTTP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Verdana"/>
              </a:rPr>
              <a:t>The World Wid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Verdana"/>
              </a:rPr>
              <a:t>How does the  WWW work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eb information is stored in documents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page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eb pages are files stored on computers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server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Computers reading the Web pages are called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clients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Web clients view the pages with a program called a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Web browser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Verdana"/>
              </a:rPr>
              <a:t>Popular browsers are </a:t>
            </a:r>
            <a:r>
              <a:rPr b="1" sz="2400" spc="-1" strike="noStrike">
                <a:solidFill>
                  <a:srgbClr val="000000"/>
                </a:solidFill>
                <a:latin typeface="Verdana"/>
              </a:rPr>
              <a:t>Internet Explorer and Netscape Navigator</a:t>
            </a:r>
            <a:r>
              <a:rPr b="0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Times New Roman"/>
              </a:rPr>
              <a:t>Internet Applications: </a:t>
            </a:r>
            <a:br>
              <a:rPr sz="4000"/>
            </a:br>
            <a:r>
              <a:rPr b="0" lang="et-EE" sz="4000" spc="-1" strike="noStrike">
                <a:solidFill>
                  <a:srgbClr val="000000"/>
                </a:solidFill>
                <a:latin typeface="Times New Roman"/>
              </a:rPr>
              <a:t>Types, </a:t>
            </a:r>
            <a:r>
              <a:rPr b="0" lang="et-EE" sz="4000" spc="-1" strike="noStrike">
                <a:solidFill>
                  <a:srgbClr val="008000"/>
                </a:solidFill>
                <a:latin typeface="Times New Roman"/>
              </a:rPr>
              <a:t>Categories</a:t>
            </a:r>
            <a:r>
              <a:rPr b="0" lang="et-EE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t-EE" sz="4000" spc="-1" strike="noStrike">
                <a:solidFill>
                  <a:srgbClr val="3333cc"/>
                </a:solidFill>
                <a:latin typeface="Times New Roman"/>
              </a:rPr>
              <a:t>Rea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rson” to “Person” / cross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rson to web (person place independency =&gt; mobi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between =&gt; Sharing/Collaborativ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gents, Applications, Craw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1981080"/>
            <a:ext cx="2895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cc"/>
                </a:solidFill>
                <a:latin typeface="Times New Roman"/>
              </a:rPr>
              <a:t>None-s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3333cc"/>
                </a:solidFill>
                <a:latin typeface="Times New Roman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19810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42670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4648320"/>
            <a:ext cx="38102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8000"/>
                </a:solidFill>
                <a:latin typeface="Times New Roman"/>
              </a:rPr>
              <a:t>Web-Publi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8000"/>
                </a:solidFill>
                <a:latin typeface="Times New Roman"/>
              </a:rPr>
              <a:t>Web(-based)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Web Publish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k tw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Why a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coming to your si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 u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ser extremely bored and wishes to stare at a blank screen for several minutes while a flashing icon loads, then stare at the flashing icon for a few more minutes.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User wants to look at product broch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User wants to look at fancy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CD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First of all decide “why you are doing that?” and only then “what you are going to inclu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If you can anticipate user questions and make</a:t>
            </a:r>
            <a:r>
              <a:rPr b="1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sure that your site answers them, you will be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successful Web publisher.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t-E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ny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w to get fix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s of service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28:58Z</dcterms:created>
  <dc:creator>Niina</dc:creator>
  <dc:description/>
  <dc:language>en-US</dc:language>
  <cp:lastModifiedBy>DK</cp:lastModifiedBy>
  <dcterms:modified xsi:type="dcterms:W3CDTF">2006-09-26T07:51:10Z</dcterms:modified>
  <cp:revision>38</cp:revision>
  <dc:subject/>
  <dc:title>PowerPoint Presentation</dc:title>
</cp:coreProperties>
</file>