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96B-F94B-4392-A9B7-0C42507B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DDF-FDAC-4979-BC85-0587821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B6D-9D1D-4319-B508-77AB5C00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78F-FC42-41E4-B4F9-B6C1D20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C77-EB95-479D-8515-D8AE9F3B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7A5-E6E2-4D60-A404-193D3CC4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61C-620F-4F72-8359-0FCD584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278-BCC4-450B-A9F6-019BCDC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6D5-B4FB-4289-8750-6874973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948-6D9F-4387-893A-ED3F6A4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0FD-EC16-4F00-B1A4-6333DEE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F6A-D0C0-47AC-88AC-309BE68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5F7D-B2F6-455C-A70A-FC129DB8637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hyperlink" Target="http://www.ttu.ee/it/vorgutarkvara/wav3080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oeng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questions are asked by user (email, search engin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utomate routin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dd information which is constantly asked/searche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Some ad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t up some magnet cont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 technical means for collabo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prepared to interact with us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Some ad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e the web from the users point of view w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ning site's conten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 navigation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Notice that users normally are not IT ne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ers don't understand the difference between RAM and disk and further, that they don't understand the file system or directory hierarch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omputers/webs etc should simplify users’ life instead of producing trou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7760" cy="2095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1905120"/>
            <a:ext cx="51814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content static or you need to store previous months’ ne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void “entry tunnel” like “Welcome to my super homepage”: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should not be oriented to persons visiting only onc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; have links to many services and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lan links and ways back to the main page (could arrive to a random page using Google or something like th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7760" cy="209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1905120"/>
            <a:ext cx="5181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Keep site logic simple/easy to us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 If users start browsing manuals then something is wrong: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o you read manuals after buying a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Times New Roman"/>
              </a:rPr>
              <a:t>Structure content: </a:t>
            </a: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physical location by physical/logical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doc/ for documentation on the server itself, e.g., this directory sp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utorial/ for a textbook for learning photographers, with its own index page and links from each chapter back to the ind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ravel/ for travel guides to various photographic destinations. Multi-document guides with custom illustrations, e.g., maps, will have their own subdirect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echnique/ for specialized how-to documents, e.g., "taking photographs of star trails" or "macro photography". Any article that needs helper drawings will be in a subdirec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about/ for general credits (a masthead), explanations of how the site works, editorial/submission poli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Structure content: 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Use file names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void dublications: extract similar parts into a standalone file/include – organ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?: Content independent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eep the site cl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?: text only, “right” colours (Google, blo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hire a graphic des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ad graphic design is far harder on the user than no graphic design. 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remember that nobody will laugh at a plain text site and say "look at these losers who spent $50,000 on design for a content-free site.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686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school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Li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tu.ee/it/vorgutarkvara/wav3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philip.greenspun.com/sei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Interne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elve-year-old can build a nice Web application using the tools that came standard with any Linux or Windows machine. Thus it is worth asking ourselves, "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at is challenging, interesting, and inspiring about Internet-based applications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loser with a big budget, a lot of ugly graphics, and no traffi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at is the World Wide Web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orld Wide Web (WWW) is most often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he Web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is a network of computer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all over the world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in the Web ca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e with each oth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use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ion standard called HTT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  WWW work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information is stored in document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pag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pages are files stored on computer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erver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Computers reading the Web page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clien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clients view the pages with a program called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Popular browser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ternet Explorer and Netscape Navigat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Verdana"/>
              </a:rPr>
              <a:t>How does the browser fetch the p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browser fetches a Web page from a server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by a request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request is a standard HTTP request containing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a page address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page address looks like this: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ttp://www.someone.com/page.htm.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 browser display the p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Web pages contai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structions for display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browser displays the page by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reading these instruction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most common display instruction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TML tag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HTML tags look like thi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&lt;p&gt;This is a Paragraph&lt;/p&gt;.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o is making the Web 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standard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not made u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by Netscape or Microso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rule-making body of the Web is th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3C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3C stands for th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orld Wide Web Consortium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3C puts together specifications for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tandard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most essential Web standard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TML, CSS and XML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latest HTML standard i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XHTML 1.0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at is the World Wide Web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orld Wide Web (WWW) is most often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he Web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is a network of computer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all over the world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in the Web ca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e with each oth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use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ion standard called HTT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  WWW work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information is stored in document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pag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pages are files stored on computer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erver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Computers reading the Web page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clien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clients view the pages with a program called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Popular browser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ternet Explorer and Netscape Navigat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Times New Roman"/>
              </a:rPr>
              <a:t>Internet Applications: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Types, </a:t>
            </a:r>
            <a:r>
              <a:rPr b="0" lang="et-EE" sz="4000" spc="-1" strike="noStrike">
                <a:solidFill>
                  <a:srgbClr val="008000"/>
                </a:solidFill>
                <a:latin typeface="Times New Roman"/>
              </a:rPr>
              <a:t>Categories</a:t>
            </a: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rson” to “Person” / cros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rson to web (person place independency =&gt; mo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between =&gt; Sharing/Collaborativ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gents, Applications, Craw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98108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None-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9810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648320"/>
            <a:ext cx="38102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8000"/>
                </a:solidFill>
                <a:latin typeface="Times New Roman"/>
              </a:rPr>
              <a:t>Web-Publi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8000"/>
                </a:solidFill>
                <a:latin typeface="Times New Roman"/>
              </a:rPr>
              <a:t>Web(-based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eb Publish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tw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y 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oming to your si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u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ser extremely bored and wishes to stare at a blank screen for several minutes while a flashing icon loads, then stare at the flashing icon for a few more minutes.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User wants to look at product broch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User wants to look at fancy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CD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irst of all decide “why you are doing that?” and only then “what you are going to inclu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f you can anticipate user questions and make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re that your site answers them, you will be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ccessful Web publisher.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ny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w to get fix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of service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28:58Z</dcterms:created>
  <dc:creator>Niina</dc:creator>
  <dc:description/>
  <dc:language>en-US</dc:language>
  <cp:lastModifiedBy>DK</cp:lastModifiedBy>
  <dcterms:modified xsi:type="dcterms:W3CDTF">2006-09-26T07:51:10Z</dcterms:modified>
  <cp:revision>38</cp:revision>
  <dc:subject/>
  <dc:title>PowerPoint Presentation</dc:title>
</cp:coreProperties>
</file>