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E21D-1614-4EAB-AB29-D8F17381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868-B7A2-4CE9-BE9B-A271FB5C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DFB-B627-448D-8BD5-F4E4B1BC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C76-3EA6-409C-9EFA-3E425038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9EB3-4070-4A99-99DE-761B5EEC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EC90-16FC-4638-92DF-193E6DD1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7D05-2E67-4F36-925A-0ECD8527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24A5-4D06-4C67-A7A4-8DE0214E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B138-564C-4CE3-95A8-C2E8D5F4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6E1E-4FBD-48F5-8A81-4B585112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6819-F469-422E-AE21-18B9FD97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8DDD-35DA-4043-8D11-1384ACDF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5F5A-B95D-4C07-AE97-13EF483F8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IDK0040 Võrgurakendused I</a:t>
            </a:r>
            <a:br>
              <a:rPr sz="4000"/>
            </a:b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oeng 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409720"/>
            <a:ext cx="836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Times New Roman"/>
              </a:rPr>
              <a:t>Deniss Kumla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mer</a:t>
            </a: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al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ites that provide traditional information mostly created “offlin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line newspapers, offline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eople" descr=""/>
          <p:cNvPicPr/>
          <p:nvPr/>
        </p:nvPicPr>
        <p:blipFill>
          <a:blip r:embed="rId1"/>
          <a:stretch/>
        </p:blipFill>
        <p:spPr>
          <a:xfrm>
            <a:off x="1447920" y="4267080"/>
            <a:ext cx="44136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29000" y="4191120"/>
            <a:ext cx="2057400" cy="7617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057400" y="4572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533412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Icome: Subscriptions, 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Outcome: Site, traffic,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5880" y="4114800"/>
            <a:ext cx="1219320" cy="533520"/>
            <a:chOff x="6095880" y="4114800"/>
            <a:chExt cx="1219320" cy="533520"/>
          </a:xfrm>
        </p:grpSpPr>
        <p:sp>
          <p:nvSpPr>
            <p:cNvPr id="50" name=""/>
            <p:cNvSpPr/>
            <p:nvPr/>
          </p:nvSpPr>
          <p:spPr>
            <a:xfrm>
              <a:off x="6248520" y="4267080"/>
              <a:ext cx="1066680" cy="38124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4114800"/>
              <a:ext cx="1067040" cy="38088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2400" spc="-1" strike="noStrike">
                  <a:solidFill>
                    <a:srgbClr val="000000"/>
                  </a:solidFill>
                  <a:latin typeface="Times New Roman"/>
                </a:rPr>
                <a:t>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486400" y="449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51055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808080"/>
                </a:solidFill>
                <a:latin typeface="Times New Roman"/>
              </a:rPr>
              <a:t>Static, Semi-dynamic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mer</a:t>
            </a: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al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. Sites that provide collaboratively created inform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tels co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mer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eople" descr=""/>
          <p:cNvPicPr/>
          <p:nvPr/>
        </p:nvPicPr>
        <p:blipFill>
          <a:blip r:embed="rId1"/>
          <a:stretch/>
        </p:blipFill>
        <p:spPr>
          <a:xfrm>
            <a:off x="1447920" y="4267080"/>
            <a:ext cx="4413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429000" y="4191120"/>
            <a:ext cx="2057400" cy="7617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057400" y="4572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4343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438280" y="3505320"/>
            <a:ext cx="1219320" cy="532800"/>
            <a:chOff x="2438280" y="3505320"/>
            <a:chExt cx="1219320" cy="532800"/>
          </a:xfrm>
        </p:grpSpPr>
        <p:sp>
          <p:nvSpPr>
            <p:cNvPr id="61" name=""/>
            <p:cNvSpPr/>
            <p:nvPr/>
          </p:nvSpPr>
          <p:spPr>
            <a:xfrm>
              <a:off x="2590920" y="3657240"/>
              <a:ext cx="1066680" cy="38088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38280" y="3505320"/>
              <a:ext cx="1067040" cy="380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2400" spc="-1" strike="noStrike">
                  <a:solidFill>
                    <a:srgbClr val="000000"/>
                  </a:solidFill>
                  <a:latin typeface="Times New Roman"/>
                </a:rPr>
                <a:t>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095880" y="4419720"/>
            <a:ext cx="1067040" cy="380880"/>
          </a:xfrm>
          <a:prstGeom prst="foldedCorner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5105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808080"/>
                </a:solidFill>
                <a:latin typeface="Times New Roman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3526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808080"/>
                </a:solidFill>
                <a:latin typeface="Times New Roman"/>
              </a:rPr>
              <a:t>Dynamic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5334120"/>
            <a:ext cx="5715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Icome: Subscriptions, Targeted Ads, Purchases agent’s 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Outcome: Site, traffic, extra-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mer</a:t>
            </a: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al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B. Sites that provide collaboratively created inform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databases “person” to “pers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l estate: city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eople" descr=""/>
          <p:cNvPicPr/>
          <p:nvPr/>
        </p:nvPicPr>
        <p:blipFill>
          <a:blip r:embed="rId1"/>
          <a:stretch/>
        </p:blipFill>
        <p:spPr>
          <a:xfrm>
            <a:off x="1447920" y="4267080"/>
            <a:ext cx="441360" cy="457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429000" y="4191120"/>
            <a:ext cx="2057400" cy="7617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409720" y="4267080"/>
            <a:ext cx="129564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486400" y="441936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952880" y="3429000"/>
            <a:ext cx="1219320" cy="533520"/>
            <a:chOff x="4952880" y="3429000"/>
            <a:chExt cx="1219320" cy="533520"/>
          </a:xfrm>
        </p:grpSpPr>
        <p:sp>
          <p:nvSpPr>
            <p:cNvPr id="76" name=""/>
            <p:cNvSpPr/>
            <p:nvPr/>
          </p:nvSpPr>
          <p:spPr>
            <a:xfrm>
              <a:off x="5105520" y="3581280"/>
              <a:ext cx="1066680" cy="38124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52880" y="3429000"/>
              <a:ext cx="1067040" cy="38088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2400" spc="-1" strike="noStrike">
                  <a:solidFill>
                    <a:srgbClr val="000000"/>
                  </a:solidFill>
                  <a:latin typeface="Times New Roman"/>
                </a:rPr>
                <a:t>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172200" y="5105520"/>
            <a:ext cx="1066680" cy="380880"/>
          </a:xfrm>
          <a:prstGeom prst="foldedCorner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47242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4572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808080"/>
                </a:solidFill>
                <a:latin typeface="Times New Roman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053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808080"/>
                </a:solidFill>
                <a:latin typeface="Times New Roman"/>
              </a:rPr>
              <a:t>Dynamic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53341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Icome: </a:t>
            </a:r>
            <a:r>
              <a:rPr b="1" i="1" lang="et-EE" sz="2400" spc="-1" strike="noStrike">
                <a:solidFill>
                  <a:srgbClr val="000000"/>
                </a:solidFill>
                <a:latin typeface="Times New Roman"/>
              </a:rPr>
              <a:t>Subscriptions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, Targeted Ads, Outcome: Site, traffic, extra-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eople" descr=""/>
          <p:cNvPicPr/>
          <p:nvPr/>
        </p:nvPicPr>
        <p:blipFill>
          <a:blip r:embed="rId2"/>
          <a:stretch/>
        </p:blipFill>
        <p:spPr>
          <a:xfrm>
            <a:off x="6781680" y="3886200"/>
            <a:ext cx="441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2057400" y="4572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mersial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ites that provide a service via a server-side program (user-server type interaction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lan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eople" descr=""/>
          <p:cNvPicPr/>
          <p:nvPr/>
        </p:nvPicPr>
        <p:blipFill>
          <a:blip r:embed="rId1"/>
          <a:stretch/>
        </p:blipFill>
        <p:spPr>
          <a:xfrm>
            <a:off x="1447920" y="4267080"/>
            <a:ext cx="44136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429000" y="4191120"/>
            <a:ext cx="2057400" cy="7617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057400" y="4572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4343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438280" y="3505320"/>
            <a:ext cx="1219320" cy="532800"/>
            <a:chOff x="2438280" y="3505320"/>
            <a:chExt cx="1219320" cy="532800"/>
          </a:xfrm>
        </p:grpSpPr>
        <p:sp>
          <p:nvSpPr>
            <p:cNvPr id="93" name=""/>
            <p:cNvSpPr/>
            <p:nvPr/>
          </p:nvSpPr>
          <p:spPr>
            <a:xfrm>
              <a:off x="2590920" y="3657240"/>
              <a:ext cx="1066680" cy="38088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38280" y="3505320"/>
              <a:ext cx="1067040" cy="380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2400" spc="-1" strike="noStrike">
                  <a:solidFill>
                    <a:srgbClr val="000000"/>
                  </a:solidFill>
                  <a:latin typeface="Times New Roman"/>
                </a:rPr>
                <a:t>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81952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5105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808080"/>
                </a:solidFill>
                <a:latin typeface="Times New Roman"/>
              </a:rPr>
              <a:t>Static, Semi-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33526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808080"/>
                </a:solidFill>
                <a:latin typeface="Times New Roman"/>
              </a:rPr>
              <a:t>Dynamic files: </a:t>
            </a:r>
            <a:r>
              <a:rPr b="1" i="1" lang="et-EE" sz="2400" spc="-1" strike="noStrike">
                <a:solidFill>
                  <a:srgbClr val="808080"/>
                </a:solidFill>
                <a:latin typeface="Times New Roman"/>
              </a:rPr>
              <a:t>Personal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5334120"/>
            <a:ext cx="5715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Icome: Subscriptions, </a:t>
            </a:r>
            <a:r>
              <a:rPr b="1" i="1" lang="et-EE" sz="2400" spc="-1" strike="noStrike">
                <a:solidFill>
                  <a:srgbClr val="000000"/>
                </a:solidFill>
                <a:latin typeface="Times New Roman"/>
              </a:rPr>
              <a:t>Targeted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 Ads, Purchases agent’s 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Outcome: Site, traffic, extra-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172200" y="4419720"/>
            <a:ext cx="1219320" cy="532800"/>
            <a:chOff x="6172200" y="4419720"/>
            <a:chExt cx="1219320" cy="532800"/>
          </a:xfrm>
        </p:grpSpPr>
        <p:sp>
          <p:nvSpPr>
            <p:cNvPr id="101" name=""/>
            <p:cNvSpPr/>
            <p:nvPr/>
          </p:nvSpPr>
          <p:spPr>
            <a:xfrm>
              <a:off x="6324840" y="4571640"/>
              <a:ext cx="1066680" cy="38088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72200" y="4419720"/>
              <a:ext cx="1067040" cy="38052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2400" spc="-1" strike="noStrike">
                  <a:solidFill>
                    <a:srgbClr val="000000"/>
                  </a:solidFill>
                  <a:latin typeface="Times New Roman"/>
                </a:rPr>
                <a:t>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mercial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ites that provide a service by querying other hosts/databases (user-server-servers intera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eople" descr=""/>
          <p:cNvPicPr/>
          <p:nvPr/>
        </p:nvPicPr>
        <p:blipFill>
          <a:blip r:embed="rId1"/>
          <a:stretch/>
        </p:blipFill>
        <p:spPr>
          <a:xfrm>
            <a:off x="1447920" y="4267080"/>
            <a:ext cx="441360" cy="45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429000" y="4191120"/>
            <a:ext cx="2057400" cy="7617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057400" y="4572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3352680"/>
            <a:ext cx="205740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3581280"/>
            <a:ext cx="205740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562360" y="4114800"/>
            <a:ext cx="10666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333760" y="3886200"/>
            <a:ext cx="106668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5029200"/>
            <a:ext cx="609480" cy="8380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5257800"/>
            <a:ext cx="609480" cy="8380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4419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5562360" y="4723920"/>
            <a:ext cx="160020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486040" y="4952520"/>
            <a:ext cx="1523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3352680"/>
            <a:ext cx="1067040" cy="381240"/>
          </a:xfrm>
          <a:prstGeom prst="foldedCorner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808080"/>
                </a:solidFill>
                <a:latin typeface="Times New Roman"/>
              </a:rPr>
              <a:t>Online, off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44956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2400" spc="-1" strike="noStrike">
                <a:solidFill>
                  <a:srgbClr val="808080"/>
                </a:solidFill>
                <a:latin typeface="Times New Roman"/>
              </a:rPr>
              <a:t>EDI etc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657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808080"/>
                </a:solidFill>
                <a:latin typeface="Times New Roman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5181480"/>
            <a:ext cx="5715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Icome: Subscriptions, Targeted Ads, Purchases agent’s 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Outcome: </a:t>
            </a:r>
            <a:r>
              <a:rPr b="1" i="1" lang="et-EE" sz="2400" spc="-1" strike="noStrike">
                <a:solidFill>
                  <a:srgbClr val="000000"/>
                </a:solidFill>
                <a:latin typeface="Times New Roman"/>
              </a:rPr>
              <a:t>Site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, traffic, working with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mer</a:t>
            </a: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al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bin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formation needs are growing after everybody have food, home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tual and useful information is populated by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rilliant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Multiple-truth We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oo ma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ublish/collect opin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0:00:43Z</dcterms:created>
  <dc:creator>DK</dc:creator>
  <dc:description/>
  <dc:language>en-US</dc:language>
  <cp:lastModifiedBy>DK</cp:lastModifiedBy>
  <dcterms:modified xsi:type="dcterms:W3CDTF">2006-09-09T14:29:02Z</dcterms:modified>
  <cp:revision>8</cp:revision>
  <dc:subject/>
  <dc:title>IDK0040 Võrgurakendused I  loeng 02</dc:title>
</cp:coreProperties>
</file>