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2C0-4003-4290-BDB9-B73BFF28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980-2756-4143-AC71-6175791C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7C2-10E3-42BC-A4B3-5836612E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A9F-D364-420B-97AE-82256627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2F1-5AB7-4872-8DE2-12134816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FDC-C98E-4A9F-89AF-A2EF7E33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A5F-2EAF-480D-8B79-E9A8F14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734-C5D4-46CB-A27B-631A2B21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164-8010-4FF0-B6F7-1CF1A613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968-42AD-411B-87F1-BE9351D5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DE0-63FA-4EF8-8CD8-E1A0D8E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AE6-C265-4C95-B8EB-BFA2CBFF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0056-2B03-4A5B-83CD-882EF90E9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oeng 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ites that provide traditional information mostly created “off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line newspapers, offline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53341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Subscriptions, 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Outcome: Site, traffic,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5880" y="4114800"/>
            <a:ext cx="1219320" cy="533520"/>
            <a:chOff x="6095880" y="4114800"/>
            <a:chExt cx="1219320" cy="533520"/>
          </a:xfrm>
        </p:grpSpPr>
        <p:sp>
          <p:nvSpPr>
            <p:cNvPr id="50" name=""/>
            <p:cNvSpPr/>
            <p:nvPr/>
          </p:nvSpPr>
          <p:spPr>
            <a:xfrm>
              <a:off x="6248520" y="4267080"/>
              <a:ext cx="1066680" cy="38124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4114800"/>
              <a:ext cx="106704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48640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5105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, Semi-dynamic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. Sites that provide collaboratively created inform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tels co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mer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343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38280" y="3505320"/>
            <a:ext cx="1219320" cy="532800"/>
            <a:chOff x="2438280" y="3505320"/>
            <a:chExt cx="1219320" cy="532800"/>
          </a:xfrm>
        </p:grpSpPr>
        <p:sp>
          <p:nvSpPr>
            <p:cNvPr id="61" name=""/>
            <p:cNvSpPr/>
            <p:nvPr/>
          </p:nvSpPr>
          <p:spPr>
            <a:xfrm>
              <a:off x="2590920" y="3657240"/>
              <a:ext cx="106668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38280" y="3505320"/>
              <a:ext cx="1067040" cy="380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095880" y="4419720"/>
            <a:ext cx="1067040" cy="38088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352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Dynamic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334120"/>
            <a:ext cx="5715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Subscriptions, Targeted Ads, Purchases agent’s 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Outcome: Site, traffic, extra-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. Sites that provide collaboratively created inform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databases “person” to “pers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l estate: city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09720" y="4267080"/>
            <a:ext cx="129564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86400" y="441936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952880" y="3429000"/>
            <a:ext cx="1219320" cy="533520"/>
            <a:chOff x="4952880" y="3429000"/>
            <a:chExt cx="1219320" cy="533520"/>
          </a:xfrm>
        </p:grpSpPr>
        <p:sp>
          <p:nvSpPr>
            <p:cNvPr id="76" name=""/>
            <p:cNvSpPr/>
            <p:nvPr/>
          </p:nvSpPr>
          <p:spPr>
            <a:xfrm>
              <a:off x="5105520" y="3581280"/>
              <a:ext cx="1066680" cy="38124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52880" y="3429000"/>
              <a:ext cx="106704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172200" y="5105520"/>
            <a:ext cx="1066680" cy="38088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724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4572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Dynamic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</a:t>
            </a:r>
            <a:r>
              <a:rPr b="1" i="1" lang="et-EE" sz="2400" spc="-1" strike="noStrike">
                <a:solidFill>
                  <a:srgbClr val="000000"/>
                </a:solidFill>
                <a:latin typeface="Times New Roman"/>
              </a:rPr>
              <a:t>Subscriptions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, Targeted Ads, Outcome: Site, traffic, extra-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eople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s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ites that provide a service via a server-side program (user-server type interaction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34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38280" y="3505320"/>
            <a:ext cx="1219320" cy="532800"/>
            <a:chOff x="2438280" y="3505320"/>
            <a:chExt cx="1219320" cy="532800"/>
          </a:xfrm>
        </p:grpSpPr>
        <p:sp>
          <p:nvSpPr>
            <p:cNvPr id="93" name=""/>
            <p:cNvSpPr/>
            <p:nvPr/>
          </p:nvSpPr>
          <p:spPr>
            <a:xfrm>
              <a:off x="2590920" y="3657240"/>
              <a:ext cx="106668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8280" y="3505320"/>
              <a:ext cx="1067040" cy="380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8195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, Semi-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3526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Dynamic files: </a:t>
            </a:r>
            <a:r>
              <a:rPr b="1" i="1" lang="et-EE" sz="2400" spc="-1" strike="noStrike">
                <a:solidFill>
                  <a:srgbClr val="808080"/>
                </a:solidFill>
                <a:latin typeface="Times New Roman"/>
              </a:rPr>
              <a:t>Personal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5334120"/>
            <a:ext cx="5715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Subscriptions, </a:t>
            </a:r>
            <a:r>
              <a:rPr b="1" i="1" lang="et-EE" sz="2400" spc="-1" strike="noStrike">
                <a:solidFill>
                  <a:srgbClr val="000000"/>
                </a:solidFill>
                <a:latin typeface="Times New Roman"/>
              </a:rPr>
              <a:t>Targeted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 Ads, Purchases agent’s 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Outcome: Site, traffic, extra-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72200" y="4419720"/>
            <a:ext cx="1219320" cy="532800"/>
            <a:chOff x="6172200" y="4419720"/>
            <a:chExt cx="1219320" cy="532800"/>
          </a:xfrm>
        </p:grpSpPr>
        <p:sp>
          <p:nvSpPr>
            <p:cNvPr id="101" name=""/>
            <p:cNvSpPr/>
            <p:nvPr/>
          </p:nvSpPr>
          <p:spPr>
            <a:xfrm>
              <a:off x="6324840" y="4571640"/>
              <a:ext cx="106668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72200" y="4419720"/>
              <a:ext cx="1067040" cy="380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c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ites that provide a service by querying other hosts/databases (user-server-servers inter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3352680"/>
            <a:ext cx="205740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3581280"/>
            <a:ext cx="205740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62360" y="4114800"/>
            <a:ext cx="10666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33760" y="3886200"/>
            <a:ext cx="106668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5029200"/>
            <a:ext cx="609480" cy="8380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5257800"/>
            <a:ext cx="609480" cy="8380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562360" y="4723920"/>
            <a:ext cx="160020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486040" y="4952520"/>
            <a:ext cx="1523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352680"/>
            <a:ext cx="1067040" cy="38124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Online, off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4495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2400" spc="-1" strike="noStrike">
                <a:solidFill>
                  <a:srgbClr val="808080"/>
                </a:solidFill>
                <a:latin typeface="Times New Roman"/>
              </a:rPr>
              <a:t>EDI etc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1814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Subscriptions, Targeted Ads, Purchases agent’s 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Outcome: </a:t>
            </a:r>
            <a:r>
              <a:rPr b="1" i="1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, traffic, working with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bin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formation needs are growing after everybody have food, home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ual and useful information is populated by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lliant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ultiple-truth We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o 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ublish/collect opin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0:43Z</dcterms:created>
  <dc:creator>DK</dc:creator>
  <dc:description/>
  <dc:language>en-US</dc:language>
  <cp:lastModifiedBy>DK</cp:lastModifiedBy>
  <dcterms:modified xsi:type="dcterms:W3CDTF">2006-09-09T14:29:02Z</dcterms:modified>
  <cp:revision>8</cp:revision>
  <dc:subject/>
  <dc:title>IDK0040 Võrgurakendused I  loeng 02</dc:title>
</cp:coreProperties>
</file>