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2672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26720"/>
              <a:gd name="textAreaBottom" fmla="*/ 10026360 h 10026720"/>
            </a:gdLst>
            <a:ahLst/>
            <a:rect l="textAreaLeft" t="textAreaTop" r="textAreaRight" b="textAreaBottom"/>
            <a:pathLst>
              <a:path w="21600" h="27865">
                <a:moveTo>
                  <a:pt x="4" y="0"/>
                </a:moveTo>
                <a:arcTo wR="4" hR="4" stAng="16200000" swAng="-5400000"/>
                <a:lnTo>
                  <a:pt x="0" y="27861"/>
                </a:lnTo>
                <a:arcTo wR="4" hR="4" stAng="10800000" swAng="-5400000"/>
                <a:lnTo>
                  <a:pt x="21596" y="2786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2672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26720"/>
              <a:gd name="textAreaBottom" fmla="*/ 10026360 h 10026720"/>
            </a:gdLst>
            <a:ahLst/>
            <a:rect l="textAreaLeft" t="textAreaTop" r="textAreaRight" b="textAreaBottom"/>
            <a:pathLst>
              <a:path w="21600" h="27865">
                <a:moveTo>
                  <a:pt x="4" y="0"/>
                </a:moveTo>
                <a:arcTo wR="4" hR="4" stAng="16200000" swAng="-5400000"/>
                <a:lnTo>
                  <a:pt x="0" y="27861"/>
                </a:lnTo>
                <a:arcTo wR="4" hR="4" stAng="10800000" swAng="-5400000"/>
                <a:lnTo>
                  <a:pt x="21596" y="2786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58640" y="952200"/>
            <a:ext cx="5102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-2127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09240" y="4719240"/>
            <a:ext cx="540540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800" y="612720"/>
            <a:ext cx="86025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800" y="458712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800" y="612720"/>
            <a:ext cx="86025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0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800" y="612720"/>
            <a:ext cx="86025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4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8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4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800" y="612720"/>
            <a:ext cx="86025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612720"/>
            <a:ext cx="86025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800" y="612720"/>
            <a:ext cx="86025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800" y="612720"/>
            <a:ext cx="86025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800" y="612720"/>
            <a:ext cx="860256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800" y="612720"/>
            <a:ext cx="86025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800" y="612720"/>
            <a:ext cx="86025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0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800" y="612720"/>
            <a:ext cx="86025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6240" cy="7558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78040" y="1992240"/>
            <a:ext cx="9200880" cy="1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800" y="612720"/>
            <a:ext cx="86025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320" indent="-43020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640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368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52760" indent="-4305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52760" indent="-4305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52760" indent="-4305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Uus meedia...?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3262320"/>
            <a:ext cx="5580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1 2. lo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Võrgu-ajakirjandus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52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 – NY Times alustab artiklite kokkuvõtete kogumist võrgukeskk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1 – Illinoisi ülikooli võrguraamatukogu =&gt; Project Gutenberg (http://www.gutenberg.org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0-ndad – teletekst uudiseagentuur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-ndad – erinevad ligipääsupakkujad uudist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ja edasi – veebi-ajakirjand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-ndad – ajalehtede võrguversioonid, uudiseportaalid, hiljem ajaveebibu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Reaalajasuhtlus võrgus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in võib vaadelda paljusid eri lahendus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320" indent="-430200"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320" indent="-430200"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tut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320" indent="-430200"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D ja muud sarnased mäng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320" indent="-430200"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320" indent="-430200"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õnumiedastussüstee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320" indent="-430200"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itelef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IRC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kko Oikarinen 19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gis mõttes sarnaneb uudisegruppidega – jaotub temaatilisteks kanaliteks, kus suheldakse mingil teatud teemal või mis ühendavad mingit kindlat kasutajagruppi  (N: #eston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ur osa hiljem jututubades ja sõnumiprogram-mides kasutatud mõistetest ja terminites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t, ban, kick jpt) pärineb si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Jututoad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ljude „ruumidega“ (sageli kujutab korterit, linna vms) virtuaalkeskk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asemal ajal puht-tekstilised (nn telneti-jutukad), hiljem veebipõh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em puhtalt suhtlusfunktsiooniga, hilisemad lahendused kasutavad ka komplekssemat lähenemist (N. rate.e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ljudel juhtudel toimib ka „IRL“ suht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Sõnumiedastus (IM)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Q 1996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seek yo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SN Messe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ahoo! Messe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ab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Kõnesideprotokollid (VoIP)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kollide komplekt, mis võimaldab kõnesidet üle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kel ilmselt tuntuim Sk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ussid: odav, laiemad võimal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inused: esialgu kehvem töökindlus, ühilduvus-probleemid olemasolevate võrkudega, helistaja asukoha määramine raske (hädaabinumb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M vs WiF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Uudisevood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od veebilehe sisu (enamasti uudised jms kiiresti muutuv info) edastamiseks teistele veebilehtedele või vastavasse lugemistarkvara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us 1996 – Netscape (RDF) j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egu peamiselt kaks levinumat XML-il põhinevat  standardit -  RSS ja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uline komponent ajaveebide ja muude uuemate meediavormide ju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Ajaveeb (blog)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506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5000" indent="-42444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õrgupäevik või -ajaki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2444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imesed blogid olid olemas juba veebi algaegadel (Berners-Lee j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2444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õsine buum algas sajandi lõpuaastatel seoses RSS-tehnoloogia levik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2444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ur mõju ka n.ö. traditsioonilisele meediale ja vahel kogu ühiskonnale (N: Ira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2444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äga erinevaid: üldised/temaatilised, kommen-teeritavad/mittekom. , üks/mitu autorit 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Wiki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a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iki-wiki  - „kähku!“ (&lt; ingl. Quick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995 Portlandi WikiWiki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üsteem läbi anarhia“, isekorrastu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001 - Wikipedia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tkel kokku üle 2,3 miljoni sissekande,  ingliskeelses üle 700 000, eestikeelses üle 11 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Üha levinum ka muj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Summa Summarum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i mõju ühiskonnale on ilmselt märksa laiem kui sageli arvatak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siooniline meedia muutub, samuti peab muutuma senine õigussü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detavasti hakkab kvantiteet asenduma kvaliteed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b84700"/>
                </a:solidFill>
                <a:latin typeface="Times New Roman"/>
              </a:rPr>
              <a:t>New media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37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5000" indent="-42444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sti keeles siis „uus meedia“ või „uusmeedi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2444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masti mõeldakse uuemaid massimeedia arengutendentse, mis põhinevad suures osas infotehnoloogial – Internet (eriti veeb), interak-tiivne meedia, erinevad multimeedialahend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2444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aliselt kattuv termin on „sotsiaalne tarkvara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000" indent="-42444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gu paljusid teisi IT-valla „lööksõnu“ (ekspert-süsteem, multimeedia, Internet...), on ka seda üksjagu ülepromomisega lörtsitud. See aga ei vähenda asja reaalset väärtu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Võrgus leiduv info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8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õib eristada kaht liik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320" indent="-430200"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ivne – info, mida iga kasutaja võib hankida enda äranägemist mööda. Veeb, FTP, võrguandmebaasid jne. Infohankimiseks on otsimootorid j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320" indent="-430200"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ivne - „elus“, dünaamiline info, mille allikateks on erinevates võrgukogukondades osalevad inimesed. Info kogumine eeldab aktiivset suhtlemist ning saadud materjalist uue teadmise kokkupanem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ärgnevalt vaatleme erinevaid uue meedia kompo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Otsimootor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50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kvara, mis kogub infot, indekseerib seda ja võimaldab märksõnade järgi ots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6400" indent="-428760">
              <a:spcAft>
                <a:spcPts val="836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imesed katsetused 1993, esimene terviklik veebi-otsimootor oli 1994.a. Brian Pinkertoni loodud WebCraw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6400" indent="-428760">
              <a:spcAft>
                <a:spcPts val="836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5 – AltaVista (Digital Corp). Eri kee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6400" indent="-428760">
              <a:spcAft>
                <a:spcPts val="836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 – Goo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õhiline tehnika: perioodiliselt võrku „kammiv“ otsirob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lemusi saab kahjuks mõjutada (nii mootori kui veebi poole pea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Veebikataloog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ebiviidete süstematiseeritud kogum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imene tuntuim YAHOO (Yet Another Hierarc-hical Officious Oracle), alguses Jerry's Guide to the World Wide Web – D. Filo &amp; J. Yang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masti sisaldab ka mitmeid teisi teenus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detebaasi haldus on otsimootoriga võrreldes vähem automaatne – korrastamisega tegelevad inimesed (paindlik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E-postinimekiri (meililist)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Üks esimesi selle valdkonna nähtusi, tekkis varsti peale e-posti loomist 1973. aa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äga palju eri temaatika ja reeglistikuga liste, vt üht nimekirja http://www.tile.net/list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Üldised käitumisreeglid e. netik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eeri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ovitav lugemine -  http://linux.ee/~kala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Uudisegrupid (Usenet)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hiline infoedastussüsteem, pika traditsiooniga (Duke University 1980) ja paljude oluliste asjade alguse juures (WWW, Linux jpt) olnud teenus. Algselt UUCP-protokoll, hiljem TCP/IP-l toimiv I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jutab endast temaatiliste gruppide (olemuselt sarnanevad meililistidele) hierarhilist võrgustik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nevalt e-postist on nn. tõmbav meedium – kasutaja peab end huvitava info ise alla laad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imib uudiseserverite võrgustikuna. Iga serveri haldaja valib endale teenindatavad grupid, ühte serverisse mingis uudisegrupis postitatud kiri saadetakse võrgustikku pidi edasi kõigisse sama gruppi pakkuvatesse serverites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gemiseks vaja eraldi tarkvara (uudiselugejat), suur osa e-postitarkvara aga suudab lugeda ka Useneti gruppe (postitamine käib hariliku e-kirjaga). Mõned grupid on ka modereeritav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Veebifoorum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0040" indent="-4287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-ndatest pärit täiendus listidele ja uudisegruppidele – veebiliidesega arutelukeskkond. N: TOM (http://tom.riik.e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ga veebifoorumeid, mis võivad töötada (kasutaja valikul) ka uudisegrupi ja/või meili-listi vormis. N: Yahoo! Groups http://groups.yahoo.com, Google Groups http://groups.google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K</cp:lastModifiedBy>
  <dcterms:modified xsi:type="dcterms:W3CDTF">2006-09-08T15:53:53Z</dcterms:modified>
  <cp:revision>1</cp:revision>
  <dc:subject/>
  <dc:title>Uus meedia...?</dc:title>
</cp:coreProperties>
</file>