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4A4-E6AE-406B-B905-9D77F6C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1B8-C6E4-4D3D-B797-37CBA72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C6F-A0E3-43E7-BEEC-EAC103AB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FFB-63F1-4E6C-A9CF-213FD933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CBA-C0B4-473C-840C-4DC334D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F7B-2D19-4732-8BC9-5C0164DD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C53-44AB-4214-BDFA-BE57391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ED4-0615-4629-937E-5B0FCAA8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DFD-E530-49B7-B99C-11E4216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A37-FA31-4166-8492-CDE1910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06B-30CB-49CF-9FF5-51E1DFB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D2D-C0E3-4D48-BCE3-8D26601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E07-7F0A-4C69-849A-EA1C410D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hilip.greenspun.com/panda/server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tu.ee/yourname" TargetMode="External"/><Relationship Id="rId2" Type="http://schemas.openxmlformats.org/officeDocument/2006/relationships/hyperlink" Target="http://www.yourname.eu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yndns.com/" TargetMode="External"/><Relationship Id="rId2" Type="http://schemas.openxmlformats.org/officeDocument/2006/relationships/hyperlink" Target="http://www.dyndns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Building a site: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Bandwidth is cheap and getting rapidly cheaper, notably because of cable modems. Don't make too many decisions based on the assumption that users will be connecting at 56K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hilip.greenspun.com/panda/serv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you are going to concentrat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d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cycle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a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ctivities / functions to be used to produce, get, report etc the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s forms you are going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program implementing those activities, i.e. mapping data to forms and parsing parms to g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Prototype using a simple (text only?) interface and thereafter implement a graphic UI if the simple one is accepted (move from simple to 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system (files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62864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browser/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270828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 (IIS, Ap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125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-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enough 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connecting directly to DB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or direct string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00536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(PHP, A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5229360"/>
            <a:ext cx="2087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B (ORACLE, MySql, MS SQL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3640" y="46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3640" y="33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0364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Load &amp;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81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Open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A to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/ users /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/technical implementation sp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(e.g., Windows XP or Uni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-specific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nagement system (Database, files [flat]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(processor, HDD,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399960" cy="43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50472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700360" y="1989000"/>
            <a:ext cx="42552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841320" cy="79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67640" y="3789360"/>
            <a:ext cx="1055520" cy="9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885080" y="5229360"/>
            <a:ext cx="870120" cy="1153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32720" y="3429000"/>
            <a:ext cx="20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ervices remot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e server is administrated by somebody els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t-EE" sz="3200" spc="-1" strike="noStrike">
                <a:solidFill>
                  <a:srgbClr val="808080"/>
                </a:solidFill>
                <a:latin typeface="Arial"/>
              </a:rPr>
              <a:t>read controlled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just download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levels of ser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PHP or 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tu.ee/your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rname.e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.com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r + DN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PC, use (restricted)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do whatever you want on software, install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ou must administrate your site and monitor avoiding down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P provider defines what ports are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yndn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C, contro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You can open/close/control ports, gateways,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(number of users, connections, materials, appl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ed disks (RA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(firewall,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/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S /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/ 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ACLE / MS SQL Server / 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4:03:09Z</dcterms:created>
  <dc:creator>DK</dc:creator>
  <dc:description/>
  <dc:language>en-US</dc:language>
  <cp:lastModifiedBy>kumlanderd</cp:lastModifiedBy>
  <dcterms:modified xsi:type="dcterms:W3CDTF">2006-10-11T16:06:16Z</dcterms:modified>
  <cp:revision>19</cp:revision>
  <dc:subject/>
  <dc:title>Slide 1</dc:title>
</cp:coreProperties>
</file>