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42A-7833-4927-83F3-85CCEFC4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7FE-9BD4-4FEE-BD25-A549EDFC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479-7DCD-4795-A7FE-49031B87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4B8-D655-4CD5-ACB7-8B92C566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34D-5122-4B22-9539-EA7C25C4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013-69FD-47C3-91F2-117ED19F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97E-018F-4300-935B-8E873336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7FD-D31D-4410-9C08-C376EE99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BFB-DC8C-4D5B-9A95-4EBC8322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B6D-CDDE-4E6B-8375-934DCF7E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F8D-34AD-4A34-A52F-813DBA82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15D-FD25-4E42-A429-C8BFFB49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3D8D-872F-48F4-B65A-896D2FECF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hilip.greenspun.com/panda/server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tu.ee/yourname" TargetMode="External"/><Relationship Id="rId2" Type="http://schemas.openxmlformats.org/officeDocument/2006/relationships/hyperlink" Target="http://www.yourname.eu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yndns.com/" TargetMode="External"/><Relationship Id="rId2" Type="http://schemas.openxmlformats.org/officeDocument/2006/relationships/hyperlink" Target="http://www.dyndns.com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Building a site: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Bandwidth is cheap and getting rapidly cheaper, notably because of cable modems. Don't make too many decisions based on the assumption that users will be connecting at 56K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hilip.greenspun.com/panda/serv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at you are going to concentrat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do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you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cycle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 a 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activities / functions to be used to produce, get, report etc the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s forms you are going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program implementing those activities, i.e. mapping data to forms and parsing parms to ge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808080"/>
                </a:solidFill>
                <a:latin typeface="Arial"/>
              </a:rPr>
              <a:t>Prototype using a simple (text only?) interface and thereafter implement a graphic UI if the simple one is accepted (move from simple to compl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o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ed amount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 system (files 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amount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B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1628640"/>
            <a:ext cx="2087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browser/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2708280"/>
            <a:ext cx="2087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er (IIS, Ap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125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-p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(enough 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Load 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 connecting directly to DB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or direct string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4005360"/>
            <a:ext cx="2087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(PHP, A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5229360"/>
            <a:ext cx="2087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B (ORACLE, MySql, MS SQL 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203640" y="46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203640" y="335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03640" y="227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227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3500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Load &amp;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581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Open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7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A to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/ users /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/technical implementation spl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 (e.g., Windows XP or Uni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-specific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anagement system (Database, files [flat]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(processor, HDD, net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399960" cy="43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95640" y="1989000"/>
            <a:ext cx="504720" cy="428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700360" y="1989000"/>
            <a:ext cx="425520" cy="36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427640" y="2276640"/>
            <a:ext cx="841320" cy="79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67640" y="3789360"/>
            <a:ext cx="1055520" cy="939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7885080" y="5229360"/>
            <a:ext cx="870120" cy="1153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32720" y="3429000"/>
            <a:ext cx="20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services remot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te server is administrated by somebody else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t-EE" sz="3200" spc="-1" strike="noStrike">
                <a:solidFill>
                  <a:srgbClr val="808080"/>
                </a:solidFill>
                <a:latin typeface="Arial"/>
              </a:rPr>
              <a:t>read controlled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just download yo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levels of serv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PHP or 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tu.ee/your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rname.eu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/ .com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ar + DNS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 PC, use (restricted)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do whatever you want on software, install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You must administrate your site and monitor avoiding downti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P provider defines what ports are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ynamic IP add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yndn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PC, control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You can open/close/control ports, gateways,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(number of users, connections, materials, appli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ed disks (RA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 (firewall, gatew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ndows /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IS / Ap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P / 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ACLE / MS SQL Server / My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4:03:09Z</dcterms:created>
  <dc:creator>DK</dc:creator>
  <dc:description/>
  <dc:language>en-US</dc:language>
  <cp:lastModifiedBy>kumlanderd</cp:lastModifiedBy>
  <dcterms:modified xsi:type="dcterms:W3CDTF">2006-10-11T16:06:16Z</dcterms:modified>
  <cp:revision>19</cp:revision>
  <dc:subject/>
  <dc:title>Slide 1</dc:title>
</cp:coreProperties>
</file>