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0DA00-7643-4CFA-BAD8-6C8B4846F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F276-24D2-487C-81C7-FBAD9A78A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04877-FE4B-4D8E-B8DF-91A356596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093D9-C3A6-40F8-BD03-8996C191A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8FDCE-84A0-4DBB-AF5B-50C3B23D4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01462-765D-481D-892B-1EB3911A0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79A27-3685-4B1D-BA9D-45201D254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E5CC2-AD96-4B9B-9D81-E7E2A6A99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F3552-E0EE-4CA4-84B9-A1ACDA131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32211-9F0E-4B4B-B947-800CED7AB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93684-4133-4F32-8317-94E649A28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0B220-C0FA-46DB-B5B5-88D61D5AC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7BDB-8843-4CB1-A57F-28294BA04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msdn.microsoft.com/library/default.asp?url=/library/en-us/dnsiteplan/html/improvingsiteusa.asp" TargetMode="External"/><Relationship Id="rId2" Type="http://schemas.openxmlformats.org/officeDocument/2006/relationships/hyperlink" Target="http://msdn.microsoft.com/library/default.asp?url=/library/en-us/dnsiteplan/html/improvingsiteusa.asp"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msdn.microsoft.com/library/default.asp?url=/library/en-us/dnsiteplan/html/improvingsiteusa.asp" TargetMode="External"/><Relationship Id="rId2" Type="http://schemas.openxmlformats.org/officeDocument/2006/relationships/hyperlink" Target="http://msdn.microsoft.com/library/default.asp?url=/library/en-us/dnsiteplan/html/improvingsiteusa.asp"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msdn.microsoft.com/library/default.asp?url=/library/en-us/dnsiteplan/html/improvingsiteusa.asp" TargetMode="External"/><Relationship Id="rId2" Type="http://schemas.openxmlformats.org/officeDocument/2006/relationships/hyperlink" Target="http://msdn.microsoft.com/library/default.asp?url=/library/en-us/dnsiteplan/html/improvingsiteusa.asp"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IDK0040 Võrgurakendused I</a:t>
            </a:r>
            <a:br>
              <a:rPr sz="4000"/>
            </a:br>
            <a:br>
              <a:rPr sz="3200"/>
            </a:br>
            <a:r>
              <a:rPr b="0" i="1" lang="et-EE" sz="3200" spc="-1" strike="noStrike">
                <a:solidFill>
                  <a:srgbClr val="000000"/>
                </a:solidFill>
                <a:latin typeface="Arial"/>
              </a:rPr>
              <a:t>Usability I</a:t>
            </a:r>
            <a:endParaRPr b="0" lang="en-US" sz="3200" spc="-1" strike="noStrike">
              <a:solidFill>
                <a:srgbClr val="000000"/>
              </a:solidFill>
              <a:latin typeface="Arial"/>
            </a:endParaRPr>
          </a:p>
        </p:txBody>
      </p:sp>
      <p:sp>
        <p:nvSpPr>
          <p:cNvPr id="42" name="PlaceHolder 2"/>
          <p:cNvSpPr>
            <a:spLocks noGrp="1"/>
          </p:cNvSpPr>
          <p:nvPr>
            <p:ph type="subTitle"/>
          </p:nvPr>
        </p:nvSpPr>
        <p:spPr>
          <a:xfrm>
            <a:off x="324000" y="5409720"/>
            <a:ext cx="8362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Deniss Kuml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Microsoft: </a:t>
            </a:r>
            <a:r>
              <a:rPr b="0" i="1" lang="et-EE" sz="4400" spc="-1" strike="noStrike">
                <a:solidFill>
                  <a:srgbClr val="808080"/>
                </a:solidFill>
                <a:latin typeface="Arial"/>
              </a:rPr>
              <a:t>Audio and Video</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udio to offer commentary or help without obscuring information on the screen.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udio to demonstrate a piece of mus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udio to give a sense of a speaker's personalit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udio to teach the pronunciation of words</a:t>
            </a:r>
            <a:r>
              <a:rPr b="0" lang="et-EE"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audio to inform your audience about background events such as the progress of a file download or the arrival of new information. </a:t>
            </a:r>
            <a:endParaRPr b="0" lang="en-US" sz="2400" spc="-1" strike="noStrike">
              <a:solidFill>
                <a:srgbClr val="000000"/>
              </a:solidFill>
              <a:latin typeface="Arial"/>
            </a:endParaRPr>
          </a:p>
        </p:txBody>
      </p:sp>
      <p:sp>
        <p:nvSpPr>
          <p:cNvPr id="61" name=""/>
          <p:cNvSpPr/>
          <p:nvPr/>
        </p:nvSpPr>
        <p:spPr>
          <a:xfrm>
            <a:off x="430200" y="6381720"/>
            <a:ext cx="871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
              </a:rPr>
              <a:t>http://msdn.microsoft.com/library/default.asp?url=/library/en-us/</a:t>
            </a:r>
            <a:r>
              <a:rPr b="0" lang="en-GB" sz="1400" spc="-1" strike="noStrike" u="sng">
                <a:solidFill>
                  <a:srgbClr val="009999"/>
                </a:solidFill>
                <a:uFillTx/>
                <a:latin typeface="Arial"/>
                <a:hlinkClick r:id="rId2"/>
              </a:rPr>
              <a:t>dnsiteplan/html/improvingsiteusa.a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Microsoft: </a:t>
            </a:r>
            <a:r>
              <a:rPr b="0" i="1" lang="et-EE" sz="4400" spc="-1" strike="noStrike">
                <a:solidFill>
                  <a:srgbClr val="808080"/>
                </a:solidFill>
                <a:latin typeface="Arial"/>
              </a:rPr>
              <a:t>Audio and Vide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replay audio or animation introductions on repeat visits to a location.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etitive audio samples are usually annoying to people. Use subtle variations.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 people to turn on their audio before important audio segments, cues, or instructions.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sound effects, low-tone sounds (such as woodwind instruments or the cello) may be more universally palatable than high-tone sounds.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stled camera movements give the viewer a sense of precarious imbalance. Ticking clock-like sounds create a sense of urgency. Predominant use of red can indicate anger or tension. Tunnel vision and narrow or confining camera perspectives can create a good kind of claustrophobia</a:t>
            </a:r>
            <a:endParaRPr b="0" lang="en-US" sz="2000" spc="-1" strike="noStrike">
              <a:solidFill>
                <a:srgbClr val="000000"/>
              </a:solidFill>
              <a:latin typeface="Arial"/>
            </a:endParaRPr>
          </a:p>
        </p:txBody>
      </p:sp>
      <p:sp>
        <p:nvSpPr>
          <p:cNvPr id="64" name=""/>
          <p:cNvSpPr/>
          <p:nvPr/>
        </p:nvSpPr>
        <p:spPr>
          <a:xfrm>
            <a:off x="430200" y="6381720"/>
            <a:ext cx="871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
              </a:rPr>
              <a:t>http://msdn.microsoft.com/library/default.asp?url=/library/en-us/</a:t>
            </a:r>
            <a:r>
              <a:rPr b="0" lang="en-GB" sz="1400" spc="-1" strike="noStrike" u="sng">
                <a:solidFill>
                  <a:srgbClr val="009999"/>
                </a:solidFill>
                <a:uFillTx/>
                <a:latin typeface="Arial"/>
                <a:hlinkClick r:id="rId2"/>
              </a:rPr>
              <a:t>dnsiteplan/html/improvingsiteusa.a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Microsoft: </a:t>
            </a:r>
            <a:r>
              <a:rPr b="0" i="1" lang="et-EE" sz="4400" spc="-1" strike="noStrike">
                <a:solidFill>
                  <a:srgbClr val="808080"/>
                </a:solidFill>
                <a:latin typeface="Arial"/>
              </a:rPr>
              <a:t>Animation and Video</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manently moving (looping) animations should rarely be included on a Web page because they will make it very hard for your audience to concentrate on other page content. </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 suggests that movement in our peripheral vision can dominate our attention. Research also indicates that moving text is harder to read than static text. </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animation to draw the audience's attention to a single element out of several, or to alert people to updated information. </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animation to draw attention to changes from one state to another (for example, animated map area changes could indicate deforestation over time). </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video to give your audience an impression of a speaker's personality. Focus on the head. Don't use long shots. </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video to show things that move (for example, ballet, sports, demonstrations, and so forth).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430200" y="6381720"/>
            <a:ext cx="871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
              </a:rPr>
              <a:t>http://msdn.microsoft.com/library/default.asp?url=/library/en-us/</a:t>
            </a:r>
            <a:r>
              <a:rPr b="0" lang="en-GB" sz="1400" spc="-1" strike="noStrike" u="sng">
                <a:solidFill>
                  <a:srgbClr val="009999"/>
                </a:solidFill>
                <a:uFillTx/>
                <a:latin typeface="Arial"/>
                <a:hlinkClick r:id="rId2"/>
              </a:rPr>
              <a:t>dnsiteplan/html/improvingsiteusa.a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onsistency</a:t>
            </a:r>
            <a:endParaRPr b="0" lang="en-US" sz="4400" spc="-1" strike="noStrike">
              <a:solidFill>
                <a:srgbClr val="000000"/>
              </a:solidFill>
              <a:latin typeface="Arial"/>
            </a:endParaRPr>
          </a:p>
        </p:txBody>
      </p:sp>
      <p:sp>
        <p:nvSpPr>
          <p:cNvPr id="69" name="PlaceHolder 2"/>
          <p:cNvSpPr>
            <a:spLocks noGrp="1"/>
          </p:cNvSpPr>
          <p:nvPr>
            <p:ph/>
          </p:nvPr>
        </p:nvSpPr>
        <p:spPr>
          <a:xfrm>
            <a:off x="250560" y="1413000"/>
            <a:ext cx="8653320" cy="5068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hough Web-style applications allow for greater expression and freedom of design, the need for consistency still applies</a:t>
            </a:r>
            <a:r>
              <a:rPr b="0" lang="en-GB" sz="2800" spc="-1" strike="noStrike">
                <a:solidFill>
                  <a:srgbClr val="000000"/>
                </a:solidFill>
                <a:latin typeface="Arial"/>
              </a:rPr>
              <a:t>:</a:t>
            </a:r>
            <a:endParaRPr b="0" lang="en-US" sz="2800" spc="-1" strike="noStrike">
              <a:solidFill>
                <a:srgbClr val="000000"/>
              </a:solidFill>
              <a:latin typeface="Arial"/>
            </a:endParaRPr>
          </a:p>
          <a:p>
            <a:pPr marL="335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sistency with common operating system interface conventions — for example, in Windows, a navigational hyperlink is indicated when the pointer changes to the pointing hand image as the user moves over the defined link area. </a:t>
            </a:r>
            <a:endParaRPr b="0" lang="en-US" sz="2200" spc="-1" strike="noStrike">
              <a:solidFill>
                <a:srgbClr val="000000"/>
              </a:solidFill>
              <a:latin typeface="Arial"/>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sistency with de facto industry Web conventions — for example, the terms "home," "back," and "forward" already have an accepted meaning among users and should be used consistently in your application's design. </a:t>
            </a:r>
            <a:endParaRPr b="0" lang="en-US" sz="2200" spc="-1" strike="noStrike">
              <a:solidFill>
                <a:srgbClr val="000000"/>
              </a:solidFill>
              <a:latin typeface="Arial"/>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ternal consistency — layout and navigational interfaces need to be consistent from page to page. Common elements such as headers, footers, navigation aids, fonts, color, and general layout conventions should be presented in a manner consistent with their purpo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onsistenc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Page blocks should contain “equal” element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nk the information on the page into easily scannable categories so that a user can find a specific item, using headers and color, to quickly rule out areas on the page where detailed reading is not require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mmon mechanism</a:t>
            </a:r>
            <a:r>
              <a:rPr b="0" lang="et-EE" sz="3200" spc="-1" strike="noStrike">
                <a:solidFill>
                  <a:srgbClr val="000000"/>
                </a:solidFill>
                <a:latin typeface="Arial"/>
              </a:rPr>
              <a:t>s</a:t>
            </a:r>
            <a:r>
              <a:rPr b="0" lang="en-US" sz="3200" spc="-1" strike="noStrike">
                <a:solidFill>
                  <a:srgbClr val="000000"/>
                </a:solidFill>
                <a:latin typeface="Arial"/>
              </a:rPr>
              <a:t> for </a:t>
            </a:r>
            <a:r>
              <a:rPr b="0" lang="et-EE" sz="3200" spc="-1" strike="noStrike">
                <a:solidFill>
                  <a:srgbClr val="000000"/>
                </a:solidFill>
                <a:latin typeface="Arial"/>
              </a:rPr>
              <a:t>operations like</a:t>
            </a:r>
            <a:r>
              <a:rPr b="0" lang="en-US" sz="3200" spc="-1" strike="noStrike">
                <a:solidFill>
                  <a:srgbClr val="000000"/>
                </a:solidFill>
                <a:latin typeface="Arial"/>
              </a:rPr>
              <a:t> personalization </a:t>
            </a:r>
            <a:r>
              <a:rPr b="0" lang="et-EE" sz="3200" spc="-1" strike="noStrike">
                <a:solidFill>
                  <a:srgbClr val="000000"/>
                </a:solidFill>
                <a:latin typeface="Arial"/>
              </a:rPr>
              <a:t>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Multi-truth usability</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Usability is done to achieve some goals. A main question is what goals, i.e. who define tho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Sale tea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Management (product) tea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Brand tea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Development tea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Advertic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Localisation team</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200" spc="-1" strike="noStrike">
                <a:solidFill>
                  <a:srgbClr val="000000"/>
                </a:solidFill>
                <a:latin typeface="Arial"/>
              </a:rPr>
              <a:t>Content developers/publishers</a:t>
            </a: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Possible tradeof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Test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major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test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 volunteers and ask them to complete those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volunteers for a feed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se different source and compare those to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General Principl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Your skills and knowled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Users experienc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Arial"/>
              </a:rPr>
              <a:t>Different faces</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Verif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Layout and el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Consisten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Tasks flow</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	</a:t>
            </a:r>
            <a:r>
              <a:rPr b="0" lang="en-GB" sz="2800" spc="-1" strike="noStrike">
                <a:solidFill>
                  <a:srgbClr val="000000"/>
                </a:solidFill>
                <a:latin typeface="Arial"/>
              </a:rPr>
              <a:t>When you started thinking about your site, you probably had a few killer ideas about what would hook people and make them want to return to your site. These high-priority features have to grab the viewer's attention as soon as they reach the site. By using design and written languages smartly, you can give your audience a set of </a:t>
            </a:r>
            <a:r>
              <a:rPr b="1" lang="en-GB" sz="2800" spc="-1" strike="noStrike">
                <a:solidFill>
                  <a:srgbClr val="000000"/>
                </a:solidFill>
                <a:latin typeface="Arial"/>
              </a:rPr>
              <a:t>goals</a:t>
            </a:r>
            <a:r>
              <a:rPr b="0" lang="en-GB" sz="2800" spc="-1" strike="noStrike">
                <a:solidFill>
                  <a:srgbClr val="000000"/>
                </a:solidFill>
                <a:latin typeface="Arial"/>
              </a:rPr>
              <a:t> that will lead them directly to your best content or help them experience your site in the way you'd like it to be experienc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tructure</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rganize your home page/site by creating clearly distinguishable areas. Chunk information into visual groups, based on topic or functional similarity from the audience's perspective</a:t>
            </a:r>
            <a:r>
              <a:rPr b="0" lang="et-EE" sz="2200" spc="-1" strike="noStrike">
                <a:solidFill>
                  <a:srgbClr val="000000"/>
                </a:solidFill>
                <a:latin typeface="Arial"/>
              </a:rPr>
              <a:t>.</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persistent article locations so people can access information via bookmarks, even after publishing new article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tent pages should contain one conceptual unit of content. In general, people prefer to scroll to continue a single unit of content like an article, skit, or short story, rather than click from page to page of an article. If people do need to click to continue an article, the word "continue" or a small right arrow set into the context of the article have been effectiv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Navigation and Link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y not to overload your pages with navigation choices. People will stop reading options after they see 4-5 distinct choices. </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rouping choices into functional units will reduce mental effort and help people quickly interpret your whole page. </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void labeling buttons "Back," "Next," or "More." It's best to name the actual content (for example, "To page 2" or "To Bob Bejan cover story"). </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context for links whenever possible (for example, "To Bejan video clip, download = 50 seconds). </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ver make the viewer scroll to locate important navigation buttons or the focal point of a page (such as "Buy now").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Link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Arial"/>
              </a:rPr>
              <a:t>Length of a text should be relevant (is not too long is not too short)</a:t>
            </a:r>
            <a:endParaRPr b="0" lang="en-US" sz="2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links to additional high-quality information in</a:t>
            </a:r>
            <a:r>
              <a:rPr b="0" lang="et-EE" sz="2200" spc="-1" strike="noStrike">
                <a:solidFill>
                  <a:srgbClr val="000000"/>
                </a:solidFill>
                <a:latin typeface="Arial"/>
              </a:rPr>
              <a:t>side</a:t>
            </a:r>
            <a:r>
              <a:rPr b="0" lang="en-GB" sz="2200" spc="-1" strike="noStrike">
                <a:solidFill>
                  <a:srgbClr val="000000"/>
                </a:solidFill>
                <a:latin typeface="Arial"/>
              </a:rPr>
              <a:t> your </a:t>
            </a:r>
            <a:r>
              <a:rPr b="0" lang="et-EE" sz="2200" spc="-1" strike="noStrike">
                <a:solidFill>
                  <a:srgbClr val="000000"/>
                </a:solidFill>
                <a:latin typeface="Arial"/>
              </a:rPr>
              <a:t>text</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nk people directly to relevant content </a:t>
            </a:r>
            <a:r>
              <a:rPr b="0" lang="et-EE" sz="2200" spc="-1" strike="noStrike">
                <a:solidFill>
                  <a:srgbClr val="000000"/>
                </a:solidFill>
                <a:latin typeface="Arial"/>
              </a:rPr>
              <a:t>(</a:t>
            </a:r>
            <a:r>
              <a:rPr b="0" i="1" lang="et-EE" sz="2200" spc="-1" strike="noStrike">
                <a:solidFill>
                  <a:srgbClr val="000000"/>
                </a:solidFill>
                <a:latin typeface="Arial"/>
              </a:rPr>
              <a:t>a film on imdb</a:t>
            </a:r>
            <a:r>
              <a:rPr b="0" lang="et-EE" sz="2200" spc="-1" strike="noStrike">
                <a:solidFill>
                  <a:srgbClr val="000000"/>
                </a:solidFill>
                <a:latin typeface="Arial"/>
              </a:rPr>
              <a:t>) </a:t>
            </a:r>
            <a:r>
              <a:rPr b="0" lang="en-GB" sz="2200" spc="-1" strike="noStrike">
                <a:solidFill>
                  <a:srgbClr val="000000"/>
                </a:solidFill>
                <a:latin typeface="Arial"/>
              </a:rPr>
              <a:t>rather than the front page of an information resource</a:t>
            </a:r>
            <a:r>
              <a:rPr b="0" lang="et-EE" sz="2200" spc="-1" strike="noStrike">
                <a:solidFill>
                  <a:srgbClr val="000000"/>
                </a:solidFill>
                <a:latin typeface="Arial"/>
              </a:rPr>
              <a:t> (</a:t>
            </a:r>
            <a:r>
              <a:rPr b="0" i="1" lang="et-EE" sz="2200" spc="-1" strike="noStrike">
                <a:solidFill>
                  <a:srgbClr val="000000"/>
                </a:solidFill>
                <a:latin typeface="Arial"/>
              </a:rPr>
              <a:t>imdb</a:t>
            </a:r>
            <a:r>
              <a:rPr b="0" lang="et-EE" sz="2200" spc="-1" strike="noStrike">
                <a:solidFill>
                  <a:srgbClr val="000000"/>
                </a:solidFill>
                <a:latin typeface="Arial"/>
              </a:rPr>
              <a:t>)</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d a consistent icon or motif to notify people when a link will take them off your sit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Link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ways give users a clear indication of where they are and how they can get to where they want to g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provide access to a page from multiple locations, avoid the assumption that the user is coming from a single context. Label all contexts so users know where they a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Web-style applications, you can include both hyperlinks and command buttons in your interface. As a general rule, use hyperlinks for navigating to locations and buttons for carrying out a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Behaviour and Link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void page-load tricks that trap people in an endless loop when they try to use the back button to leave some part of your site.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rn people before long downloads. Attention may wander during delays as brief as 1 second. Delays of more than 10 seconds will almost certainly lead to attention los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eople will think that the system is slow if you violate their expectations, although their expectations may be naive or unrealistic. For example, people think that selecting an option from a menu should be fast. Searching through a database of 30 million terms should be slow. Let people know what to expect.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ustomis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Arial"/>
              </a:rPr>
              <a:t>If you are goint to provide a “personal” services then</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people to customize their environment </a:t>
            </a:r>
            <a:r>
              <a:rPr b="0" lang="et-EE" sz="2400" spc="-1" strike="noStrike">
                <a:solidFill>
                  <a:srgbClr val="000000"/>
                </a:solidFill>
                <a:latin typeface="Arial"/>
              </a:rPr>
              <a:t>(as there are customers with different skills and background) </a:t>
            </a:r>
            <a:r>
              <a:rPr b="0" lang="en-GB" sz="2400" spc="-1" strike="noStrike">
                <a:solidFill>
                  <a:srgbClr val="000000"/>
                </a:solidFill>
                <a:latin typeface="Arial"/>
              </a:rPr>
              <a:t>or make their environment feel uniqu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er to audience members by nam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people to speed up or customize frequent a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08:21:19Z</dcterms:created>
  <dc:creator>DK</dc:creator>
  <dc:description/>
  <dc:language>en-US</dc:language>
  <cp:lastModifiedBy>DK</cp:lastModifiedBy>
  <dcterms:modified xsi:type="dcterms:W3CDTF">2006-10-16T06:53:59Z</dcterms:modified>
  <cp:revision>14</cp:revision>
  <dc:subject/>
  <dc:title>Slide 1</dc:title>
</cp:coreProperties>
</file>