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943-3E2E-413E-B762-15BEB3E4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099-E1C6-4D61-B5DF-A70649AB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B53-989B-48A2-BA63-61B2B9F6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8D9-5EF4-42B0-8302-A0B83EBE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DAE-4CC2-4313-BDC6-2CC6001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0A9-1F44-4CED-995D-5FD1EA6C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B0A-C2F9-4A7D-AFB4-1B59DC8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68B-1725-46F0-889B-90471FF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DB9-BC93-4C14-A989-99519CEB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DA7-D90B-4737-8157-3ABE718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AF8-8122-4369-AFAA-382EC888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D5B-26C7-41FF-9FF6-22684DC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F0F-8D83-4BB4-A63E-DAE1C40630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sktog.com/basics/firstPrinciples.html" TargetMode="External"/><Relationship Id="rId2" Type="http://schemas.openxmlformats.org/officeDocument/2006/relationships/hyperlink" Target="http://www.asktog.com/basics/firstPrinciples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sktog.com/basics/firstPrinciples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Usabilit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414-732B-42F0-A7E9-D25C02BA1A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I wa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visited and unvisited link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tic colour scheme on pages of your s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on colours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B4F-3661-4FB0-A198-59F4DA3AF8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s should not have to seek out status information. Rather, they should be able to glance at their work environment and be able to gather at least a first approximation of state and work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, however, should not be over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sktog.com/basics/firstPrincipl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077-4ACA-4C3E-9FD8-B22B4319D7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aults should be easy to "blow away:" Fields containing defaults should come up selected, so users can replace the default contents with new material quickly and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aults should be "intelligent" and respo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not use the word "default" in an application or service. Replace with "Standard," "Use Customary Settings," "Restore Initial Settings," or some other more specific terms describing what will actually happen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sktog.com/basics/firstPrincipl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1C9-4CCD-4D2C-9839-AB0EF19C17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ers with dis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o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14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disabiliti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 - 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9DB-83BE-42B2-B92F-4773B31085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пользовать жес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пользовать каламбуры и симв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о указывать часовые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ть даты, явно писать месяцы (5.10.03 – пятое октября или десятое мая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ще использовать переводы на различные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языков или значки при переключении яз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11C-8F17-4686-8FBF-AEFB6D049F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at for many “unique” sites like EBay, Microsoft etc usability is “nothing” from their popularity point of view. People will come even if those sites will be damn unu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FA4-C6AD-4849-B74C-B27EC34D4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differensation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use white areas to separat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19304"/>
          <a:stretch/>
        </p:blipFill>
        <p:spPr>
          <a:xfrm>
            <a:off x="1332000" y="2205000"/>
            <a:ext cx="62118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CBD-2D1C-47A4-9458-98EFD6192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that users will try to print your page. You have to check your pages on printing – a lot of pages are “hard” to print. Use special styles for print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ormats are also used to provide printing like for example “.pdf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1BC-060A-4D30-A35C-2B850C3458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451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4391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orient and understa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a process of reading a content from a screen is 25% slower than from a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mmon to use short anno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41738"/>
          <a:stretch/>
        </p:blipFill>
        <p:spPr>
          <a:xfrm>
            <a:off x="1332000" y="3500280"/>
            <a:ext cx="621180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A88-519C-4558-9840-D6DEFF3E44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important as a pers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parson names is normall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meaning/information of the p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to add as a bookmark (favori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contains 2-6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ge should have unique name and the name should explain it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when a user is looking at the name in his fav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23049" b="5942"/>
          <a:stretch/>
        </p:blipFill>
        <p:spPr>
          <a:xfrm>
            <a:off x="5867280" y="2637000"/>
            <a:ext cx="3276720" cy="244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ge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B62-A6A8-43AA-A551-7B6D9F543A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and text should have different contrast col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is usually monotone or a low-contrast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should be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elements are anno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be justified to the left side (common western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vor black text on white or pale yellow backgrounds. Avoid gray backgr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66A-12A7-4BC3-A595-2CBB4E175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hould be shor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amp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glossary to locate a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AQ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350-2AC0-4814-96BE-4A3CCC32A6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/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on associations in addition (instead of) text / for example cart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using your own instead of common one - i.e. if users are used to use a particula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4797360"/>
            <a:ext cx="598320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8CC-F114-4F70-BD62-6B36E850BD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I am right now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location inside the site (+ it provides possibility to move back on more than 1 step just by clicking on the corresponding level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420084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656-748C-4787-BAD3-8D86735B4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1:07:44Z</dcterms:created>
  <dc:creator>DK</dc:creator>
  <dc:description/>
  <dc:language>en-US</dc:language>
  <cp:lastModifiedBy>kumlanderd</cp:lastModifiedBy>
  <dcterms:modified xsi:type="dcterms:W3CDTF">2006-10-31T17:48:26Z</dcterms:modified>
  <cp:revision>36</cp:revision>
  <dc:subject/>
  <dc:title>Usability II</dc:title>
</cp:coreProperties>
</file>