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17F-0E31-4BFC-841C-CA9925C0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EFE-09A6-4171-847D-F4C083D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A67-B65B-40BA-81ED-E2CE7B2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E75-4088-4D70-8226-4EA5DDE7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D21-9248-4FF8-B87A-74450E0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558-DE55-46C7-AD78-8C5BC92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4BD-AEFE-4524-8A74-0250445D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8EC-D864-423A-9DC5-856786F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FA-056F-4A1D-98AC-6939339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F2E-95D7-4A92-A996-34DF970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F05-4F96-4464-8D5B-9FD2029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25F-7074-4844-AE0C-540B210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786-DE10-4A52-86DD-5C0B01B486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sktog.com/basics/firstPrinciples.html" TargetMode="External"/><Relationship Id="rId2" Type="http://schemas.openxmlformats.org/officeDocument/2006/relationships/hyperlink" Target="http://www.asktog.com/basics/firstPrinciples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sktog.com/basics/firstPrinciples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Usabilit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36F-59DE-409F-94A6-BDAE432EDF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I wa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visited and unvisited link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tic colour scheme on pages of your s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on colours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337-A080-4BA8-8F02-07FCC68AA6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s should not have to seek out status information. Rather, they should be able to glance at their work environment and be able to gather at least a first approximation of state and worklo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, however, should not be over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sktog.com/basics/firstPrincipl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B40-C5CD-435B-8878-0F1185CF2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aults should be easy to "blow away:" Fields containing defaults should come up selected, so users can replace the default contents with new material quickly and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aults should be "intelligent" and respons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not use the word "default" in an application or service. Replace with "Standard," "Use Customary Settings," "Restore Initial Settings," or some other more specific terms describing what will actually happen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sktog.com/basics/firstPrincipl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34F-FF26-48CF-AC5A-9238FE6527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ers with dis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o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14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fferent disabiliti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5 - 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B29-B1F1-42E7-BA00-0F5C5FD093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пользовать жест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пользовать каламбуры и симв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о указывать часовые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ть даты, явно писать месяцы (5.10.03 – пятое октября или десятое мая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ще использовать переводы на различные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языков или значки при переключении яз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858-8088-4570-9467-A7E4396575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at for many “unique” sites like EBay, Microsoft etc usability is “nothing” from their popularity point of view. People will come even if those sites will be damn unu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4F3-A39A-4C1B-B1DC-65661648F0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differensation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use white areas to separat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19304"/>
          <a:stretch/>
        </p:blipFill>
        <p:spPr>
          <a:xfrm>
            <a:off x="1332000" y="2205000"/>
            <a:ext cx="62118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560-6C59-4757-9453-D73027E37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that users will try to print your page. You have to check your pages on printing – a lot of pages are “hard” to print. Use special styles for print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ormats are also used to provide printing like for example “.pdf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989-6679-4BFE-90D2-3F12BFC8E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451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4391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orient and understa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a process of reading a content from a screen is 25% slower than from a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mmon to use short anno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41738"/>
          <a:stretch/>
        </p:blipFill>
        <p:spPr>
          <a:xfrm>
            <a:off x="1332000" y="3500280"/>
            <a:ext cx="621180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932-2914-464E-A55E-4AB4E67613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important as a pers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parson names is normall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meaning/information of the p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to add as a bookmark (favori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contains 2-6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ge should have unique name and the name should explain it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when a user is looking at the name in his fav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23049" b="5942"/>
          <a:stretch/>
        </p:blipFill>
        <p:spPr>
          <a:xfrm>
            <a:off x="5867280" y="2637000"/>
            <a:ext cx="3276720" cy="244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ge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91F-7B8A-4283-9530-C49578C06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and text should have different contrast col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is usually monotone or a low-contrast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should be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elements are anno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be justified to the left side (common western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vor black text on white or pale yellow backgrounds. Avoid gray backgr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E99-7516-4864-8E3D-A863756DE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hould be shor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amp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glossary to locate a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AQ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BC2-22A6-4410-A00B-B027D0FA8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/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mmon associations in addition (instead of) text / for example cart be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using your own instead of common one - i.e. if users are used to use a particula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4797360"/>
            <a:ext cx="598320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632-CF21-405E-8AD9-537CF7139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I am right now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location inside the site (+ it provides possibility to move back on more than 1 step just by clicking on the corresponding level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420084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B93-D5AD-4877-9FCD-B31961444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1:07:44Z</dcterms:created>
  <dc:creator>DK</dc:creator>
  <dc:description/>
  <dc:language>en-US</dc:language>
  <cp:lastModifiedBy>kumlanderd</cp:lastModifiedBy>
  <dcterms:modified xsi:type="dcterms:W3CDTF">2006-10-31T17:48:26Z</dcterms:modified>
  <cp:revision>36</cp:revision>
  <dc:subject/>
  <dc:title>Usability II</dc:title>
</cp:coreProperties>
</file>