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DE6-16D6-4187-83DD-FF023EB5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F085-56F0-4C2B-A8D0-A7B0A6F0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118-3205-449A-B854-6B258CA3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74DF-9478-4B9E-B427-25BFB91D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3E38-9A53-41C6-9DE2-D8B5C28E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151-5398-4833-A956-A4F838F8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5FD-7E07-40BF-A812-5C635B5F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8EC-1722-4953-9C31-8C87D456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C2F-B870-4332-AE6E-3F19B4F0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017-B557-44D0-8B2A-650EC5ED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89F-3C62-4A06-A586-5837BE2B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B73-DAB4-4006-A5AA-1BE4628F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F195-CC4D-4B5A-8BF0-30EADF5A5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DK0040 Võrgurakendused I</a:t>
            </a:r>
            <a:br>
              <a:rPr sz="4000"/>
            </a:b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409720"/>
            <a:ext cx="836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Deniss Kuml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XML Data Embedded in HTML </a:t>
            </a: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(“XML Data Island”) IE on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?xml version="1.0" encoding="ISO-8859-1"?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note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to&gt;Tove&lt;/to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rom&gt;Jani&lt;/from&gt; &lt;heading&gt;Reminder&lt;/heading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body&gt;Don't forget me this weekend!&lt;/body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note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html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xml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id="note" src="note.xml"&gt;&lt;/x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&lt;table border="1" datasrc="#not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&lt;t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&lt;td&gt;&lt;span datafld="to"&gt;&lt;/span&gt;&lt;/t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&lt;td&gt;&lt;span datafld="from"&gt;&lt;/span&gt;&lt;/t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&lt;/t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&lt;/tab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/body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/html&gt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1600200" cy="1389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0" y="3200400"/>
            <a:ext cx="4130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400" spc="-1" strike="noStrike">
                <a:solidFill>
                  <a:srgbClr val="99cc00"/>
                </a:solidFill>
                <a:latin typeface="Arial"/>
              </a:rPr>
              <a:t>Just inform browser (i.e. Link xml) – the actual use is l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11480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element names in XML are not predefined, a name conflict will occur when two different documents use the same element names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or tags are the same as for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table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f:name&gt;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ork Des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/f:name&gt; &lt;f:width&gt;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/f:width&gt; &lt;f:length&gt;120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/f:length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/f:table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t-EE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 should mean a “furniture” to differenciate from some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ML 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f:table xmlns:f="http://www.</a:t>
            </a: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ttu.ee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/furniture"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f:name&gt;African Coffee Table&lt;/f:nam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f:width&gt;80&lt;/f:widt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f:length&gt;120&lt;/f:lengt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/f:table&gt;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&lt;table xmlns="http://www.</a:t>
            </a:r>
            <a:r>
              <a:rPr b="1" lang="et-EE" sz="1600" spc="-1" strike="noStrike">
                <a:solidFill>
                  <a:srgbClr val="333399"/>
                </a:solidFill>
                <a:latin typeface="Arial"/>
              </a:rPr>
              <a:t>ttu.ee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/furniture"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&lt;name&gt;African Coffee Table&lt;/nam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t-E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&lt;width&gt;80&lt;/widt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&lt;length&gt;120&lt;/lengt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stead of using only prefixes, we have added an xmlns attribute to the &lt;table&gt; tag to give the prefix a qualified name associated with a namespace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hen a namespace is defined in the start tag of an element, all child elements with the same prefix are associated with the same name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te that the address used to identify the namespace is not used by the parser to look up information. The only purpose is to give the namespace a unique name. However, very often companies use the namespace as a pointer to a real Web page containing information about the name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ML schema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DTD – </a:t>
            </a:r>
            <a:r>
              <a:rPr b="0" i="1" lang="et-EE" sz="2000" spc="-1" strike="noStrike">
                <a:solidFill>
                  <a:srgbClr val="000000"/>
                </a:solidFill>
                <a:latin typeface="Arial"/>
              </a:rPr>
              <a:t>Document typ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XML Schemas -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 XML-based alternative to DTD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DTD is included in your XML source file, it should be wrapped in a DOCTYPE definition with the following 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&lt;!DOCTYPE root-element [element-declarations]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&lt;!DOCTYPE root-element SYSTEM "filename"&gt;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Internal DTD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?xml version="1.0"?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!DOCTYPE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[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!ELEMENT note (to,from,heading,body)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!ELEMENT to (#PCDATA)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!ELEMENT from (#PCDATA)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!ELEMENT heading (#PCDATA)&gt;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!ELEMENT body (#PCDATA)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note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to&gt;Tove&lt;/to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from&gt;Jani&lt;/from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heading&gt;Reminder&lt;/heading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body&gt;Don't forget me this weekend&lt;/body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note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use a DT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DTD, each of your XML files can carry a description of its own format with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a DTD, independent groups of people can agree to use a common DTD for interchanging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application can use a standard DTD to verify that the data you receive from the outside world is val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also use a DTD to verify your own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DTD: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building b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Elements are the </a:t>
            </a: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main building blocks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 of both XML and HTML documents</a:t>
            </a:r>
            <a:r>
              <a:rPr b="0" i="1" lang="et-EE" sz="2000" spc="-1" strike="noStrike">
                <a:solidFill>
                  <a:srgbClr val="333399"/>
                </a:solidFill>
                <a:latin typeface="Arial"/>
              </a:rPr>
              <a:t>, i.e.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es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Attributes provide extra information about el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ities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Entities are variables used to define common text. Entity references are references to entities.</a:t>
            </a:r>
            <a:r>
              <a:rPr b="0" i="1" lang="et-E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Most of you will know the HTML entity reference: "&amp;nbsp;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CDATA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CDATA means parsed character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DATA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CDATA also means character data.</a:t>
            </a:r>
            <a:r>
              <a:rPr b="0" i="1" lang="et-E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CDATA is text that will NOT be parsed by a parser. Tags inside the text will NOT be treated as markup and entities will not be expa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TD: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Decl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!ELEMENT element-name categor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!ELEMENT element-name (element-content)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ele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!ELEMENT element-name EMPTY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Character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!ELEMENT element-name (#PCDATA)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373392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99cc00"/>
                </a:solidFill>
                <a:latin typeface="Arial"/>
              </a:rPr>
              <a:t>Doesn’t contain any content – for example see a html tag called </a:t>
            </a:r>
            <a:r>
              <a:rPr b="1" i="1" lang="et-EE" sz="1800" spc="-1" strike="noStrike">
                <a:solidFill>
                  <a:srgbClr val="333399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ML 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stands for 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sibl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is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kup languag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ch like HTML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nvent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scribe dat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tags are not predefined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, so developers ca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e own tags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uses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cument Type Defini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DTD) or a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XML Schem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describe the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structure of the documents’ tags and restric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is a W3C Recommen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TD: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With children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!ELEMENT element-name (child-element-name)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!ELEMENT element-name (child-element-name,child-element-name,.....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!ELEMENT note (to,from,heading,body)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Arial"/>
              </a:rPr>
              <a:t>When children are declared in a sequence separated by commas, the children must appear in the same sequence in the document. In a full declaration, the children must also be declared, and the children can also have child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TD: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ly one occurrenc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must occur and only once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!ELEMENT element-name (child-name)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!ELEMENT note (message)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Minimum one occurrence (can be more than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!ELEMENT element-name (child-name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!ELEMENT note (message+)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o or more occurr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!ELEMENT element-name (child-name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!ELEMENT note (message*)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Zero or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!ELEMENT element-name (child-name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!ELEMENT note (message?)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ither one or ano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!ELEMENT note (to,from,header,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(message|body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TD: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!ATTLIST element-name attribute-name attribute-type default-valu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!ATTLIST payment type CDATA "check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tribute-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can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Default-value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can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9880" y="3200400"/>
            <a:ext cx="4695840" cy="2009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9880" y="5715000"/>
            <a:ext cx="46958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DTD: Ent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Arial"/>
              </a:rPr>
              <a:t>Entity can be seen as a defined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nta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!ENTITY entity-name "entity-value"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TD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!ENTITY writer “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Leo Võhand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!ENTITY copyright “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T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author&gt;&amp;writer;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copyright;&lt;/author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ML Schemas: XS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Arial"/>
              </a:rPr>
              <a:t>Another, modern way to describe xm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Why instead of DT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Schemas are extensible to future ad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Schemas are richer and more powerful than DT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Schemas are written in X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Schemas support data typ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Schemas support namespa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D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xs:sche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s="http://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XMLSchema" targetNamespace="http://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 xmlns=“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...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 elementFormDefault="qualified"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note"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complexTyp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sequenc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to" type="xs:string"/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from" type="xs:string"/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heading" type="xs:string"/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body" type="xs:string"/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xs:complexTyp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&lt;/xs:schema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D: Simple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simple element is an XML element that can contain only text. It cannot contain any other elements or attributes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t-EE" sz="1600" spc="-1" strike="noStrike">
                <a:solidFill>
                  <a:srgbClr val="000000"/>
                </a:solidFill>
                <a:latin typeface="Arial"/>
              </a:rPr>
              <a:t>(but the text can be of any type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Decl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element name="xxx" type="yyy"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element name="xxx" type="yyy“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default=“zzz”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element name="xxx" type="yyy“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fixed=“zzz”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Build-in typ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s:st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s:decim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s:inte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s:boole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s:date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YYY-MM-DD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 +z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xs: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xs:date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s:ti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s:hexBin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x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e64Bin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s:anyUR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257440" y="3352680"/>
            <a:ext cx="685800" cy="5335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809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99cc00"/>
                </a:solidFill>
                <a:latin typeface="Arial"/>
              </a:rPr>
              <a:t>Value def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D: Simple element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astname&gt;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õhand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/lastname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age&gt;36&lt;/age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date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197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0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/date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XS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element name="lastname" type="xs:string"/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element name="age" type="xs:integer"/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element name="date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 type="xs:date"/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D: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ame="xxx" type="yyy"/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ame="xxx" type="yyy“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default=“zzz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ame="xxx" type="yyy“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fixed=“zzz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000000"/>
                </a:solidFill>
                <a:latin typeface="Arial"/>
              </a:rPr>
              <a:t>Note: simple elements cannot have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XSD: Restrictions</a:t>
            </a:r>
            <a:br>
              <a:rPr sz="4000"/>
            </a:b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defines a value range for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xs:element name=“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ercentage_i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xs:simpleType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restriction base="xs:integer"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xs:minInclusive value="0"/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xs:maxInclusive value="120"/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/xs:restriction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/xs:simpleTyp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/xs:element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xchang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to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ake it platform independent, i.e. Have a broader “cli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XSD: Restrictions (set)</a:t>
            </a:r>
            <a:br>
              <a:rPr sz="4000"/>
            </a:b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defines a value range for the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xs:element name="car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xs:simpleType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restriction base="xs:string"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xs:enumeration value="Audi"/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xs:enumeration value=“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V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/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xs:enumeration value="BMW"/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/xs:restriction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/xs:simpleTyp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/xs:element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XSD: Restrictions</a:t>
            </a:r>
            <a:br>
              <a:rPr sz="4000"/>
            </a:b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element name="initials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simpleType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xs:restriction base="xs:string"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xs:pattern value="[a-zA-Z][a-zA-Z][a-zA-Z][0-9]"/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xs:restriction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/xs:simpleTyp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/xs:element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: one or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: at leas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: one or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{x}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: exactly x elements (characters)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"[a-zA-Z0-9]{8}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XSD: Restriction</a:t>
            </a:r>
            <a:br>
              <a:rPr sz="4000"/>
            </a:b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xs:element name="password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xs:simpleType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xs:restriction base="xs:string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xs:minLength value="5"/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xs:maxLength value="8"/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/xs:restriction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/xs:simpleTyp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/xs:element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D: Complex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kinds of complex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ty 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ments that contain only other 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ments that contain only 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ments that contain both other elements and 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Note: complex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may contain attributes</a:t>
            </a: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Examples or xml to be described as complex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mpty element (</a:t>
            </a: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in the example the value is defined via an attribute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inventoryite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id="1345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"employee“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th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ntains only other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mploye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irstname&gt;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Deni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firstnam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lastname&gt;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umlan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&lt;position&gt;Software Architect&lt;/position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lement module th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ntains only 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ype=“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COA_Depend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&gt;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XSD: Complex element description example for an element </a:t>
            </a: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containing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Declaration: 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xs:element name="employee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complexTyp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sequence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element name="firstname" type="xs:string"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element name="lastname" type="xs:string"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element name=“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 type="xs:string"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:sequence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xs:complexTyp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xs:elemen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"/>
              </a:rPr>
              <a:t>Declaration using a “typ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xs:element name="employee" type="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inf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xs:element name=“probationer" type=“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inf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xs:complexType name="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inf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xs:sequence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element name="firstname" type="xs:string"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element name="lastname" type="xs:string"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element name=“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 type="xs:string"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xs:sequenc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xs:complexTyp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200040" y="5486400"/>
            <a:ext cx="2590920" cy="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525780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600" spc="-1" strike="noStrike">
                <a:solidFill>
                  <a:srgbClr val="99cc00"/>
                </a:solidFill>
                <a:latin typeface="Arial"/>
              </a:rPr>
              <a:t>Means ordered occurance of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371600"/>
            <a:ext cx="1981080" cy="37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99ff"/>
                </a:solidFill>
                <a:latin typeface="Arial"/>
              </a:rPr>
              <a:t>&lt;employe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99ff"/>
                </a:solidFill>
                <a:latin typeface="Arial"/>
              </a:rPr>
              <a:t>&lt;first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Den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99ff"/>
                </a:solidFill>
                <a:latin typeface="Arial"/>
              </a:rPr>
              <a:t>&lt;/first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99ff"/>
                </a:solidFill>
                <a:latin typeface="Arial"/>
              </a:rPr>
              <a:t>&lt;last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Kuml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99ff"/>
                </a:solidFill>
                <a:latin typeface="Arial"/>
              </a:rPr>
              <a:t>&lt;/last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&lt;posi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Software Archi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0" lang="et-EE" sz="1200" spc="-1" strike="noStrike">
                <a:solidFill>
                  <a:srgbClr val="0099ff"/>
                </a:solidFill>
                <a:latin typeface="Arial"/>
              </a:rPr>
              <a:t>&lt;/position&gt;</a:t>
            </a:r>
            <a:r>
              <a:rPr b="0" lang="en-GB" sz="1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99ff"/>
                </a:solidFill>
                <a:latin typeface="Arial"/>
              </a:rPr>
              <a:t>&lt;/employe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XSD: Complex element description example for the </a:t>
            </a:r>
            <a:r>
              <a:rPr b="1" lang="et-EE" sz="3600" spc="-1" strike="noStrike">
                <a:solidFill>
                  <a:srgbClr val="000000"/>
                </a:solidFill>
                <a:latin typeface="Arial"/>
              </a:rPr>
              <a:t>text only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xs:element name=“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_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"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xs:complexTyp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xs:simpleConte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Arial"/>
              </a:rPr>
              <a:t>&lt;</a:t>
            </a:r>
            <a:r>
              <a:rPr b="1" lang="en-GB" sz="1400" spc="-1" strike="noStrike">
                <a:solidFill>
                  <a:srgbClr val="0099ff"/>
                </a:solidFill>
                <a:latin typeface="Arial"/>
              </a:rPr>
              <a:t>xs:extension</a:t>
            </a:r>
            <a:r>
              <a:rPr b="0" lang="en-GB" sz="1400" spc="-1" strike="noStrike">
                <a:solidFill>
                  <a:srgbClr val="0099ff"/>
                </a:solidFill>
                <a:latin typeface="Arial"/>
              </a:rPr>
              <a:t> base=“</a:t>
            </a:r>
            <a:r>
              <a:rPr b="0" lang="et-EE" sz="1400" spc="-1" strike="noStrike">
                <a:solidFill>
                  <a:srgbClr val="0099ff"/>
                </a:solidFill>
                <a:latin typeface="Arial"/>
              </a:rPr>
              <a:t>xs:integer</a:t>
            </a:r>
            <a:r>
              <a:rPr b="0" lang="en-GB" sz="1400" spc="-1" strike="noStrike">
                <a:solidFill>
                  <a:srgbClr val="0099ff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... .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:extension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xs:simpleConte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xs:complexTyp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xs:elemen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xs:element name=“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_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"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xs:complexTyp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simpleConte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Arial"/>
              </a:rPr>
              <a:t>&lt;</a:t>
            </a:r>
            <a:r>
              <a:rPr b="1" lang="en-GB" sz="1400" spc="-1" strike="noStrike">
                <a:solidFill>
                  <a:srgbClr val="0099ff"/>
                </a:solidFill>
                <a:latin typeface="Arial"/>
              </a:rPr>
              <a:t>xs:restriction</a:t>
            </a:r>
            <a:r>
              <a:rPr b="0" lang="en-GB" sz="1400" spc="-1" strike="noStrike">
                <a:solidFill>
                  <a:srgbClr val="0099ff"/>
                </a:solidFill>
                <a:latin typeface="Arial"/>
              </a:rPr>
              <a:t> base=“</a:t>
            </a:r>
            <a:r>
              <a:rPr b="0" lang="et-EE" sz="1400" spc="-1" strike="noStrike">
                <a:solidFill>
                  <a:srgbClr val="0099ff"/>
                </a:solidFill>
                <a:latin typeface="Arial"/>
              </a:rPr>
              <a:t>xs:integer</a:t>
            </a:r>
            <a:r>
              <a:rPr b="0" lang="en-GB" sz="1400" spc="-1" strike="noStrike">
                <a:solidFill>
                  <a:srgbClr val="0099ff"/>
                </a:solidFill>
                <a:latin typeface="Arial"/>
              </a:rPr>
              <a:t>"&g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... .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:restriction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xs:simpleContent&gt; 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xs:complexTyp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xs:elemen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8195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99cc00"/>
                </a:solidFill>
                <a:latin typeface="Arial"/>
              </a:rPr>
              <a:t>Using either an extension or a restriction</a:t>
            </a:r>
            <a:r>
              <a:rPr b="0" i="1" lang="en-GB" sz="1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800240" y="3352680"/>
            <a:ext cx="1523880" cy="15242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4800240" y="2514240"/>
            <a:ext cx="1600200" cy="60948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D: Complex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&lt;xs:complexType mixed="true"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Arial"/>
              </a:rPr>
              <a:t>Means that can be something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t-EE" sz="3200" spc="-1" strike="noStrike">
                <a:solidFill>
                  <a:srgbClr val="333399"/>
                </a:solidFill>
                <a:latin typeface="Arial"/>
              </a:rPr>
              <a:t>&lt;note_body&gt; Dear &lt;customer_name&gt;Mr. Carlsson&lt;/customer_name&gt;. Your order &lt;orderid&gt;123&lt;/orderid&gt;...&lt;/note_body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Arial"/>
              </a:rPr>
              <a:t>in other words a mix of tags and text, where tags appear inside the text to give somekind extra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D: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ndicator do allow to control how elements are used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Declaration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complexType&gt; &lt;xs:</a:t>
            </a: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xxx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sequence – </a:t>
            </a:r>
            <a:r>
              <a:rPr b="0" i="1" lang="et-EE" sz="1600" spc="-1" strike="noStrike">
                <a:solidFill>
                  <a:srgbClr val="808080"/>
                </a:solidFill>
                <a:latin typeface="Arial"/>
              </a:rPr>
              <a:t>child elements should occur in the specific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all – </a:t>
            </a:r>
            <a:r>
              <a:rPr b="0" i="1" lang="et-EE" sz="1600" spc="-1" strike="noStrike">
                <a:solidFill>
                  <a:srgbClr val="808080"/>
                </a:solidFill>
                <a:latin typeface="Arial"/>
              </a:rPr>
              <a:t>any order, but all child elements should occur at least o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choice – </a:t>
            </a:r>
            <a:r>
              <a:rPr b="0" i="1" lang="et-EE" sz="1600" spc="-1" strike="noStrike">
                <a:solidFill>
                  <a:srgbClr val="808080"/>
                </a:solidFill>
                <a:latin typeface="Arial"/>
              </a:rPr>
              <a:t>either one or another element should occ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ccurance (part of the element decla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minOcc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maxOcc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:element name="child_name" type="xs:string"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maxOccurs=“</a:t>
            </a:r>
            <a:r>
              <a:rPr b="0" lang="et-EE" sz="1400" spc="-1" strike="noStrike">
                <a:solidFill>
                  <a:srgbClr val="333399"/>
                </a:solidFill>
                <a:latin typeface="Arial"/>
              </a:rPr>
              <a:t>50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0" minOccurs="0"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D: 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element enables us to extend the XML document with elements not specified by the sch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yAttribu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element enables us to extend the XML document with attributes not specified by the sch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?xml version="1.0" encoding="ISO-8859-1"?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roo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child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subchild&gt;.....&lt;/subchild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subchild&gt;.....&lt;/subchild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/chil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child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subchild&gt;.....&lt;/subchild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subchild&gt;.....&lt;/subchild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/chil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/root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SL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s an acronym f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sibl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lesheet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gu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.e. something like CSS for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SL consists of three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SLT - a language for transforming XML docu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Path - a language for navigating in XML docu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SL-FO - a language for formatting XML docu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ath is a syntax allowing navigating inside an XML doc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uses tree-like structure of XML documents and process nodes and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very similar to navigating in any folder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 have seen that in some css and html tag like </a:t>
            </a:r>
            <a:r>
              <a:rPr b="0" i="1" lang="en-US" sz="2800" spc="-1" strike="noStrike">
                <a:solidFill>
                  <a:srgbClr val="808080"/>
                </a:solidFill>
                <a:latin typeface="Arial"/>
              </a:rPr>
              <a:t>hre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r 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ath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n kinds of nodes: element, attribute, text, namespace, processing-instruction, comment, and document (root) no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ath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ent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element and attribute has one pa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employe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firstname&gt;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Deniss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/first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lastname&gt;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Kumlander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/last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&lt;position&gt;Software Architect&lt;/position&gt;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/employe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” is a parent for the “firstname”, “lastname” and “posi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ath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ildren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element can have 0, 1 or many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employe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firstname&gt;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Deniss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/first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lastname&gt;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Kumlander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/last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&lt;position&gt;Software Architect&lt;/position&gt;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/employe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name”, “lastname” and “position” are children for the “employe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ath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blings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nodes having the same pa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employe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firstname&gt;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Deniss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/first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lastname&gt;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Kumlander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/last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t-EE" sz="2000" spc="-1" strike="noStrike">
                <a:solidFill>
                  <a:srgbClr val="333399"/>
                </a:solidFill>
                <a:latin typeface="Arial"/>
              </a:rPr>
              <a:t>&lt;position&gt;Software Architect&lt;/position&gt;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&lt;/employe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name”, “lastname” and “position” are sib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ath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cestors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s’ parent, parent's parent, etc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scendants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’s children, children’s children, etc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ath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447920"/>
          <a:ext cx="8229600" cy="4527360"/>
        </p:xfrm>
        <a:graphic>
          <a:graphicData uri="http://schemas.openxmlformats.org/drawingml/2006/table">
            <a:tbl>
              <a:tblPr/>
              <a:tblGrid>
                <a:gridCol w="1828800"/>
                <a:gridCol w="64008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s all child nodes of the node, for example “employee” select all children, i.e. lastname, firstname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s from the root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s nodes in the document from the current node that match the selection no matter where they are, for example “//lastname” selects all lastnames, wherever those 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s the current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s the parent of the current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s attrib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457200" y="6172200"/>
            <a:ext cx="83059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sonnel/employee selects all “employee”s that are children of “personnel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ath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46958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ath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personnel/employee[last()-1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/employee[@branch=‘CODA Eesti'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ects all employees where attribute branch of the employee is CODA E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personnel/employee[salary&gt;10000]/last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ects personnel children employees with salary more than 10000 and returns only last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?xml version="1.0" encoding="ISO-8859-1"?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&lt;m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no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o&gt;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DK004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to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rom&gt;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T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from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heading&gt;Reminder&lt;/heading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ody&gt;Don't forget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to be at lectur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!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/no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not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o&gt;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DK004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to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rom&gt;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T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fro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heading&gt;Reminder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heading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xams are close!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no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&lt;/mail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at it was jus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roducation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SLT is the most important part of XS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SLT is used to transform an XML document into another XML document, or another type of document that is recognized by a browser, like HTML and XHTML. Normally XSLT does this by transforming each XML element into an (X)HTML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XSLT you can add/remove elements and attributes to or from the output file. You can also rearrange and sort elements, perform tests and make decisions about which elements to hide and display, and a lot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SLT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possible to say th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ML (XHTML) i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tyle sheet for XML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200400"/>
            <a:ext cx="4191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?xml-stylesheet type="text/xsl" href=“coda.xsl"?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employe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irstname&gt;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Denis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first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lastname&gt;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Kumlande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last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position&gt;Software Architect&lt;/position&g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xsl:stylesheet version="1.0" xmlns:xsl="http://www.w3.org/1999/XSL/Transform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l:template match="/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h2&gt;CODA Personnel&lt;/h2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able border="1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r bgcolor="#9acd32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h align="left"&gt;Name&lt;/t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h align="left"&gt;Position&lt;/t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l:for-each select=“personnel/employee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d&gt;&lt;xsl:value-of select=“lastname"/&gt;&lt;/td&gt;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d&gt;&lt;xsl:value-of select=“position"/&gt;&lt;/t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l:for-eac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able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l:stylesheet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057400" y="4724280"/>
            <a:ext cx="2162160" cy="11052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7467480" y="1219320"/>
            <a:ext cx="12193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a.x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connected to XS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document should contain the following string to be associated with a template, where </a:t>
            </a:r>
            <a:r>
              <a:rPr b="0" i="1" lang="en-US" sz="2800" spc="-1" strike="noStrike">
                <a:solidFill>
                  <a:srgbClr val="808080"/>
                </a:solidFill>
                <a:latin typeface="Times New Roman"/>
              </a:rPr>
              <a:t>“coda.xsl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user/defined name of the xsl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&lt;?xml-stylesheet type="text/xsl" href=“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da.xsl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"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file: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&lt;xsl:template&g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lement is used to build a tem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tc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ttribute is used to associate a template with an XML element from the “source” file. The value of the match attribute is an XPath expression (note: match="/" connects to the whole docum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&lt;xsl:template match="/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file: “for-each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XSL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&lt;xsl:for-each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lement is used to select each XML element of a specified set of no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ice that “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 is nothing else than an XPath defining the level to start selection from (elements to itera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029200"/>
            <a:ext cx="7620120" cy="146556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xsl:for-each select=“personnel/employee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r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tr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file: “value-of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&lt;xsl:value-of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lement is used to get a value of an XML element and put it to the output stre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ice that “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 is again an XPath defining an element to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4876920"/>
            <a:ext cx="7620120" cy="64260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d&gt;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xsl:value-of select=“lastname"/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td&gt;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d&gt;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xsl:value-of select=“position"/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&lt;?xml-stylesheet type="text/xsl" href=“coda.xsl"?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employe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irstname&gt;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Denis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first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lastname&gt;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Kumlande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last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position&gt;Software Architect&lt;/position&g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xsl:stylesheet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version="1.0" xmlns:xsl="http://www.w3.org/1999/XSL/Transform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xsl:template match="/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h2&gt;CODA Personnel&lt;/h2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able border="1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r bgcolor="#9acd32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h align="left"&gt;Name&lt;/t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h align="left"&gt;Position&lt;/t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xsl:for-each select=“personnel/employee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d&gt;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xsl:value-of select=“lastname"/&g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d&gt;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d&gt;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xsl:value-of select=“position"/&g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/xsl:for-each&g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able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/xsl:stylesheet&g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057400" y="4724280"/>
            <a:ext cx="2162160" cy="11052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7467480" y="1219320"/>
            <a:ext cx="12193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a.x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advance: fi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ossible to filter the output from the XML file by adding a criterion to the select attribute in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lt;xsl:for-each&g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&lt;xsl:for-each select=“personnel/employee[position=‘Developer']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ilter operators a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  (equ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!= (not equ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lt; less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gt; greater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note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333399"/>
                </a:solidFill>
                <a:latin typeface="Arial"/>
              </a:rPr>
              <a:t>date=“31.12.2006”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to&gt;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DK004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/to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from&gt;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TU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/from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heading&gt;Reminder&lt;/heading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body&gt;Don't forget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to be at lectur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&lt;/body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/not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advance: “sor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&lt;xsl:sort&g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lement is used to sort output (as XML is ordered list of items, so it is a possibility to re-order items). It is added after tag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&lt;xsl:for-each&g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pp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&lt;xsl:for-each select=“personnel/employee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&lt;xsl:sort select=“lastname"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&lt;/xsl:for-each&gt;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indicates element to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advance: “if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&lt;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sl: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&gt; element is used to put a conditional if test against the content of the XML file. It is added after the ta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&lt;xsl:for-each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pp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&lt;xsl:for-each select=“personnel/employee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&lt;xsl:if test="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</a:rPr>
              <a:t>expressio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"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&lt;/xsl:for-eac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5105520"/>
            <a:ext cx="2514600" cy="3682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lary &amp;gt; 2000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800600" y="5028840"/>
            <a:ext cx="914400" cy="22860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advance: “choo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&lt;xsl:choose&gt;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&lt;xsl:when&gt;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&lt;xsl:otherwise&gt;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used similar to “if .. then …else” construction of major programm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4038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xsl:choose&gt; 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xsl:when test="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expression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"&gt; 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.. an output ... 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/xsl:when&gt; 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xsl:otherwise&gt; 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.. an output .... 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/xsl:otherwise&gt; 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&lt;/xsl:choos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advance: ch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l:for-each select=“personnel/employee"&gt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&lt;tr&gt;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&lt;td&gt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&lt;xsl:value-of select=“lastname"/&gt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&lt;/td&gt;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xsl:choose&gt;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&lt;xsl:when test=“salary &amp;gt; 20000"&gt;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&lt;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99cc00"/>
                </a:solidFill>
                <a:latin typeface="Arial"/>
              </a:rPr>
              <a:t>&lt;b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l:value-of select=“position"/&gt;</a:t>
            </a:r>
            <a:r>
              <a:rPr b="0" lang="en-GB" sz="1600" spc="-1" strike="noStrike">
                <a:solidFill>
                  <a:srgbClr val="99cc00"/>
                </a:solidFill>
                <a:latin typeface="Arial"/>
              </a:rPr>
              <a:t>&lt;/b&gt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&lt;/td&gt;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&lt;/xsl:whe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&lt;xsl:otherwise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&lt;td&gt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&lt;xsl:value-of select=“position"/&gt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&lt;/td&gt;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&lt;/xsl:otherwis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xsl:choose&gt; 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&lt;/tr&gt;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xsl:for-each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advance: ch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l:for-each select=“personnel/employee"&gt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&lt;tr&gt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&lt;td&gt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&lt;xsl:value-of select=“lastname"/&gt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&lt;/td&gt;</a:t>
            </a:r>
            <a:br>
              <a:rPr sz="1400"/>
            </a:b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lt;xsl:choose&gt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&lt;xsl:when test=“salary &amp;gt; 20000"&gt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&lt;t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99cc00"/>
                </a:solidFill>
                <a:latin typeface="Arial"/>
              </a:rPr>
              <a:t>&lt;b&g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l:value-of select=“position"/&gt;</a:t>
            </a:r>
            <a:r>
              <a:rPr b="0" lang="en-GB" sz="1400" spc="-1" strike="noStrike">
                <a:solidFill>
                  <a:srgbClr val="99cc00"/>
                </a:solidFill>
                <a:latin typeface="Arial"/>
              </a:rPr>
              <a:t>&lt;/b&gt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&lt;/td&gt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&lt;/xsl:when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&lt;xsl:when test=“salary &amp;lt; 10000"&gt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&lt;td </a:t>
            </a:r>
            <a:r>
              <a:rPr b="0" lang="en-GB" sz="1400" spc="-1" strike="noStrike">
                <a:solidFill>
                  <a:srgbClr val="99cc00"/>
                </a:solidFill>
                <a:latin typeface="Arial"/>
              </a:rPr>
              <a:t>bgcolor=“red”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l:value-of select=“position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d&gt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&lt;/xsl:when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&lt;xsl:otherwise&gt;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&lt;td&gt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&lt;xsl:value-of select=“position"/&gt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&lt;/td&gt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&lt;/xsl:otherwis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l:choose&gt; </a:t>
            </a:r>
            <a:br>
              <a:rPr sz="1400"/>
            </a:b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&lt;/tr&gt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l:for-eac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SLT advance: copy-of and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xsl:variable name=“footer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&lt;tr&gt;&lt;td&gt;&lt;/td&gt; &lt;td&gt;property of CODA&lt;/td&gt; &lt;/t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&lt;/xsl:variab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xsl:template match="/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html&gt; &lt;body&gt; Lower salary 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able&gt;&lt;xsl:for-each select=“personnel/employes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r&gt;&lt;xsl:if test=“salary&lt;10000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d&gt;&lt;xsl:value-of select=“lastname"/&gt;&lt;/t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d&gt;&lt;xsl:value-of select=“position"/&gt;&lt;/t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l:if&gt; &lt;/t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l:for-eac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&lt;xsl:copy-of select="$footer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able&gt; &lt;br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alary 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able&gt;&lt;xsl:for-each select="table/record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r&gt; &lt;xsl:if test=“salary&gt;100000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d&gt;&lt;xsl:value-of select=“lastname"/&gt;&lt;/t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d&gt;&lt;xsl:value-of select="description"/&gt;&lt;/t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l:if&gt; &lt;/t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l:for-eac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&lt;xsl:copy-of select="$footer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table&gt; &lt;/body&gt; &lt;/html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4038480"/>
            <a:ext cx="3352680" cy="10674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Copies with children. There is also just a “copy” function that copy only the xml element without child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1980720" y="4114800"/>
            <a:ext cx="2971800" cy="45720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advance: apply-temp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xsl:apply-templat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element applies a template to the current element or to the current element's child n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elect attribute is used to define the order in which the child nodes are proc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advance: apply-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how each article title as an head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&lt;xsl:template match=“</a:t>
            </a: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article_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itle"&gt; </a:t>
            </a: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&lt;h1&gt;&lt;xsl:apply-templates/&gt;&lt;/h1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&lt;/xsl:templat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SLT advance: apply-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105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?xml-stylesheet type="text/xsl" href="coda2.xsl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employe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irstname&gt;Deniss&lt;/first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lastname&gt;Kumlander&lt;/last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position&gt;Software Architect&lt;/position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employe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irstname&gt;Veiko&lt;/first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lastname&gt;Laev&lt;/last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position&gt;Developer&lt;/position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105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xsl:stylesheet version="1.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sl="http://www.w3.org/1999/XSL/Transform"&gt;&lt;xsl:template match="/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2&gt;CODA Personnel&lt;/h2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xsl:apply-templates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xsl:template&gt;&lt;xsl:template match="employee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p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xsl:apply-templates select="position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xsl:apply-templates select="lastname"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p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xsl:template match="positio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b&gt;&lt;i&gt;Position: &lt;/i&gt;&lt;/b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xsl:value-of select="."/&gt;&lt;br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xsl:template match="lastname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b&gt;Name: &lt;/b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xsl:value-of select="."/&gt;&lt;br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0" y="4876920"/>
            <a:ext cx="1905120" cy="1552320"/>
          </a:xfrm>
          <a:prstGeom prst="rect">
            <a:avLst/>
          </a:prstGeom>
          <a:ln w="9360">
            <a:solidFill>
              <a:srgbClr val="00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void using attribu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void using attributes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f the problems with using attributes a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es cannot contain multiple values (child elements ca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es are not easily expandable (for future chang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es cannot describe structures (child elements ca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es are more difficult to manipulate by program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e values are not easy to test against a Document Type Definition (DTD) - which is used to define the legal elements of an XML doc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Initial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documents must have a root el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elements must have a closing ta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tags are case sensi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elements must be properly nes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ttribute values must always be quo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XML and 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?xml-stylesheet type="text/css" href="cd_catalog.css"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CATALOG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C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ITLE&gt;Empire Burlesque&lt;/TITLE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ARTIST&gt;Bob Dylan&lt;/ARTIS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COUNTRY&gt;USA&lt;/COUNTR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COMPANY&gt;Columbia&lt;/COMPANY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PRICE&gt;10.90&lt;/PRICE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YEAR&gt;1985&lt;/YEA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C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C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TITLE&gt;Hide your heart&lt;/TITLE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ARTIST&gt;Bonnie Tyler&lt;/ARTIST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COUNTRY&gt;UK&lt;/COUNTRY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COMPANY&gt;CBS Records&lt;/COMPANY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PRICE&gt;9.90&lt;/PRICE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YEAR&gt;1988&lt;/YEAR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C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/CATALOG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1600200"/>
            <a:ext cx="38098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TALOG { background-color: #ffffff; width: 100%; 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D { display: block; margin-bottom: 30pt; margin-left: 0; 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ITLE { color: #FF0000; font-size: 20pt; 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IST { color: #0000FF; font-size: 20pt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UNTRY,PRICE,YEAR,COMPANY { display: block; color: #000000; margin-left: 20pt; 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5238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4120" y="4114800"/>
            <a:ext cx="3305160" cy="263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22:59:12Z</dcterms:created>
  <dc:creator>kumlanderd</dc:creator>
  <dc:description/>
  <dc:language>en-US</dc:language>
  <cp:lastModifiedBy>kumlanderd</cp:lastModifiedBy>
  <dcterms:modified xsi:type="dcterms:W3CDTF">2007-10-07T13:49:51Z</dcterms:modified>
  <cp:revision>63</cp:revision>
  <dc:subject/>
  <dc:title>XML</dc:title>
</cp:coreProperties>
</file>