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3A07-DFD0-4E09-B518-61A8EE22C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5E9E-3DB0-4011-A088-BB9007D7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C111-2C65-4D11-8E0A-9038AEF90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03F0-B123-444C-BDB9-673565E60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6CF1-1FA1-4137-96D2-A62F0186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394A-892C-46C1-A05A-B40F4091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EB89-54BB-4667-A218-E2CEC34E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0265-BC29-4F2F-9581-354623DF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00D6-0E9E-4414-83E7-67C375F7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3646-6B8E-4800-8CBB-BF6B1F7A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8E98-2D65-4E21-82CB-E4BFA3A9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EEF2-ACA7-400B-A938-F6CF21FA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6A90-F4E0-47C4-9CED-424218C77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IDK0040 Võrgurakendused I</a:t>
            </a:r>
            <a:br>
              <a:rPr sz="4000"/>
            </a:br>
            <a:br>
              <a:rPr sz="3200"/>
            </a:br>
            <a:r>
              <a:rPr b="0" i="1" lang="et-EE" sz="32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5409720"/>
            <a:ext cx="836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Deniss Kumla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XML Data Embedded in HTML </a:t>
            </a: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(“XML Data Island”) IE on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?xml version="1.0" encoding="ISO-8859-1"?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note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to&gt;Tove&lt;/to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rom&gt;Jani&lt;/from&gt; &lt;heading&gt;Reminder&lt;/heading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body&gt;Don't forget me this weekend!&lt;/body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note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&lt;html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1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&lt;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xml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 id="note" src="note.xml"&gt;&lt;/x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&lt;table border="1" datasrc="#note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&lt;t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&lt;td&gt;&lt;span datafld="to"&gt;&lt;/span&gt;&lt;/t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&lt;td&gt;&lt;span datafld="from"&gt;&lt;/span&gt;&lt;/t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&lt;/t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&lt;/tabl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&lt;/body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&lt;/html&gt;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324480" y="1600200"/>
            <a:ext cx="1600200" cy="1389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0" y="3200400"/>
            <a:ext cx="4130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400" spc="-1" strike="noStrike">
                <a:solidFill>
                  <a:srgbClr val="99cc00"/>
                </a:solidFill>
                <a:latin typeface="Arial"/>
              </a:rPr>
              <a:t>Just inform browser (i.e. Link xml) – the actual use is l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114800" y="34290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XML 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nce element names in XML are not predefined, a name conflict will occur when two different documents use the same element names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or tags are the same as for 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XML 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table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f:name&gt;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Work Des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/f:name&gt; &lt;f:width&gt;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/f:width&gt; &lt;f:length&gt;120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/f:length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/f:table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t-EE" sz="32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0" i="1" lang="et-EE" sz="3200" spc="-1" strike="noStrike">
                <a:solidFill>
                  <a:srgbClr val="000000"/>
                </a:solidFill>
                <a:latin typeface="Arial"/>
              </a:rPr>
              <a:t> should mean a “furniture” to differenciate from something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XML 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&lt;f:table xmlns:f="http://www.</a:t>
            </a:r>
            <a:r>
              <a:rPr b="0" lang="et-EE" sz="1600" spc="-1" strike="noStrike">
                <a:solidFill>
                  <a:srgbClr val="333399"/>
                </a:solidFill>
                <a:latin typeface="Arial"/>
              </a:rPr>
              <a:t>ttu.ee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/furniture"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&lt;f:name&gt;African Coffee Table&lt;/f:name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&lt;f:width&gt;80&lt;/f:width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&lt;f:length&gt;120&lt;/f:length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&lt;/f:table&gt;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&lt;table xmlns="http://www.</a:t>
            </a:r>
            <a:r>
              <a:rPr b="1" lang="et-EE" sz="1600" spc="-1" strike="noStrike">
                <a:solidFill>
                  <a:srgbClr val="333399"/>
                </a:solidFill>
                <a:latin typeface="Arial"/>
              </a:rPr>
              <a:t>ttu.ee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/furniture"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&lt;name&gt;African Coffee Table&lt;/name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t-EE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&lt;width&gt;80&lt;/width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&lt;length&gt;120&lt;/length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&lt;/tab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stead of using only prefixes, we have added an xmlns attribute to the &lt;table&gt; tag to give the prefix a qualified name associated with a namespace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When a namespace is defined in the start tag of an element, all child elements with the same prefix are associated with the same name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ote that the address used to identify the namespace is not used by the parser to look up information. The only purpose is to give the namespace a unique name. However, very often companies use the namespace as a pointer to a real Web page containing information about the name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XML schema de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DTD – </a:t>
            </a:r>
            <a:r>
              <a:rPr b="0" i="1" lang="et-EE" sz="2000" spc="-1" strike="noStrike">
                <a:solidFill>
                  <a:srgbClr val="000000"/>
                </a:solidFill>
                <a:latin typeface="Arial"/>
              </a:rPr>
              <a:t>Document type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XML Schemas -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n XML-based alternative to DTD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DTD is included in your XML source file, it should be wrapped in a DOCTYPE definition with the following synta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inter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&lt;!DOCTYPE root-element [element-declarations]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&lt;!DOCTYPE root-element SYSTEM "filename"&gt;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Internal DTD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?xml version="1.0"?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!DOCTYPE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no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[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!ELEMENT note (to,from,heading,body)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!ELEMENT to (#PCDATA)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!ELEMENT from (#PCDATA)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!ELEMENT heading (#PCDATA)&gt; 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!ELEMENT body (#PCDATA)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]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note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to&gt;Tove&lt;/to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from&gt;Jani&lt;/from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heading&gt;Reminder&lt;/heading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body&gt;Don't forget me this weekend&lt;/body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note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use a DT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DTD, each of your XML files can carry a description of its own format with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a DTD, independent groups of people can agree to use a common DTD for interchanging da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application can use a standard DTD to verify that the data you receive from the outside world is vali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also use a DTD to verify your own da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Arial"/>
              </a:rPr>
              <a:t>DTD: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he building bl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ements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Elements are the </a:t>
            </a:r>
            <a:r>
              <a:rPr b="1" i="1" lang="en-GB" sz="2000" spc="-1" strike="noStrike">
                <a:solidFill>
                  <a:srgbClr val="333399"/>
                </a:solidFill>
                <a:latin typeface="Arial"/>
              </a:rPr>
              <a:t>main building blocks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 of both XML and HTML documents</a:t>
            </a:r>
            <a:r>
              <a:rPr b="0" i="1" lang="et-EE" sz="2000" spc="-1" strike="noStrike">
                <a:solidFill>
                  <a:srgbClr val="333399"/>
                </a:solidFill>
                <a:latin typeface="Arial"/>
              </a:rPr>
              <a:t>, i.e. ta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tributes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Attributes provide extra information about elem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tities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Entities are variables used to define common text. Entity references are references to entities.</a:t>
            </a:r>
            <a:r>
              <a:rPr b="0" i="1" lang="et-EE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Most of you will know the HTML entity reference: "&amp;nbsp;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CDATA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PCDATA means parsed character da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DATA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CDATA also means character data.</a:t>
            </a:r>
            <a:r>
              <a:rPr b="0" i="1" lang="et-EE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CDATA is text that will NOT be parsed by a parser. Tags inside the text will NOT be treated as markup and entities will not be expan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DTD: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Decl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lt;!ELEMENT element-name category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lt;!ELEMENT element-name (element-content)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Empty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elemen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lt;!ELEMENT element-name EMPTY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Character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lt;!ELEMENT element-name (#PCDATA)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0" y="373392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800" spc="-1" strike="noStrike">
                <a:solidFill>
                  <a:srgbClr val="99cc00"/>
                </a:solidFill>
                <a:latin typeface="Arial"/>
              </a:rPr>
              <a:t>Doesn’t contain any content – for example see a html tag called </a:t>
            </a:r>
            <a:r>
              <a:rPr b="1" i="1" lang="et-EE" sz="1800" spc="-1" strike="noStrike">
                <a:solidFill>
                  <a:srgbClr val="333399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XML i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ML stands for 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nsibl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kup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gu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ML is a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rkup languag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uch like HTML 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s 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invent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scribe dat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ML tags are not predefined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, so developers ca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fine own tags</a:t>
            </a: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ML uses 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eithe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cument Type Defini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DTD) or an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XML Schem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describe the 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structure of the documents’ tags and restrictio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ML is a W3C Recommend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DTD: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Arial"/>
              </a:rPr>
              <a:t>With children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!ELEMENT element-name (child-element-name)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!ELEMENT element-name (child-element-name,child-element-name,.....)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!ELEMENT note (to,from,heading,body)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08080"/>
                </a:solidFill>
                <a:latin typeface="Arial"/>
              </a:rPr>
              <a:t>When children are declared in a sequence separated by commas, the children must appear in the same sequence in the document. In a full declaration, the children must also be declared, and the children can also have childr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DTD: E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ly one occurrence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(must occur and only once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!ELEMENT element-name (child-name)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!ELEMENT note (message)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inimum one occurrence (can be more than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!ELEMENT element-name (child-name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+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!ELEMENT note (message+)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ro or more occurr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!ELEMENT element-name (child-name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*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!ELEMENT note (message*)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Zero or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!ELEMENT element-name (child-name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?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!ELEMENT note (message?)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Either one or anoth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!ELEMENT note (to,from,header,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(message|body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DTD: Attribu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Arial"/>
              </a:rPr>
              <a:t>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!ATTLIST element-name attribute-name attribute-type default-valu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!ATTLIST payment type CDATA "check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tribute-typ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can b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Arial"/>
              </a:rPr>
              <a:t>Default-value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can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809880" y="3200400"/>
            <a:ext cx="4695840" cy="2009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809880" y="5715000"/>
            <a:ext cx="469584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DTD: Ent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808080"/>
                </a:solidFill>
                <a:latin typeface="Arial"/>
              </a:rPr>
              <a:t>Entity can be seen as a defined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yntax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!ENTITY entity-name "entity-value"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TD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D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!ENTITY writer “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Leo Võhand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"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!ENTITY copyright “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TT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author&gt;&amp;writer;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amp;copyright;&lt;/author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XML Schemas: XS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808080"/>
                </a:solidFill>
                <a:latin typeface="Arial"/>
              </a:rPr>
              <a:t>Another, modern way to describe xm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Why instead of DT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ML Schemas are extensible to future addi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ML Schemas are richer and more powerful than DT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ML Schemas are written in XM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ML Schemas support data typ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ML Schemas support namespa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XSD: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333399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xs:sche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s="http://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XMLSchema" targetNamespace="http://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" xmlns=“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...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" elementFormDefault="qualified"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element name="note"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complexType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sequence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element name="to" type="xs:string"/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element name="from" type="xs:string"/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element name="heading" type="xs:string"/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element name="body" type="xs:string"/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xs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xs:complexType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xs:elem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&lt;/xs:schema&gt;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XSD: Simple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 simple element is an XML element that can contain only text. It cannot contain any other elements or attributes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t-EE" sz="1600" spc="-1" strike="noStrike">
                <a:solidFill>
                  <a:srgbClr val="000000"/>
                </a:solidFill>
                <a:latin typeface="Arial"/>
              </a:rPr>
              <a:t>(but the text can be of any type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Decla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xs:element name="xxx" type="yyy"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xs:element name="xxx" type="yyy“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default=“zzz”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xs:element name="xxx" type="yyy“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fixed=“zzz”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Build-in typ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s:str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s:decim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s:integ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s:boole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s:date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YYY-MM-DD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+zo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xs: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xs:date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s:ti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s:hexBin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xs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se64Bin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s:anyUR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5257440" y="3352680"/>
            <a:ext cx="685800" cy="53352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38098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800" spc="-1" strike="noStrike">
                <a:solidFill>
                  <a:srgbClr val="99cc00"/>
                </a:solidFill>
                <a:latin typeface="Arial"/>
              </a:rPr>
              <a:t>Value defi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XSD: Simple element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M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lastname&gt;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Võhand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/lastname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age&gt;36&lt;/age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date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pro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197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0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0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/date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pro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XS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xs:element name="lastname" type="xs:string"/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xs:element name="age" type="xs:integer"/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xs:element name="date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pro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 type="xs:date"/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XSD: Attribu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Decl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xs: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ttribu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name="xxx" type="yyy"/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xs: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ttribu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name="xxx" type="yyy“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default=“zzz”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xs: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ttribu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name="xxx" type="yyy“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fixed=“zzz”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800" spc="-1" strike="noStrike">
                <a:solidFill>
                  <a:srgbClr val="000000"/>
                </a:solidFill>
                <a:latin typeface="Arial"/>
              </a:rPr>
              <a:t>Note: simple elements cannot have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XSD: Restrictions</a:t>
            </a:r>
            <a:br>
              <a:rPr sz="4000"/>
            </a:br>
            <a:r>
              <a:rPr b="0" i="1" lang="et-EE" sz="3200" spc="-1" strike="noStrike">
                <a:solidFill>
                  <a:srgbClr val="000000"/>
                </a:solidFill>
                <a:latin typeface="Arial"/>
              </a:rPr>
              <a:t>defines a value range for a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xs:element name=“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percentage_i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lt;xs:simpleType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xs:restriction base="xs:integer"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xs:minInclusive value="0"/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xs:maxInclusive value="120"/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/xs:restriction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lt;/xs:simpleTyp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/xs:element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xchang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to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Make it platform independent, i.e. Have a broader “cli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XSD: Restrictions (set)</a:t>
            </a:r>
            <a:br>
              <a:rPr sz="4000"/>
            </a:br>
            <a:r>
              <a:rPr b="0" i="1" lang="et-EE" sz="3200" spc="-1" strike="noStrike">
                <a:solidFill>
                  <a:srgbClr val="000000"/>
                </a:solidFill>
                <a:latin typeface="Arial"/>
              </a:rPr>
              <a:t>defines a value range for the 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xs:element name="car"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lt;xs:simpleType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xs:restriction base="xs:string"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xs:enumeration value="Audi"/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xs:enumeration value=“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V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"/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xs:enumeration value="BMW"/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/xs:restriction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lt;/xs:simpleTyp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/xs:element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XSD: Restrictions</a:t>
            </a:r>
            <a:br>
              <a:rPr sz="4000"/>
            </a:br>
            <a:r>
              <a:rPr b="0" i="1" lang="et-EE" sz="3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xs:element name="initials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xs:simpleType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xs:restriction base="xs:string"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xs:pattern value="[a-zA-Z][a-zA-Z][a-zA-Z][0-9]"/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xs:restriction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/xs:simpleTyp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/xs:element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333399"/>
                </a:solidFill>
                <a:latin typeface="Arial"/>
              </a:rPr>
              <a:t>*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: one or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333399"/>
                </a:solidFill>
                <a:latin typeface="Arial"/>
              </a:rPr>
              <a:t>+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: at least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: one or 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333399"/>
                </a:solidFill>
                <a:latin typeface="Arial"/>
              </a:rPr>
              <a:t>{x}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: exactly x elements (characters)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"[a-zA-Z0-9]{8}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XSD: Restriction</a:t>
            </a:r>
            <a:br>
              <a:rPr sz="4000"/>
            </a:br>
            <a:r>
              <a:rPr b="0" i="1" lang="et-EE" sz="32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xs:element name="password"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lt;xs:simpleType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xs:restriction base="xs:string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xs:minLength value="5"/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xs:maxLength value="8"/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/xs:restriction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lt;/xs:simpleTyp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/xs:element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XSD: Complex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kinds of complex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pty el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ements that contain only other el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ements that contain only tex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ements that contain both other elements and tex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Arial"/>
              </a:rPr>
              <a:t>Note: complex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element</a:t>
            </a:r>
            <a:r>
              <a:rPr b="0" i="1" lang="et-EE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may contain attributes</a:t>
            </a:r>
            <a:r>
              <a:rPr b="0" i="1" lang="et-EE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Examples or xml to be described as complex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Empty element (</a:t>
            </a:r>
            <a:r>
              <a:rPr b="0" i="1" lang="et-EE" sz="1800" spc="-1" strike="noStrike">
                <a:solidFill>
                  <a:srgbClr val="000000"/>
                </a:solidFill>
                <a:latin typeface="Arial"/>
              </a:rPr>
              <a:t>in the example the value is defined via an attribute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inventoryite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id="1345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"employee“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tha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ontains only other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mploye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irstname&gt;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Denis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firstnam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lastname&gt;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Kumland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last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&lt;position&gt;Software Architect&lt;/position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employe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Element module tha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ontains only tex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modu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ype=“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COA_Depende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"&gt;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Alloc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modu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XSD: Complex element description example for an element 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containing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Arial"/>
              </a:rPr>
              <a:t>Declaration: di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xs:element name="employee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complexType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xs:sequence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xs:element name="firstname" type="xs:string"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xs:element name="lastname" type="xs:string"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xs:element name=“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positi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" type="xs:string"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xs:sequence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xs:complexType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xs:element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Arial"/>
              </a:rPr>
              <a:t>Declaration using a “typ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xs:element name="employee" type="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soninf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xs:element name=“probationer" type=“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soninf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xs:complexType name="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soninf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&lt;xs:sequence&gt;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xs:element name="firstname" type="xs:string"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xs:element name="lastname" type="xs:string"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xs:element name=“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positi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" type="xs:string"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xs:sequence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xs:complexTyp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200040" y="5486400"/>
            <a:ext cx="2590920" cy="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5257800"/>
            <a:ext cx="259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600" spc="-1" strike="noStrike">
                <a:solidFill>
                  <a:srgbClr val="99cc00"/>
                </a:solidFill>
                <a:latin typeface="Arial"/>
              </a:rPr>
              <a:t>Means ordered occurance of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1371600"/>
            <a:ext cx="1981080" cy="374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99ff"/>
                </a:solidFill>
                <a:latin typeface="Arial"/>
              </a:rPr>
              <a:t>&lt;employe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99ff"/>
                </a:solidFill>
                <a:latin typeface="Arial"/>
              </a:rPr>
              <a:t>&lt;firstna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99ff"/>
                </a:solidFill>
                <a:latin typeface="Arial"/>
              </a:rPr>
              <a:t>        </a:t>
            </a:r>
            <a:r>
              <a:rPr b="0" lang="et-EE" sz="1200" spc="-1" strike="noStrike">
                <a:solidFill>
                  <a:srgbClr val="0099ff"/>
                </a:solidFill>
                <a:latin typeface="Arial"/>
              </a:rPr>
              <a:t>Den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99ff"/>
                </a:solidFill>
                <a:latin typeface="Arial"/>
              </a:rPr>
              <a:t>&lt;/firstna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99ff"/>
                </a:solidFill>
                <a:latin typeface="Arial"/>
              </a:rPr>
              <a:t>&lt;lastna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99ff"/>
                </a:solidFill>
                <a:latin typeface="Arial"/>
              </a:rPr>
              <a:t>        </a:t>
            </a:r>
            <a:r>
              <a:rPr b="0" lang="et-EE" sz="1200" spc="-1" strike="noStrike">
                <a:solidFill>
                  <a:srgbClr val="0099ff"/>
                </a:solidFill>
                <a:latin typeface="Arial"/>
              </a:rPr>
              <a:t>Kuml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99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99ff"/>
                </a:solidFill>
                <a:latin typeface="Arial"/>
              </a:rPr>
              <a:t>&lt;/lastna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99ff"/>
                </a:solidFill>
                <a:latin typeface="Arial"/>
              </a:rPr>
              <a:t>   </a:t>
            </a:r>
            <a:r>
              <a:rPr b="0" lang="et-EE" sz="1200" spc="-1" strike="noStrike">
                <a:solidFill>
                  <a:srgbClr val="0099ff"/>
                </a:solidFill>
                <a:latin typeface="Arial"/>
              </a:rPr>
              <a:t>&lt;posi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99ff"/>
                </a:solidFill>
                <a:latin typeface="Arial"/>
              </a:rPr>
              <a:t>         </a:t>
            </a:r>
            <a:r>
              <a:rPr b="0" lang="et-EE" sz="1200" spc="-1" strike="noStrike">
                <a:solidFill>
                  <a:srgbClr val="0099ff"/>
                </a:solidFill>
                <a:latin typeface="Arial"/>
              </a:rPr>
              <a:t>Software Archit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99ff"/>
                </a:solidFill>
                <a:latin typeface="Arial"/>
              </a:rPr>
              <a:t>    </a:t>
            </a:r>
            <a:r>
              <a:rPr b="0" lang="et-EE" sz="1200" spc="-1" strike="noStrike">
                <a:solidFill>
                  <a:srgbClr val="0099ff"/>
                </a:solidFill>
                <a:latin typeface="Arial"/>
              </a:rPr>
              <a:t>&lt;/position&gt;</a:t>
            </a:r>
            <a:r>
              <a:rPr b="0" lang="en-GB" sz="12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99ff"/>
                </a:solidFill>
                <a:latin typeface="Arial"/>
              </a:rPr>
              <a:t>&lt;/employe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XSD: Complex element description example for the </a:t>
            </a:r>
            <a:r>
              <a:rPr b="1" lang="et-EE" sz="3600" spc="-1" strike="noStrike">
                <a:solidFill>
                  <a:srgbClr val="000000"/>
                </a:solidFill>
                <a:latin typeface="Arial"/>
              </a:rPr>
              <a:t>text only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el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xs:element name=“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a_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"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xs:complexTyp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&lt;xs:simpleContent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80000"/>
              </a:lnSpc>
              <a:spcBef>
                <a:spcPts val="349"/>
              </a:spcBef>
              <a:buClr>
                <a:srgbClr val="00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Arial"/>
              </a:rPr>
              <a:t>&lt;</a:t>
            </a:r>
            <a:r>
              <a:rPr b="1" lang="en-GB" sz="1400" spc="-1" strike="noStrike">
                <a:solidFill>
                  <a:srgbClr val="0099ff"/>
                </a:solidFill>
                <a:latin typeface="Arial"/>
              </a:rPr>
              <a:t>xs:extension</a:t>
            </a:r>
            <a:r>
              <a:rPr b="0" lang="en-GB" sz="1400" spc="-1" strike="noStrike">
                <a:solidFill>
                  <a:srgbClr val="0099ff"/>
                </a:solidFill>
                <a:latin typeface="Arial"/>
              </a:rPr>
              <a:t> base=“</a:t>
            </a:r>
            <a:r>
              <a:rPr b="0" lang="et-EE" sz="1400" spc="-1" strike="noStrike">
                <a:solidFill>
                  <a:srgbClr val="0099ff"/>
                </a:solidFill>
                <a:latin typeface="Arial"/>
              </a:rPr>
              <a:t>xs:integer</a:t>
            </a:r>
            <a:r>
              <a:rPr b="0" lang="en-GB" sz="1400" spc="-1" strike="noStrike">
                <a:solidFill>
                  <a:srgbClr val="0099ff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... .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xs:extension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xs:simpleContent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xs:complexTyp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xs:element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xs:element name=“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a_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"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xs:complexTyp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simpleContent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80000"/>
              </a:lnSpc>
              <a:spcBef>
                <a:spcPts val="349"/>
              </a:spcBef>
              <a:buClr>
                <a:srgbClr val="00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Arial"/>
              </a:rPr>
              <a:t>&lt;</a:t>
            </a:r>
            <a:r>
              <a:rPr b="1" lang="en-GB" sz="1400" spc="-1" strike="noStrike">
                <a:solidFill>
                  <a:srgbClr val="0099ff"/>
                </a:solidFill>
                <a:latin typeface="Arial"/>
              </a:rPr>
              <a:t>xs:restriction</a:t>
            </a:r>
            <a:r>
              <a:rPr b="0" lang="en-GB" sz="1400" spc="-1" strike="noStrike">
                <a:solidFill>
                  <a:srgbClr val="0099ff"/>
                </a:solidFill>
                <a:latin typeface="Arial"/>
              </a:rPr>
              <a:t> base=“</a:t>
            </a:r>
            <a:r>
              <a:rPr b="0" lang="et-EE" sz="1400" spc="-1" strike="noStrike">
                <a:solidFill>
                  <a:srgbClr val="0099ff"/>
                </a:solidFill>
                <a:latin typeface="Arial"/>
              </a:rPr>
              <a:t>xs:integer</a:t>
            </a:r>
            <a:r>
              <a:rPr b="0" lang="en-GB" sz="1400" spc="-1" strike="noStrike">
                <a:solidFill>
                  <a:srgbClr val="0099ff"/>
                </a:solidFill>
                <a:latin typeface="Arial"/>
              </a:rPr>
              <a:t>"&gt;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... .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xs:restriction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xs:simpleContent&gt; 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xs:complexTyp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xs:element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281952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800" spc="-1" strike="noStrike">
                <a:solidFill>
                  <a:srgbClr val="99cc00"/>
                </a:solidFill>
                <a:latin typeface="Arial"/>
              </a:rPr>
              <a:t>Using either an extension or a restriction</a:t>
            </a:r>
            <a:r>
              <a:rPr b="0" i="1" lang="en-GB" sz="1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800240" y="3352680"/>
            <a:ext cx="1523880" cy="152424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4800240" y="2514240"/>
            <a:ext cx="1600200" cy="60948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XSD: Complex e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&lt;xs:complexType mixed="true"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t-EE" sz="2800" spc="-1" strike="noStrike">
                <a:solidFill>
                  <a:srgbClr val="000000"/>
                </a:solidFill>
                <a:latin typeface="Arial"/>
              </a:rPr>
              <a:t>Means that can be something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t-EE" sz="3200" spc="-1" strike="noStrike">
                <a:solidFill>
                  <a:srgbClr val="333399"/>
                </a:solidFill>
                <a:latin typeface="Arial"/>
              </a:rPr>
              <a:t>&lt;note_body&gt; Dear &lt;customer_name&gt;Mr. Carlsson&lt;/customer_name&gt;. Your order &lt;orderid&gt;123&lt;/orderid&gt;...&lt;/note_body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t-EE" sz="2800" spc="-1" strike="noStrike">
                <a:solidFill>
                  <a:srgbClr val="000000"/>
                </a:solidFill>
                <a:latin typeface="Arial"/>
              </a:rPr>
              <a:t>in other words a mix of tags and text, where tags appear inside the text to give somekind extra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XSD: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Indicator do allow to control how elements are used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800" spc="-1" strike="noStrike">
                <a:solidFill>
                  <a:srgbClr val="000000"/>
                </a:solidFill>
                <a:latin typeface="Arial"/>
              </a:rPr>
              <a:t>Declaration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complexType&gt; &lt;xs: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xxx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Order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sequence – </a:t>
            </a:r>
            <a:r>
              <a:rPr b="0" i="1" lang="et-EE" sz="1600" spc="-1" strike="noStrike">
                <a:solidFill>
                  <a:srgbClr val="808080"/>
                </a:solidFill>
                <a:latin typeface="Arial"/>
              </a:rPr>
              <a:t>child elements should occur in the specific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all – </a:t>
            </a:r>
            <a:r>
              <a:rPr b="0" i="1" lang="et-EE" sz="1600" spc="-1" strike="noStrike">
                <a:solidFill>
                  <a:srgbClr val="808080"/>
                </a:solidFill>
                <a:latin typeface="Arial"/>
              </a:rPr>
              <a:t>any order, but all child elements should occur at least o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choice – </a:t>
            </a:r>
            <a:r>
              <a:rPr b="0" i="1" lang="et-EE" sz="1600" spc="-1" strike="noStrike">
                <a:solidFill>
                  <a:srgbClr val="808080"/>
                </a:solidFill>
                <a:latin typeface="Arial"/>
              </a:rPr>
              <a:t>either one or another element should occ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Occurance (part of the element decla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minOcc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maxOcc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4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xs:element name="child_name" type="xs:string"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maxOccurs=“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50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0" minOccurs="0"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XSD: Exten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 element enables us to extend the XML document with elements not specified by the sche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nyAttribu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 element enables us to extend the XML document with attributes not specified by the sch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?xml version="1.0" encoding="ISO-8859-1"?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roo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child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subchild&gt;.....&lt;/subchild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subchild&gt;.....&lt;/subchild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/child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child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subchild&gt;.....&lt;/subchild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subchild&gt;.....&lt;/subchild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/child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/root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XS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SL 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is an acronym f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nsibl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ylesheet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gu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i.e. something like CSS for 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SL consists of three par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SLT - a language for transforming XML docu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Path - a language for navigating in XML docu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SL-FO - a language for formatting XML docu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P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Path is a syntax allowing navigating inside an XML docu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uses tree-like structure of XML documents and process nodes and par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very similar to navigating in any folder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 have seen that in some css and html tag like </a:t>
            </a:r>
            <a:r>
              <a:rPr b="0" i="1" lang="en-US" sz="2800" spc="-1" strike="noStrike">
                <a:solidFill>
                  <a:srgbClr val="808080"/>
                </a:solidFill>
                <a:latin typeface="Arial"/>
              </a:rPr>
              <a:t>href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for exa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Path n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seven kinds of nodes: element, attribute, text, namespace, processing-instruction, comment, and document (root) no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Path relation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arent: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element and attribute has one par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&lt;employe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&lt;firstname&gt;</a:t>
            </a:r>
            <a:r>
              <a:rPr b="0" lang="et-EE" sz="2000" spc="-1" strike="noStrike">
                <a:solidFill>
                  <a:srgbClr val="333399"/>
                </a:solidFill>
                <a:latin typeface="Arial"/>
              </a:rPr>
              <a:t>Deniss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&lt;/first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&lt;lastname&gt;</a:t>
            </a:r>
            <a:r>
              <a:rPr b="0" lang="et-EE" sz="2000" spc="-1" strike="noStrike">
                <a:solidFill>
                  <a:srgbClr val="333399"/>
                </a:solidFill>
                <a:latin typeface="Arial"/>
              </a:rPr>
              <a:t>Kumlander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&lt;/last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t-EE" sz="2000" spc="-1" strike="noStrike">
                <a:solidFill>
                  <a:srgbClr val="333399"/>
                </a:solidFill>
                <a:latin typeface="Arial"/>
              </a:rPr>
              <a:t>&lt;position&gt;Software Architect&lt;/position&gt;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&lt;/employe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e” is a parent for the “firstname”, “lastname” and “posit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Path relation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ildren: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element can have 0, 1 or many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&lt;employe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&lt;firstname&gt;</a:t>
            </a:r>
            <a:r>
              <a:rPr b="0" lang="et-EE" sz="2000" spc="-1" strike="noStrike">
                <a:solidFill>
                  <a:srgbClr val="333399"/>
                </a:solidFill>
                <a:latin typeface="Arial"/>
              </a:rPr>
              <a:t>Deniss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&lt;/first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&lt;lastname&gt;</a:t>
            </a:r>
            <a:r>
              <a:rPr b="0" lang="et-EE" sz="2000" spc="-1" strike="noStrike">
                <a:solidFill>
                  <a:srgbClr val="333399"/>
                </a:solidFill>
                <a:latin typeface="Arial"/>
              </a:rPr>
              <a:t>Kumlander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&lt;/last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t-EE" sz="2000" spc="-1" strike="noStrike">
                <a:solidFill>
                  <a:srgbClr val="333399"/>
                </a:solidFill>
                <a:latin typeface="Arial"/>
              </a:rPr>
              <a:t>&lt;position&gt;Software Architect&lt;/position&gt;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&lt;/employe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name”, “lastname” and “position” are children for the “employe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Path relation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blings: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nodes having the same par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&lt;employe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&lt;firstname&gt;</a:t>
            </a:r>
            <a:r>
              <a:rPr b="0" lang="et-EE" sz="2000" spc="-1" strike="noStrike">
                <a:solidFill>
                  <a:srgbClr val="333399"/>
                </a:solidFill>
                <a:latin typeface="Arial"/>
              </a:rPr>
              <a:t>Deniss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&lt;/first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&lt;lastname&gt;</a:t>
            </a:r>
            <a:r>
              <a:rPr b="0" lang="et-EE" sz="2000" spc="-1" strike="noStrike">
                <a:solidFill>
                  <a:srgbClr val="333399"/>
                </a:solidFill>
                <a:latin typeface="Arial"/>
              </a:rPr>
              <a:t>Kumlander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&lt;/last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t-EE" sz="2000" spc="-1" strike="noStrike">
                <a:solidFill>
                  <a:srgbClr val="333399"/>
                </a:solidFill>
                <a:latin typeface="Arial"/>
              </a:rPr>
              <a:t>&lt;position&gt;Software Architect&lt;/position&gt;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&lt;/employe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name”, “lastname” and “position” are sibl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Path relation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ncestors: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des’ parent, parent's parent, etc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scendants: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de’s children, children’s children, etc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Path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57200" y="1447920"/>
          <a:ext cx="8229600" cy="4527360"/>
        </p:xfrm>
        <a:graphic>
          <a:graphicData uri="http://schemas.openxmlformats.org/drawingml/2006/table">
            <a:tbl>
              <a:tblPr/>
              <a:tblGrid>
                <a:gridCol w="1828800"/>
                <a:gridCol w="64008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e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s all child nodes of the node, for example “employee” select all children, i.e. lastname, firstname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s from the root n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s nodes in the document from the current node that match the selection no matter where they are, for example “//lastname” selects all lastnames, wherever those 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s the current n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s the parent of the current n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s attribu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457200" y="6172200"/>
            <a:ext cx="830592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sonnel/employee selects all “employee”s that are children of “personnel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Path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469584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Path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/personnel/employee[last()-1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//employee[@branch=‘CODA Eesti'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lects all employees where attribute branch of the employee is CODA Ee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/personnel/employee[salary&gt;10000]/lastn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lects personnel children employees with salary more than 10000 and returns only last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?xml version="1.0" encoding="ISO-8859-1"?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&lt;mai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no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to&gt;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IDK004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to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rom&gt;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TU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from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&lt;heading&gt;Reminder&lt;/heading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ody&gt;Don't forget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to be at lectur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!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/no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not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to&gt;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IDK004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to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rom&gt;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TU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fro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heading&gt;Reminder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heading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Exams are close!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not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&lt;/mail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P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ce that it was just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ho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roducation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XS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SLT is the most important part of XS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SLT is used to transform an XML document into another XML document, or another type of document that is recognized by a browser, like HTML and XHTML. Normally XSLT does this by transforming each XML element into an (X)HTML e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XSLT you can add/remove elements and attributes to or from the output file. You can also rearrange and sort elements, perform tests and make decisions about which elements to hide and display, and a lot m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XSLT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 possible to say th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ML (XHTML) i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style sheet for XML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800600" y="3200400"/>
            <a:ext cx="4191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S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&lt;?xml-stylesheet type="text/xsl" href=“coda.xsl"?&gt;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ne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employe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irstname&gt;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Denis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first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lastname&gt;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Kumlander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last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&lt;position&gt;Software Architect&lt;/position&gt;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employe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952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&lt;xsl:stylesheet version="1.0" xmlns:xsl="http://www.w3.org/1999/XSL/Transform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xsl:template match="/"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body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h2&gt;CODA Personnel&lt;/h2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table border="1"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tr bgcolor="#9acd32"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th align="left"&gt;Name&lt;/th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th align="left"&gt;Position&lt;/th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tr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xsl:for-each select=“personnel/employee"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tr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td&gt;&lt;xsl:value-of select=“lastname"/&gt;&lt;/td&gt;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td&gt;&lt;xsl:value-of select=“position"/&gt;&lt;/t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tr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xsl:for-each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table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xsl:stylesheet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057400" y="4724280"/>
            <a:ext cx="2162160" cy="110520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169" name=""/>
          <p:cNvSpPr/>
          <p:nvPr/>
        </p:nvSpPr>
        <p:spPr>
          <a:xfrm>
            <a:off x="7467480" y="1219320"/>
            <a:ext cx="121932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a.x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connected to XS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document should contain the following string to be associated with a template, where </a:t>
            </a:r>
            <a:r>
              <a:rPr b="0" i="1" lang="en-US" sz="2800" spc="-1" strike="noStrike">
                <a:solidFill>
                  <a:srgbClr val="808080"/>
                </a:solidFill>
                <a:latin typeface="Times New Roman"/>
              </a:rPr>
              <a:t>“coda.xsl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user/defined name of the xslt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&lt;?xml-stylesheet type="text/xsl" href=“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da.xsl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"?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SLT file: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&lt;xsl:template&gt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element is used to build a templ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tch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ttribute is used to associate a template with an XML element from the “source” file. The value of the match attribute is an XPath expression (note: match="/" connects to the whole documen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&lt;xsl:template match="/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SLT file: “for-each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XSL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&lt;xsl:for-each&gt;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element is used to select each XML element of a specified set of no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ice that “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 is nothing else than an XPath defining the level to start selection from (elements to iterat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5029200"/>
            <a:ext cx="7620120" cy="1465560"/>
          </a:xfrm>
          <a:prstGeom prst="rect">
            <a:avLst/>
          </a:prstGeom>
          <a:noFill/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&lt;xsl:for-each select=“personnel/employee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tr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tr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&lt;/xsl:for-eac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SLT file: “value-of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&lt;xsl:value-of&gt;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element is used to get a value of an XML element and put it to the output strea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ice that “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 is again an XPath defining an element to 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4876920"/>
            <a:ext cx="7620120" cy="642600"/>
          </a:xfrm>
          <a:prstGeom prst="rect">
            <a:avLst/>
          </a:prstGeom>
          <a:noFill/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td&gt;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&lt;xsl:value-of select=“lastname"/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td&gt;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td&gt;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&lt;xsl:value-of select=“position"/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S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&lt;?xml-stylesheet type="text/xsl" href=“coda.xsl"?&gt;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ne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employe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irstname&gt;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Denis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first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lastname&gt;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Kumlander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last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&lt;position&gt;Software Architect&lt;/position&gt;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employe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952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xsl:stylesheet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version="1.0" xmlns:xsl="http://www.w3.org/1999/XSL/Transform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&lt;xsl:template match="/"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body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h2&gt;CODA Personnel&lt;/h2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table border="1"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tr bgcolor="#9acd32"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th align="left"&gt;Name&lt;/th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th align="left"&gt;Position&lt;/th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tr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&lt;xsl:for-each select=“personnel/employee"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tr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td&gt;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&lt;xsl:value-of select=“lastname"/&gt;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td&gt;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td&gt;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&lt;xsl:value-of select=“position"/&gt;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tr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&lt;/xsl:for-each&gt;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table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&lt;/xsl:templat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&lt;/xsl:stylesheet&gt;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057400" y="4724280"/>
            <a:ext cx="2162160" cy="110520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184" name=""/>
          <p:cNvSpPr/>
          <p:nvPr/>
        </p:nvSpPr>
        <p:spPr>
          <a:xfrm>
            <a:off x="7467480" y="1219320"/>
            <a:ext cx="121932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a.x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SLT advance: fil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ossible to filter the output from the XML file by adding a criterion to the select attribute in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&lt;xsl:for-each&gt;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&lt;xsl:for-each select=“personnel/employee[position=‘Developer']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Filter operators a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  (equa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!= (not equa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amp;lt; less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amp;gt; greater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note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333399"/>
                </a:solidFill>
                <a:latin typeface="Arial"/>
              </a:rPr>
              <a:t>date=“31.12.2006”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to&gt;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DK0040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/to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from&gt;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TU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/from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heading&gt;Reminder&lt;/heading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body&gt;Don't forget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to be at lectur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!&lt;/body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/not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SLT advance: “sor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&lt;xsl:sort&gt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element is used to sort output (as XML is ordered list of items, so it is a possibility to re-order items). It is added after tag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&lt;xsl:for-each&gt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pp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Arial"/>
              </a:rPr>
              <a:t>&lt;xsl:for-each select=“personnel/employee"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&lt;xsl:sort select=“lastname"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Arial"/>
              </a:rPr>
              <a:t>&lt;/xsl:for-each&gt;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 indicates element to s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SLT advance: “if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&lt;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xsl: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&gt; element is used to put a conditional if test against the content of the XML file. It is added after the ta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&lt;xsl:for-each&gt;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pp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&lt;xsl:for-each select=“personnel/employee"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&lt;xsl:if test="</a:t>
            </a:r>
            <a:r>
              <a:rPr b="0" i="1" lang="en-GB" sz="3200" spc="-1" strike="noStrike">
                <a:solidFill>
                  <a:srgbClr val="333399"/>
                </a:solidFill>
                <a:latin typeface="Arial"/>
              </a:rPr>
              <a:t>expression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"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&lt;/xsl:for-each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5105520"/>
            <a:ext cx="2514600" cy="3682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lary &amp;gt; 20000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4800600" y="5028840"/>
            <a:ext cx="914400" cy="22860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SLT advance: “choo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s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&lt;xsl:choose&gt;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&lt;xsl:when&gt;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&lt;xsl:otherwise&gt;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re used similar to “if .. then …else” construction of major programm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14400" y="403848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&lt;xsl:choose&gt; </a:t>
            </a:r>
            <a:br>
              <a:rPr sz="1800"/>
            </a:b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&lt;xsl:when test="</a:t>
            </a:r>
            <a:r>
              <a:rPr b="0" i="1" lang="en-GB" sz="1800" spc="-1" strike="noStrike">
                <a:solidFill>
                  <a:srgbClr val="333399"/>
                </a:solidFill>
                <a:latin typeface="Arial"/>
              </a:rPr>
              <a:t>expression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"&gt; </a:t>
            </a:r>
            <a:br>
              <a:rPr sz="1800"/>
            </a:b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... an output ... </a:t>
            </a:r>
            <a:br>
              <a:rPr sz="1800"/>
            </a:b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&lt;/xsl:when&gt; </a:t>
            </a:r>
            <a:br>
              <a:rPr sz="1800"/>
            </a:b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&lt;xsl:otherwise&gt; </a:t>
            </a:r>
            <a:br>
              <a:rPr sz="1800"/>
            </a:b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... an output .... </a:t>
            </a:r>
            <a:br>
              <a:rPr sz="1800"/>
            </a:b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&lt;/xsl:otherwise&gt; </a:t>
            </a:r>
            <a:br>
              <a:rPr sz="1800"/>
            </a:b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&lt;/xsl:choos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SLT advance: cho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l:for-each select=“personnel/employee"&gt;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&lt;tr&gt;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&lt;td&gt;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&lt;xsl:value-of select=“lastname"/&gt;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&lt;/td&gt;</a:t>
            </a:r>
            <a:br>
              <a:rPr sz="1600"/>
            </a:b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xsl:choose&gt;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&lt;xsl:when test=“salary &amp;gt; 20000"&gt;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&lt;t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99cc00"/>
                </a:solidFill>
                <a:latin typeface="Arial"/>
              </a:rPr>
              <a:t>&lt;b&gt;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l:value-of select=“position"/&gt;</a:t>
            </a:r>
            <a:r>
              <a:rPr b="0" lang="en-GB" sz="1600" spc="-1" strike="noStrike">
                <a:solidFill>
                  <a:srgbClr val="99cc00"/>
                </a:solidFill>
                <a:latin typeface="Arial"/>
              </a:rPr>
              <a:t>&lt;/b&gt;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&lt;/td&gt;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&lt;/xsl:when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&lt;xsl:otherwise&gt;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&lt;td&gt;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 &lt;xsl:value-of select=“position"/&gt;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&lt;/td&gt;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&lt;/xsl:otherwis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xsl:choose&gt; </a:t>
            </a:r>
            <a:br>
              <a:rPr sz="1600"/>
            </a:b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&lt;/tr&gt;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xsl:for-each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SLT advance: cho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xsl:for-each select=“personnel/employee"&gt;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&lt;tr&gt;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&lt;td&gt;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&lt;xsl:value-of select=“lastname"/&gt;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&lt;/td&gt;</a:t>
            </a:r>
            <a:br>
              <a:rPr sz="1400"/>
            </a:b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&lt;xsl:choose&gt;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&lt;xsl:when test=“salary &amp;gt; 20000"&gt;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&lt;t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400" spc="-1" strike="noStrike">
                <a:solidFill>
                  <a:srgbClr val="99cc00"/>
                </a:solidFill>
                <a:latin typeface="Arial"/>
              </a:rPr>
              <a:t>&lt;b&gt;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xsl:value-of select=“position"/&gt;</a:t>
            </a:r>
            <a:r>
              <a:rPr b="0" lang="en-GB" sz="1400" spc="-1" strike="noStrike">
                <a:solidFill>
                  <a:srgbClr val="99cc00"/>
                </a:solidFill>
                <a:latin typeface="Arial"/>
              </a:rPr>
              <a:t>&lt;/b&gt;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&lt;/td&gt;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&lt;/xsl:when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&lt;xsl:when test=“salary &amp;lt; 10000"&gt;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&lt;td </a:t>
            </a:r>
            <a:r>
              <a:rPr b="0" lang="en-GB" sz="1400" spc="-1" strike="noStrike">
                <a:solidFill>
                  <a:srgbClr val="99cc00"/>
                </a:solidFill>
                <a:latin typeface="Arial"/>
              </a:rPr>
              <a:t>bgcolor=“red”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xsl:value-of select=“position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td&gt;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&lt;/xsl:when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&lt;xsl:otherwise&gt;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&lt;td&gt;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&lt;xsl:value-of select=“position"/&gt;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&lt;/td&gt;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&lt;/xsl:otherwis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xsl:choose&gt; </a:t>
            </a:r>
            <a:br>
              <a:rPr sz="1400"/>
            </a:b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&lt;/tr&gt;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xsl:for-each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SLT advance: copy-of and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&lt;xsl:variable name=“footer"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&lt;tr&gt;&lt;td&gt;&lt;/td&gt; &lt;td&gt;property of CODA&lt;/td&gt; &lt;/t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&lt;/xsl:variabl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xsl:template match="/"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html&gt; &lt;body&gt; Lower salary employ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table&gt;&lt;xsl:for-each select=“personnel/employes"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tr&gt;&lt;xsl:if test=“salary&lt;10000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td&gt;&lt;xsl:value-of select=“lastname"/&gt;&lt;/td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td&gt;&lt;xsl:value-of select=“position"/&gt;&lt;/td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xsl:if&gt; &lt;/tr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xsl:for-each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&lt;xsl:copy-of select="$footer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table&gt; &lt;br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salary employ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table&gt;&lt;xsl:for-each select="table/record"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tr&gt; &lt;xsl:if test=“salary&gt;100000"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td&gt;&lt;xsl:value-of select=“lastname"/&gt;&lt;/td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td&gt;&lt;xsl:value-of select="description"/&gt;&lt;/td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xsl:if&gt; &lt;/tr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xsl:for-each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&lt;xsl:copy-of select="$footer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table&gt; &lt;/body&gt; &lt;/html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4038480"/>
            <a:ext cx="3352680" cy="106740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Copies with children. There is also just a “copy” function that copy only the xml element without child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1980720" y="4114800"/>
            <a:ext cx="2971800" cy="45720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SLT advance: apply-templ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xsl:apply-templat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 element applies a template to the current element or to the current element's child no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elect attribute is used to define the order in which the child nodes are proce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SLT advance: apply-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how each article title as an header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&lt;xsl:template match=“</a:t>
            </a:r>
            <a:r>
              <a:rPr b="0" lang="et-EE" sz="2400" spc="-1" strike="noStrike">
                <a:solidFill>
                  <a:srgbClr val="333399"/>
                </a:solidFill>
                <a:latin typeface="Arial"/>
              </a:rPr>
              <a:t>article_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itle"&gt; </a:t>
            </a:r>
            <a:r>
              <a:rPr b="0" lang="et-EE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&lt;h1&gt;&lt;xsl:apply-templates/&gt;&lt;/h1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&lt;/xsl:templat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SLT advance: apply-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1055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?xml-stylesheet type="text/xsl" href="coda2.xsl"?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personne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employe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irstname&gt;Deniss&lt;/firstna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lastname&gt;Kumlander&lt;/lastna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position&gt;Software Architect&lt;/position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employe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employe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irstname&gt;Veiko&lt;/firstna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lastname&gt;Laev&lt;/lastna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position&gt;Developer&lt;/position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employe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personne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1055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xsl:stylesheet version="1.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sl="http://www.w3.org/1999/XSL/Transform"&gt;&lt;xsl:template match="/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2&gt;CODA Personnel&lt;/h2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xsl:apply-templates/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xsl:template&gt;&lt;xsl:template match="employee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p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xsl:apply-templates select="position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xsl:apply-templates select="lastname"/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p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xsl:template match="position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b&gt;&lt;i&gt;Position: &lt;/i&gt;&lt;/b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xsl:value-of select="."/&gt;&lt;br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xsl:template match="lastname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b&gt;Name: &lt;/b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xsl:value-of select="."/&gt;&lt;br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xsl:styleshee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286000" y="4876920"/>
            <a:ext cx="1905120" cy="1552320"/>
          </a:xfrm>
          <a:prstGeom prst="rect">
            <a:avLst/>
          </a:prstGeom>
          <a:ln w="9360">
            <a:solidFill>
              <a:srgbClr val="00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void using attribu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hould </a:t>
            </a: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void using attributes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of the problems with using attributes ar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tributes cannot contain multiple values (child elements ca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tributes are not easily expandable (for future chang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tributes cannot describe structures (child elements ca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tributes are more difficult to manipulate by program co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tribute values are not easy to test against a Document Type Definition (DTD) - which is used to define the legal elements of an XML docu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Initial val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documents must have a root el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elements must have a closing ta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tags are case sensi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elements must be properly nes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attribute values must always be quo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XML and C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?xml version="1.0" encoding="ISO-8859-1"?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?xml-stylesheet type="text/css" href="cd_catalog.css"?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CATALOG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CD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TITLE&gt;Empire Burlesque&lt;/TITLE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ARTIST&gt;Bob Dylan&lt;/ARTIS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COUNTRY&gt;USA&lt;/COUNTRY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COMPANY&gt;Columbia&lt;/COMPANY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PRICE&gt;10.90&lt;/PRICE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YEAR&gt;1985&lt;/YEAR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CD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CD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TITLE&gt;Hide your heart&lt;/TITLE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ARTIST&gt;Bonnie Tyler&lt;/ARTIST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COUNTRY&gt;UK&lt;/COUNTRY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COMPANY&gt;CBS Records&lt;/COMPANY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PRICE&gt;9.90&lt;/PRICE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YEAR&gt;1988&lt;/YEAR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C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CATALOG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1600200"/>
            <a:ext cx="380988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TALOG { background-color: #ffffff; width: 100%; 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D { display: block; margin-bottom: 30pt; margin-left: 0; 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ITLE { color: #FF0000; font-size: 20pt; 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TIST { color: #0000FF; font-size: 20pt;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UNTRY,PRICE,YEAR,COMPANY { display: block; color: #000000; margin-left: 20pt; 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1523880"/>
            <a:ext cx="0" cy="518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34120" y="4114800"/>
            <a:ext cx="3305160" cy="2638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22:59:12Z</dcterms:created>
  <dc:creator>kumlanderd</dc:creator>
  <dc:description/>
  <dc:language>en-US</dc:language>
  <cp:lastModifiedBy>kumlanderd</cp:lastModifiedBy>
  <dcterms:modified xsi:type="dcterms:W3CDTF">2007-10-07T13:49:51Z</dcterms:modified>
  <cp:revision>63</cp:revision>
  <dc:subject/>
  <dc:title>XML</dc:title>
</cp:coreProperties>
</file>