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305-F97F-44E1-AA4E-FEDDAC52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630-A591-4B99-92AD-4D1D1065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420-4511-4C6F-A7D6-0B99FFE1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A7C-EB0E-4D96-891B-1271648D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A1A-07FD-41D5-86DB-39FB2A36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1F5-3822-4650-9C71-475C2346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365-BE84-458A-A412-2D596672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D61-0B3B-46EE-A5FE-ECA25D00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0FB-CED3-4FB7-ACAD-F2658BB9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163-BFB8-489B-840E-40FC9422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D88-683E-4729-A719-406915E7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769-0805-4611-9DA0-068C22EB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3ADF-FF5E-46AE-B6AC-7FB7EB866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eedvalidator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3.org/WAI/highlights/about-rss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eb.resource.org/rss/1.0/" TargetMode="External"/><Relationship Id="rId2" Type="http://schemas.openxmlformats.org/officeDocument/2006/relationships/hyperlink" Target="http://www.rssboard.org/rss-specification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RSS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RSS Logo"/>
          <p:cNvPicPr/>
          <p:nvPr/>
        </p:nvPicPr>
        <p:blipFill>
          <a:blip r:embed="rId1"/>
          <a:stretch/>
        </p:blipFill>
        <p:spPr>
          <a:xfrm>
            <a:off x="6659640" y="4149720"/>
            <a:ext cx="506160" cy="196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XML Logo"/>
          <p:cNvPicPr/>
          <p:nvPr/>
        </p:nvPicPr>
        <p:blipFill>
          <a:blip r:embed="rId2"/>
          <a:stretch/>
        </p:blipFill>
        <p:spPr>
          <a:xfrm>
            <a:off x="7308720" y="4149720"/>
            <a:ext cx="505080" cy="1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roduce R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o far described RSS is just a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t can be produced either manually or by an application, which is either written by you or a third part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ublish R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Give a 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r RSS file. Notice that the fil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file, so its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extension should be .xm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extens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PS: You could try to v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idate your RSS file (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using for exampl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eedvalidator.org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load the RSS file to your web directory on your web server.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ake your RSS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600" spc="-1" strike="noStrike">
                <a:solidFill>
                  <a:srgbClr val="000000"/>
                </a:solidFill>
                <a:latin typeface="Arial"/>
              </a:rPr>
              <a:t>Direct link: Add an RSS link to your p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a href=“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http://www.yoursite.com/xxx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ss.xml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"&gt;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RSS Feed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/a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Typically it includes an image like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nstead of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600" spc="-1" strike="noStrike">
                <a:solidFill>
                  <a:srgbClr val="000000"/>
                </a:solidFill>
                <a:latin typeface="Arial"/>
              </a:rPr>
              <a:t>Make browsers to discover your R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add into the &lt;head&gt; section the following sub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link rel="alternate" type="application/rss+xml" href=“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http://www.yoursite.com/xxx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ss.xml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" title="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our title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RSS Logo"/>
          <p:cNvPicPr/>
          <p:nvPr/>
        </p:nvPicPr>
        <p:blipFill>
          <a:blip r:embed="rId2"/>
          <a:stretch/>
        </p:blipFill>
        <p:spPr>
          <a:xfrm>
            <a:off x="4211640" y="4724280"/>
            <a:ext cx="506520" cy="1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SS is a method for getting and sending news and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subscribe to an RSS feed and have the latest news and information sent to your RSS reader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SS reader program will alert you when there is new information for you to re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3.org/WAI/highlights/about-r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9640" y="4037040"/>
            <a:ext cx="79581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o RSS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o list news (of a company, person, organis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o list update (of a site, p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o list events (scheduled in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SS acrony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SS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ch Site Summary (RSS 0.9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DF Site Summa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RSS 0.9, 1.0 and 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So far – developed by w3 as a standa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ally Simple Syndi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RSS 2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?xml version="1.0" encoding="ISO-8859-1" ?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rss version="2.0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hannel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RSS Examp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link&gt;http://www.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ttu.e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scription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TTU 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descri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News 1 Tit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link&gt;http://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www.ttu.ee/news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scription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100 new PhD students starts this year. .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descri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News 2 Tit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link&gt;http://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www.ttu.ee/news.php?Id=5467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scription&gt;New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 2 content.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descri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ha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rs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?xml version="1.0" encoding="ISO-8859-1" ?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rss version="2.0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hannel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RSS Examp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link&gt;http://www.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ttu.e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scription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TTU 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descri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News 1 Title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link&gt;http://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www.ttu.ee/news1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description&gt;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100 new PhD students starts this year. ....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descri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News 2 Title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link&gt;http://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www.ttu.ee/news.php?Id=5467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description&gt;New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s 2 content....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descri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cha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rss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57360" y="1916280"/>
            <a:ext cx="3236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efines RSS standard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411280" y="1989000"/>
            <a:ext cx="26654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2492280"/>
            <a:ext cx="30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escribes the RSS 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924000" y="270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SS cha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title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s the title of the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link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s the hyperlink to the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description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s the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2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t-EE" sz="1200" spc="-1" strike="noStrike">
                <a:solidFill>
                  <a:srgbClr val="333399"/>
                </a:solidFill>
                <a:latin typeface="Arial"/>
              </a:rPr>
              <a:t>item</a:t>
            </a:r>
            <a:r>
              <a:rPr b="0" i="1" lang="et-EE" sz="1200" spc="-1" strike="noStrike">
                <a:solidFill>
                  <a:srgbClr val="000000"/>
                </a:solidFill>
                <a:latin typeface="Arial"/>
              </a:rPr>
              <a:t> subt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category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ines one or more categories for the f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copyright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Defines tates copyright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image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 This element allow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dditing 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 image to be displayed when 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the feed is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lin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a r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quired</a:t>
            </a:r>
            <a:r>
              <a:rPr b="1" lang="et-E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field that 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fines the hyperlink to the website that offers the cha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titl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a r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quired</a:t>
            </a:r>
            <a:r>
              <a:rPr b="1" lang="et-E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field that d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fines the text to display if the image could not be sh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ur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a r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quired</a:t>
            </a:r>
            <a:r>
              <a:rPr b="1" lang="et-E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field that 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ecifies the URL to the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descrip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t-EE" sz="1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ional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field that 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ecifies the text in the HTML title attribute of the link around the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heigh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an o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tional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field that 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fines the height of the image. Default is 31. Maximum value is 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width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t-EE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tional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field that 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fines the width of the image. Default is 88. Maximum value is 1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language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 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cifies the language 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eed 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(Estonian: </a:t>
            </a:r>
            <a:r>
              <a:rPr b="1" lang="et-EE" sz="1200" spc="-1" strike="noStrike">
                <a:solidFill>
                  <a:srgbClr val="000000"/>
                </a:solidFill>
                <a:latin typeface="Arial"/>
              </a:rPr>
              <a:t>et-ee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, English: </a:t>
            </a:r>
            <a:r>
              <a:rPr b="1" lang="et-EE" sz="1200" spc="-1" strike="noStrike">
                <a:solidFill>
                  <a:srgbClr val="000000"/>
                </a:solidFill>
                <a:latin typeface="Arial"/>
              </a:rPr>
              <a:t>en-us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, Russian: </a:t>
            </a:r>
            <a:r>
              <a:rPr b="1" lang="et-EE" sz="1200" spc="-1" strike="noStrike">
                <a:solidFill>
                  <a:srgbClr val="000000"/>
                </a:solidFill>
                <a:latin typeface="Arial"/>
              </a:rPr>
              <a:t>ru-ru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ttl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(time to live) 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cifies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minutes the feed can stay cached before refreshing it from the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skipDays</a:t>
            </a:r>
            <a:r>
              <a:rPr b="0" lang="et-EE" sz="1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pecifies the days where aggregators should skip updating the feed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(Sunday, Saturda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PS: each date should be enclosed by own ta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skipHours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es the hours where aggregators should skip updating the feed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(a number 0 - 2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PS: each date should be enclosed by own ta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&lt;skipDays&gt;Friday&lt;/skipDay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&lt;skipDays&gt;Sunday&lt;/skipDay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&lt;skipHours&gt;0&lt;/skipHour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&lt;skipHours&gt;1&lt;/skipHour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managingEditor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s the e-mail address to the editor of the content of the f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webMaster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Defines the e-mail address to the webmaster of the f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lastBuildDate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s the last-modified date of the content of the feed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(for example </a:t>
            </a:r>
            <a:r>
              <a:rPr b="0" lang="sv-SE" sz="1200" spc="-1" strike="noStrike">
                <a:solidFill>
                  <a:srgbClr val="99cc00"/>
                </a:solidFill>
                <a:latin typeface="Arial"/>
              </a:rPr>
              <a:t>Fri, 26 Oct 2007 19:41:00 GMT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pubDate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s the last publication date for the content of the feed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(for example </a:t>
            </a:r>
            <a:r>
              <a:rPr b="0" lang="sv-SE" sz="1200" spc="-1" strike="noStrike">
                <a:solidFill>
                  <a:srgbClr val="99cc00"/>
                </a:solidFill>
                <a:latin typeface="Arial"/>
              </a:rPr>
              <a:t>Fri, 26 Oct 2007 19:41:00 GMT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?xml version="1.0" encoding="ISO-8859-1" ?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rss version="2.0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channel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RSS Example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link&gt;http://www.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ttu.ee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description&gt;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TTU ...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description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News 1 Tit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link&gt;http://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www.ttu.ee/news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scription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100 new PhD students starts this year. .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descri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News 2 Tit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link&gt;http://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www.ttu.ee/news.php?Id=5467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scription&gt;New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 2 content.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descri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cha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rs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3500280"/>
            <a:ext cx="23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076360" y="3716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53006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524720" y="3860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SS i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tit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fines the title of the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link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ines the hyperlink to the item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(typically you press on the item and see more (the full information, as the description below is just an annotation someti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descrip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cribes the item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content (the news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autho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ecifies the e-mail address to the author of the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catego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ines one or more categories the item belongs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commen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llows an item to link to comments about that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enclosu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llows a media file to be included with the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Required attribu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ng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s the length (in bytes) of the media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typ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s the type of media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url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Defines the URL to the media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enclosure url="http://www.</a:t>
            </a: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kumlanderlab.eu/har09.wmv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 length=“</a:t>
            </a: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123456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 type="video/wmv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gui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fines a unique identifier for the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pubD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fines the last-publication date for the item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(for example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99cc00"/>
                </a:solidFill>
                <a:latin typeface="Arial"/>
              </a:rPr>
              <a:t>Fri, 26 Oct 2007 19:41:00 GMT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8:11:40Z</dcterms:created>
  <dc:creator>kumlanderd</dc:creator>
  <dc:description/>
  <dc:language>en-US</dc:language>
  <cp:lastModifiedBy>kumlanderd</cp:lastModifiedBy>
  <dcterms:modified xsi:type="dcterms:W3CDTF">2007-10-27T10:00:02Z</dcterms:modified>
  <cp:revision>14</cp:revision>
  <dc:subject/>
  <dc:title>Slide 1</dc:title>
</cp:coreProperties>
</file>