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D99-E143-4D73-8244-02113F14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080-12F3-4A99-87AE-0EEA691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B20-4D2B-4BFD-9B75-EF57A4B1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7CE-3CB8-4500-9861-A2390C5B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A23-E7A6-4DBA-97FB-F888A01E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F12-ABB9-4DDC-B1D8-8568BC4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E54-DF26-4110-810C-3EFAE8F1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BE7-6E15-43D8-BFAC-01EEF523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9BD-E14F-4CC1-8738-8E725D65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BC3-52CE-4450-9995-C9D837C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04F-F732-416C-BBF8-0225F17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400-5205-4609-A5F7-6DBC10E2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2F5C-50EB-4B8C-B2D7-67E3EBBA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eedvalidator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3.org/WAI/highlights/about-rss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.resource.org/rss/1.0/" TargetMode="External"/><Relationship Id="rId2" Type="http://schemas.openxmlformats.org/officeDocument/2006/relationships/hyperlink" Target="http://www.rssboard.org/rss-specific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RSS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RSS Logo"/>
          <p:cNvPicPr/>
          <p:nvPr/>
        </p:nvPicPr>
        <p:blipFill>
          <a:blip r:embed="rId1"/>
          <a:stretch/>
        </p:blipFill>
        <p:spPr>
          <a:xfrm>
            <a:off x="6659640" y="4149720"/>
            <a:ext cx="506160" cy="19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XML Logo"/>
          <p:cNvPicPr/>
          <p:nvPr/>
        </p:nvPicPr>
        <p:blipFill>
          <a:blip r:embed="rId2"/>
          <a:stretch/>
        </p:blipFill>
        <p:spPr>
          <a:xfrm>
            <a:off x="7308720" y="4149720"/>
            <a:ext cx="50508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roduce 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 far described RSS is just a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t can be produced either manually or by an application, which is either written by you or a third part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Publish 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Give a 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r RSS file. Notice that the fil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file, so its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xtension should be .xm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exten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PS: You could try to v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idate your RSS file 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using for exampl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eedvalidator.org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load the RSS file to your web directory on your web server.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ake your RS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Direct link: Add an RSS link to your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a href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http://www.yoursite.com/xxx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s.xml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&gt;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SS Feed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a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ypically it includes an image lik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instead of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Make browsers to discover your R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add into the &lt;head&gt; section the following sub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link rel="alternate" type="application/rss+xml" href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http://www.yoursite.com/xxx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ss.xml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 title="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our title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RSS Logo"/>
          <p:cNvPicPr/>
          <p:nvPr/>
        </p:nvPicPr>
        <p:blipFill>
          <a:blip r:embed="rId2"/>
          <a:stretch/>
        </p:blipFill>
        <p:spPr>
          <a:xfrm>
            <a:off x="4211640" y="4724280"/>
            <a:ext cx="50652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SS is a method for getting and sending news and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subscribe to an RSS feed and have the latest news and information sent to your RSS reader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SS reader program will alert you when there is new information for you to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3.org/WAI/highlights/about-r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4037040"/>
            <a:ext cx="7958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o RSS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o list news (of a company, person, organis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o list update (of a site,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o list events (scheduled in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acrony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SS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 Site Summary (RSS 0.9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DF Site Summ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RSS 0.9, 1.0 and 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So far – developed by w3 as a standa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ally Simple Synd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RSS 2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?xml version="1.0" encoding="ISO-8859-1" 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rss version="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hanne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RSS Examp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www.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 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1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00 new PhD students starts this year. 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2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.php?Id=546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New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 2 content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rs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?xml version="1.0" encoding="ISO-8859-1" ?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rss version="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hanne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RSS Examp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www.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TU 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News 1 Titl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www.ttu.ee/news1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100 new PhD students starts this year. ....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News 2 Titl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www.ttu.ee/news.php?Id=5467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description&gt;New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s 2 content....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rs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7360" y="1916280"/>
            <a:ext cx="3236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fines RSS standar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11280" y="1989000"/>
            <a:ext cx="26654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2492280"/>
            <a:ext cx="30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scribes the RSS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2400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titl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title of th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link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hyperlink to th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description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s the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t-EE" sz="1200" spc="-1" strike="noStrike">
                <a:solidFill>
                  <a:srgbClr val="333399"/>
                </a:solidFill>
                <a:latin typeface="Arial"/>
              </a:rPr>
              <a:t>item</a:t>
            </a:r>
            <a:r>
              <a:rPr b="0" i="1" lang="et-EE" sz="1200" spc="-1" strike="noStrike">
                <a:solidFill>
                  <a:srgbClr val="000000"/>
                </a:solidFill>
                <a:latin typeface="Arial"/>
              </a:rPr>
              <a:t> sub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t-EE" sz="14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category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ines one or more categories for the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copyright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Defines tates copyright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imag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 This element allow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diting 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 image to be displayed when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feed is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lin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quired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field that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hyperlink to the website that offers the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titl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quired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field that d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text to display if the image could not be sh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ur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 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quired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field that 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cifies the URL to the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descrip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ional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field that 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ecifies the text in the HTML title attribute of the link around the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heigh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n o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tional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field that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height of the image. Default is 31. Maximum value is 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000" spc="-1" strike="noStrike">
                <a:solidFill>
                  <a:srgbClr val="333399"/>
                </a:solidFill>
                <a:latin typeface="Arial"/>
              </a:rPr>
              <a:t>width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t-EE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tional</a:t>
            </a: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 field that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fines the width of the image. Default is 88. Maximum value is 1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languag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 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cifies the language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eed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(Estonian: </a:t>
            </a:r>
            <a:r>
              <a:rPr b="1" lang="et-EE" sz="1200" spc="-1" strike="noStrike">
                <a:solidFill>
                  <a:srgbClr val="000000"/>
                </a:solidFill>
                <a:latin typeface="Arial"/>
              </a:rPr>
              <a:t>et-ee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, English: </a:t>
            </a:r>
            <a:r>
              <a:rPr b="1" lang="et-EE" sz="1200" spc="-1" strike="noStrike">
                <a:solidFill>
                  <a:srgbClr val="000000"/>
                </a:solidFill>
                <a:latin typeface="Arial"/>
              </a:rPr>
              <a:t>en-us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, Russian: </a:t>
            </a:r>
            <a:r>
              <a:rPr b="1" lang="et-EE" sz="1200" spc="-1" strike="noStrike">
                <a:solidFill>
                  <a:srgbClr val="000000"/>
                </a:solidFill>
                <a:latin typeface="Arial"/>
              </a:rPr>
              <a:t>ru-ru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ttl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(time to live) 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cifie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minutes the feed can stay cached before refreshing it from the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skipDays</a:t>
            </a: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cifies the days where aggregators should skip updating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Sunday, Saturd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PS: each date should be enclosed by own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skipHours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es the hours where aggregators should skip updating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a number 0 - 2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PS: each date should be enclosed by own t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Days&gt;Friday&lt;/skipDay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Days&gt;Sunday&lt;/skipDay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Hours&gt;0&lt;/skipHour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Arial"/>
              </a:rPr>
              <a:t>&lt;skipHours&gt;1&lt;/skipHour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managingEditor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e-mail address to the editor of the content of the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webMaster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fines the e-mail address to the webmaster of the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lastBuildDat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last-modified date of the content of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for example </a:t>
            </a:r>
            <a:r>
              <a:rPr b="0" lang="sv-SE" sz="1200" spc="-1" strike="noStrike">
                <a:solidFill>
                  <a:srgbClr val="99cc00"/>
                </a:solidFill>
                <a:latin typeface="Arial"/>
              </a:rPr>
              <a:t>Fri, 26 Oct 2007 19:41:00 GMT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pubDate&gt;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last publication date for the content of the feed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(for example </a:t>
            </a:r>
            <a:r>
              <a:rPr b="0" lang="sv-SE" sz="1200" spc="-1" strike="noStrike">
                <a:solidFill>
                  <a:srgbClr val="99cc00"/>
                </a:solidFill>
                <a:latin typeface="Arial"/>
              </a:rPr>
              <a:t>Fri, 26 Oct 2007 19:41:00 GMT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?xml version="1.0" encoding="ISO-8859-1" 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rss version="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channe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RSS Exampl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link&gt;http://www.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808080"/>
                </a:solidFill>
                <a:latin typeface="Arial"/>
              </a:rPr>
              <a:t>TTU ...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description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1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100 new PhD students starts this year. 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itle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News 2 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itl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link&gt;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www.ttu.ee/news.php?Id=546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link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scription&gt;New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 2 content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descri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cha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&lt;/rs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500280"/>
            <a:ext cx="23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076360" y="3716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300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5247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RSS i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it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fines the title of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lin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s the hyperlink to the item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typically you press on the item and see more (the full information, as the description below is just an annotation someti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scri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bes the item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content (the news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auth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ifies the e-mail address to the author of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ateg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s one or more categories the item belong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omme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llows an item to link to comments about that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enclos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llows a media file to be included with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quired attribu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leng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length (in bytes) of the medi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typ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s the type of medi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url</a:t>
            </a: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fines the URL to the medi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enclosure url="http://www.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kumlanderlab.eu/har09.wmv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 length=“</a:t>
            </a: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123456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 type="video/wmv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gui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fines a unique identifier for the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pubD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fines the last-publication date for the item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(for example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600" spc="-1" strike="noStrike">
                <a:solidFill>
                  <a:srgbClr val="99cc00"/>
                </a:solidFill>
                <a:latin typeface="Arial"/>
              </a:rPr>
              <a:t>Fri, 26 Oct 2007 19:41:00 GMT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8:11:40Z</dcterms:created>
  <dc:creator>kumlanderd</dc:creator>
  <dc:description/>
  <dc:language>en-US</dc:language>
  <cp:lastModifiedBy>kumlanderd</cp:lastModifiedBy>
  <dcterms:modified xsi:type="dcterms:W3CDTF">2007-10-27T10:00:02Z</dcterms:modified>
  <cp:revision>14</cp:revision>
  <dc:subject/>
  <dc:title>Slide 1</dc:title>
</cp:coreProperties>
</file>