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7772400" cy="1002672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26720"/>
              <a:gd name="textAreaBottom" fmla="*/ 10026360 h 10026720"/>
            </a:gdLst>
            <a:ahLst/>
            <a:rect l="textAreaLeft" t="textAreaTop" r="textAreaRight" b="textAreaBottom"/>
            <a:pathLst>
              <a:path w="21600" h="27865">
                <a:moveTo>
                  <a:pt x="4" y="0"/>
                </a:moveTo>
                <a:arcTo wR="4" hR="4" stAng="16200000" swAng="-5400000"/>
                <a:lnTo>
                  <a:pt x="0" y="27861"/>
                </a:lnTo>
                <a:arcTo wR="4" hR="4" stAng="10800000" swAng="-5400000"/>
                <a:lnTo>
                  <a:pt x="21596" y="2786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2672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26720"/>
              <a:gd name="textAreaBottom" fmla="*/ 10026360 h 10026720"/>
            </a:gdLst>
            <a:ahLst/>
            <a:rect l="textAreaLeft" t="textAreaTop" r="textAreaRight" b="textAreaBottom"/>
            <a:pathLst>
              <a:path w="21600" h="27865">
                <a:moveTo>
                  <a:pt x="4" y="0"/>
                </a:moveTo>
                <a:arcTo wR="4" hR="4" stAng="16200000" swAng="-5400000"/>
                <a:lnTo>
                  <a:pt x="0" y="27861"/>
                </a:lnTo>
                <a:arcTo wR="4" hR="4" stAng="10800000" swAng="-5400000"/>
                <a:lnTo>
                  <a:pt x="21596" y="2786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2672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26720"/>
              <a:gd name="textAreaBottom" fmla="*/ 10026360 h 10026720"/>
            </a:gdLst>
            <a:ahLst/>
            <a:rect l="textAreaLeft" t="textAreaTop" r="textAreaRight" b="textAreaBottom"/>
            <a:pathLst>
              <a:path w="21600" h="27865">
                <a:moveTo>
                  <a:pt x="4" y="0"/>
                </a:moveTo>
                <a:arcTo wR="4" hR="4" stAng="16200000" swAng="-5400000"/>
                <a:lnTo>
                  <a:pt x="0" y="27861"/>
                </a:lnTo>
                <a:arcTo wR="4" hR="4" stAng="10800000" swAng="-5400000"/>
                <a:lnTo>
                  <a:pt x="21596" y="2786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2672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26720"/>
              <a:gd name="textAreaBottom" fmla="*/ 10026360 h 10026720"/>
            </a:gdLst>
            <a:ahLst/>
            <a:rect l="textAreaLeft" t="textAreaTop" r="textAreaRight" b="textAreaBottom"/>
            <a:pathLst>
              <a:path w="21600" h="27865">
                <a:moveTo>
                  <a:pt x="4" y="0"/>
                </a:moveTo>
                <a:arcTo wR="4" hR="4" stAng="16200000" swAng="-5400000"/>
                <a:lnTo>
                  <a:pt x="0" y="27861"/>
                </a:lnTo>
                <a:arcTo wR="4" hR="4" stAng="10800000" swAng="-5400000"/>
                <a:lnTo>
                  <a:pt x="21596" y="2786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58640" y="952200"/>
            <a:ext cx="5102280" cy="34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9520" indent="-209520"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b847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b847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209240" y="4719240"/>
            <a:ext cx="5405400" cy="38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359000" y="952560"/>
            <a:ext cx="510372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1209600" y="4719240"/>
            <a:ext cx="54072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359000" y="952560"/>
            <a:ext cx="510372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1209600" y="4719240"/>
            <a:ext cx="54072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59000" y="952560"/>
            <a:ext cx="510372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1209600" y="4719240"/>
            <a:ext cx="54072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59000" y="952560"/>
            <a:ext cx="510372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1209600" y="4719240"/>
            <a:ext cx="54072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59000" y="952560"/>
            <a:ext cx="510372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1209600" y="4719240"/>
            <a:ext cx="54072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59000" y="952560"/>
            <a:ext cx="510372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1209600" y="4719240"/>
            <a:ext cx="54072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59000" y="952560"/>
            <a:ext cx="510372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1209600" y="4719240"/>
            <a:ext cx="54072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59000" y="952560"/>
            <a:ext cx="510372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1209600" y="4719240"/>
            <a:ext cx="54072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59000" y="952560"/>
            <a:ext cx="510372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1209600" y="4719240"/>
            <a:ext cx="54072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359000" y="952560"/>
            <a:ext cx="510372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1209600" y="4719240"/>
            <a:ext cx="54072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359000" y="952560"/>
            <a:ext cx="510372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1209600" y="4719240"/>
            <a:ext cx="54072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359000" y="952560"/>
            <a:ext cx="510372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1209600" y="4719240"/>
            <a:ext cx="54072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59000" y="952560"/>
            <a:ext cx="510372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1209600" y="4719240"/>
            <a:ext cx="54072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359000" y="952560"/>
            <a:ext cx="510372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1209600" y="4719240"/>
            <a:ext cx="54072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359000" y="952560"/>
            <a:ext cx="510372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1209600" y="4719240"/>
            <a:ext cx="54072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59000" y="952560"/>
            <a:ext cx="510372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1209600" y="4719240"/>
            <a:ext cx="54072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359000" y="952560"/>
            <a:ext cx="510372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1209600" y="4719240"/>
            <a:ext cx="54072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59000" y="952560"/>
            <a:ext cx="510372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1209600" y="4719240"/>
            <a:ext cx="54072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59000" y="952560"/>
            <a:ext cx="510372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1209600" y="4719240"/>
            <a:ext cx="54072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59000" y="952560"/>
            <a:ext cx="510372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1209600" y="4719240"/>
            <a:ext cx="54072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39440" y="601200"/>
            <a:ext cx="8599320" cy="130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952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847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59932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39440" y="4585680"/>
            <a:ext cx="859932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39440" y="601200"/>
            <a:ext cx="8599320" cy="130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952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847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616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45840" y="2101680"/>
            <a:ext cx="419616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39440" y="4585680"/>
            <a:ext cx="419616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45840" y="4585680"/>
            <a:ext cx="419616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39440" y="601200"/>
            <a:ext cx="8599320" cy="130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952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847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276876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7160" y="2101680"/>
            <a:ext cx="276876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54520" y="2101680"/>
            <a:ext cx="276876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39440" y="4585680"/>
            <a:ext cx="276876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7160" y="4585680"/>
            <a:ext cx="276876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54520" y="4585680"/>
            <a:ext cx="276876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01200"/>
            <a:ext cx="8599320" cy="130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952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847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599320" cy="47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01200"/>
            <a:ext cx="8599320" cy="130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952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847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599320" cy="47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9440" y="601200"/>
            <a:ext cx="8599320" cy="130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952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847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6160" cy="47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45840" y="2101680"/>
            <a:ext cx="4196160" cy="47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01200"/>
            <a:ext cx="8599320" cy="130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952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847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39440" y="601200"/>
            <a:ext cx="8599320" cy="605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39440" y="601200"/>
            <a:ext cx="8599320" cy="130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952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847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616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45840" y="2101680"/>
            <a:ext cx="4196160" cy="47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39440" y="4585680"/>
            <a:ext cx="419616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39440" y="601200"/>
            <a:ext cx="8599320" cy="130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952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847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6160" cy="47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45840" y="2101680"/>
            <a:ext cx="419616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45840" y="4585680"/>
            <a:ext cx="419616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39440" y="601200"/>
            <a:ext cx="8599320" cy="130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952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847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616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45840" y="2101680"/>
            <a:ext cx="419616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39440" y="4585680"/>
            <a:ext cx="8599320" cy="22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76240" cy="75582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78040" y="1992240"/>
            <a:ext cx="9200880" cy="154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01200"/>
            <a:ext cx="8599320" cy="130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952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b847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b847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39440" y="2101680"/>
            <a:ext cx="8599320" cy="47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6800" indent="-426960"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84080" indent="-426960"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3160" indent="-425520"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60440" indent="-425520"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9520" indent="-428760"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9520" indent="-428760"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9520" indent="-428760"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58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9520" indent="0" algn="ctr">
              <a:lnSpc>
                <a:spcPct val="93000"/>
              </a:lnSpc>
              <a:buNone/>
              <a:tabLst>
                <a:tab algn="l" pos="0"/>
                <a:tab algn="l" pos="20952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b84700"/>
                </a:solidFill>
                <a:latin typeface="Times New Roman"/>
              </a:rPr>
              <a:t>Ups, ma olen admin!</a:t>
            </a:r>
            <a:endParaRPr b="0" lang="en-US" sz="4400" spc="-1" strike="noStrike">
              <a:solidFill>
                <a:srgbClr val="b847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35160" y="3782880"/>
            <a:ext cx="46404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R1 12. loe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9440" y="612720"/>
            <a:ext cx="8604360" cy="12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9520" indent="0" algn="ctr">
              <a:lnSpc>
                <a:spcPct val="93000"/>
              </a:lnSpc>
              <a:buNone/>
              <a:tabLst>
                <a:tab algn="l" pos="0"/>
                <a:tab algn="l" pos="20952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b84700"/>
                </a:solidFill>
                <a:latin typeface="Times New Roman"/>
              </a:rPr>
              <a:t>Ekskurss: häkker ja kräkker</a:t>
            </a:r>
            <a:endParaRPr b="0" lang="en-US" sz="4400" spc="-1" strike="noStrike">
              <a:solidFill>
                <a:srgbClr val="b847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506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91760" indent="-422640">
              <a:lnSpc>
                <a:spcPct val="93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l teemal tuleb eraldi loeng, praegu lühida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1760" indent="-42264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äkker 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hacke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– ajalooliselt arvutifanaatik, võrgupõhise programmeerijate kogukonna esindaja. Nõutav originaalsus ja taiplikk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1760" indent="-42264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räkker 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cracke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– arvutipätt. Nime võtsid kasutusele häkkerid enda eristamiseks pahad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1760" indent="-42264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bleem – kräkkerid ise kutsuvad end sageli häkkeriteks ning meedia korrutab seda järg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1760" indent="-42264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Hacke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päritol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39800" y="601560"/>
            <a:ext cx="860256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9520" indent="0" algn="ctr">
              <a:lnSpc>
                <a:spcPct val="93000"/>
              </a:lnSpc>
              <a:buNone/>
              <a:tabLst>
                <a:tab algn="l" pos="0"/>
                <a:tab algn="l" pos="20952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b84700"/>
                </a:solidFill>
                <a:latin typeface="Times New Roman"/>
              </a:rPr>
              <a:t>„</a:t>
            </a:r>
            <a:r>
              <a:rPr b="0" lang="en-GB" sz="4400" spc="-1" strike="noStrike">
                <a:solidFill>
                  <a:srgbClr val="b84700"/>
                </a:solidFill>
                <a:latin typeface="Times New Roman"/>
              </a:rPr>
              <a:t>A mis seal vahet on...“</a:t>
            </a:r>
            <a:endParaRPr b="0" lang="en-US" sz="4400" spc="-1" strike="noStrike">
              <a:solidFill>
                <a:srgbClr val="b847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9800" y="2101320"/>
            <a:ext cx="8602560" cy="53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6800" indent="-426960">
              <a:lnSpc>
                <a:spcPct val="93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ahe on eetilises piiris, kuid ka oskustes. Paharetid reeglina erialaste oskustega silma ei paista (kahjuks on erandeid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800" indent="-42696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räkkimise motiiv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3160" indent="-425520">
              <a:lnSpc>
                <a:spcPct val="100000"/>
              </a:lnSpc>
              <a:spcAft>
                <a:spcPts val="836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ineline ka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3160" indent="-425520">
              <a:lnSpc>
                <a:spcPct val="100000"/>
              </a:lnSpc>
              <a:spcAft>
                <a:spcPts val="836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ättemaksuhimu või lihtsalt soov käkki keer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3160" indent="-425520">
              <a:lnSpc>
                <a:spcPct val="100000"/>
              </a:lnSpc>
              <a:spcAft>
                <a:spcPts val="836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avatsus süsteemihaldurile koht kätte näida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3160" indent="-425520">
              <a:lnSpc>
                <a:spcPct val="100000"/>
              </a:lnSpc>
              <a:spcAft>
                <a:spcPts val="836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õistlusmoment teiste kräkkeritega (kes murrab esimesena sisse N arvutiss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3160" indent="-425520">
              <a:lnSpc>
                <a:spcPct val="100000"/>
              </a:lnSpc>
              <a:spcAft>
                <a:spcPts val="836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tketuju (tihti on tegu ebastabiilsete isiksusteg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39800" y="601560"/>
            <a:ext cx="860256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9520" indent="0" algn="ctr">
              <a:lnSpc>
                <a:spcPct val="93000"/>
              </a:lnSpc>
              <a:buNone/>
              <a:tabLst>
                <a:tab algn="l" pos="0"/>
                <a:tab algn="l" pos="20952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b84700"/>
                </a:solidFill>
                <a:latin typeface="Times New Roman"/>
              </a:rPr>
              <a:t>Veel paharetlusest</a:t>
            </a:r>
            <a:endParaRPr b="0" lang="en-US" sz="4400" spc="-1" strike="noStrike">
              <a:solidFill>
                <a:srgbClr val="b847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39800" y="2101320"/>
            <a:ext cx="8602560" cy="53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91760" indent="-422640">
              <a:lnSpc>
                <a:spcPct val="93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Hacke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muuhulgas ka 20. sajandi alguse ameerika raadioamatöö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1760" indent="-42264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hreaking, red box, blue box, yellow 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1760" indent="-42264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80-ndad: modemeid pidi arvutivõrku. Kräkkerite kui nähtuse väljakujunemine. Massimeedia õpib ära sõna „häkker“ ja kasutab seda valimatu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1760" indent="-42264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3. (tegelikult juba 2.) november 1988 –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ust neljapäe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A-s: Cornelli tudengi Robert Morrise internetiuss võtab maha suure osa USA võrkudest. Andmeturve leiab laiemat kajastu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39800" y="601560"/>
            <a:ext cx="860256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9520" indent="0" algn="ctr">
              <a:lnSpc>
                <a:spcPct val="93000"/>
              </a:lnSpc>
              <a:buNone/>
              <a:tabLst>
                <a:tab algn="l" pos="0"/>
                <a:tab algn="l" pos="20952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4400" spc="-1" strike="noStrike">
                <a:solidFill>
                  <a:srgbClr val="b84700"/>
                </a:solidFill>
                <a:latin typeface="Times New Roman"/>
              </a:rPr>
              <a:t>Password, password, </a:t>
            </a:r>
            <a:r>
              <a:rPr b="0" lang="en-GB" sz="4400" spc="-1" strike="noStrike">
                <a:solidFill>
                  <a:srgbClr val="b84700"/>
                </a:solidFill>
                <a:latin typeface="Times New Roman"/>
              </a:rPr>
              <a:t>hakka pähe!</a:t>
            </a:r>
            <a:endParaRPr b="0" lang="en-US" sz="4400" spc="-1" strike="noStrike">
              <a:solidFill>
                <a:srgbClr val="b847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86025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6800" indent="-426960">
              <a:lnSpc>
                <a:spcPct val="93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ehvad salasõnad („kala“ jt) - „Windowsi-põlvkonna“ ohtlikemaid haigu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800" indent="-42696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arool kui „tüütu ja mõttetu“ nähtus =&gt; jätkub ka W2000 ja XP ju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800" indent="-42696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age „lahendus“ - kasutame adminirezhiimi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800" indent="-42696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iski pole uus...  Bob Metcalfe'i 1973. aasta RFC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he Stockings Were Hung by the Chimney with Ca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teemaks kehvad parool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39800" y="601560"/>
            <a:ext cx="860256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9520" indent="0" algn="ctr">
              <a:lnSpc>
                <a:spcPct val="93000"/>
              </a:lnSpc>
              <a:buNone/>
              <a:tabLst>
                <a:tab algn="l" pos="0"/>
                <a:tab algn="l" pos="20952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b84700"/>
                </a:solidFill>
                <a:latin typeface="Times New Roman"/>
              </a:rPr>
              <a:t>Parooli valiku kriteeriume</a:t>
            </a:r>
            <a:endParaRPr b="0" lang="en-US" sz="4400" spc="-1" strike="noStrike">
              <a:solidFill>
                <a:srgbClr val="b847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86025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6800" indent="-426960">
              <a:lnSpc>
                <a:spcPct val="93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ähemalt 6-8 märk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800" indent="-42696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ii suur- kui väiketähed, numbrid ja (kus lubatud) ka erisümbol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800" indent="-42696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i oma tähendust üheski levinud keeles (väga eksootiline keel on ehk lubatu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800" indent="-42696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ovitavalt mingi peidetud võtmega. 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84080" indent="-426960">
              <a:lnSpc>
                <a:spcPct val="100000"/>
              </a:lnSpc>
              <a:spcAft>
                <a:spcPts val="1111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Lesta91KaLa! : lemmiktoit + auto väljalaskeaa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4080" indent="-426960">
              <a:lnSpc>
                <a:spcPct val="100000"/>
              </a:lnSpc>
              <a:spcAft>
                <a:spcPts val="1111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5e6a+5ummA : lemmikraamat „Pipi Pikksukk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39800" y="601560"/>
            <a:ext cx="860256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9520" indent="0" algn="ctr">
              <a:lnSpc>
                <a:spcPct val="93000"/>
              </a:lnSpc>
              <a:buNone/>
              <a:tabLst>
                <a:tab algn="l" pos="0"/>
                <a:tab algn="l" pos="20952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4400" spc="-1" strike="noStrike">
                <a:solidFill>
                  <a:srgbClr val="b84700"/>
                </a:solidFill>
                <a:latin typeface="Times New Roman"/>
              </a:rPr>
              <a:t>Quod licet Jovi non licet bovi </a:t>
            </a:r>
            <a:r>
              <a:rPr b="0" lang="en-GB" sz="4400" spc="-1" strike="noStrike">
                <a:solidFill>
                  <a:srgbClr val="b84700"/>
                </a:solidFill>
                <a:latin typeface="Times New Roman"/>
              </a:rPr>
              <a:t>(jälle!)</a:t>
            </a:r>
            <a:endParaRPr b="0" lang="en-US" sz="4400" spc="-1" strike="noStrike">
              <a:solidFill>
                <a:srgbClr val="b847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8602560" cy="532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6800" indent="-426960">
              <a:lnSpc>
                <a:spcPct val="93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ageli on koduarvutil mitu kasutajat – erinevate profiilid ja õigused! Näiteks selline perekon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84080" indent="-426960">
              <a:lnSpc>
                <a:spcPct val="100000"/>
              </a:lnSpc>
              <a:spcAft>
                <a:spcPts val="1111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a – ülikooli ehitusmehaanika õppejõu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4080" indent="-426960">
              <a:lnSpc>
                <a:spcPct val="100000"/>
              </a:lnSpc>
              <a:spcAft>
                <a:spcPts val="1111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ma – keskkooli eesti keele ja kirjanduse õpeta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4080" indent="-426960">
              <a:lnSpc>
                <a:spcPct val="100000"/>
              </a:lnSpc>
              <a:spcAft>
                <a:spcPts val="1111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anem poeg – tudeng, programmeer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4080" indent="-426960">
              <a:lnSpc>
                <a:spcPct val="100000"/>
              </a:lnSpc>
              <a:spcAft>
                <a:spcPts val="1111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orem poeg – 13-a hiphoppar, pinnapealne arvutihuviline (kõva mängu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4080" indent="-426960">
              <a:lnSpc>
                <a:spcPct val="100000"/>
              </a:lnSpc>
              <a:spcAft>
                <a:spcPts val="1111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isitütar – 4-a lasteaiala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6800" indent="-42696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uidas vältida olukorda, kus ühe pereliikme teadmatus/lollus kahjustab ka kõiki teis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39800" y="601560"/>
            <a:ext cx="860256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9520" indent="0" algn="ctr">
              <a:lnSpc>
                <a:spcPct val="93000"/>
              </a:lnSpc>
              <a:buNone/>
              <a:tabLst>
                <a:tab algn="l" pos="0"/>
                <a:tab algn="l" pos="20952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b84700"/>
                </a:solidFill>
                <a:latin typeface="Times New Roman"/>
              </a:rPr>
              <a:t>Kodune võrk</a:t>
            </a:r>
            <a:endParaRPr b="0" lang="en-US" sz="4400" spc="-1" strike="noStrike">
              <a:solidFill>
                <a:srgbClr val="b847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39800" y="2101320"/>
            <a:ext cx="8602560" cy="53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6800" indent="-426960">
              <a:lnSpc>
                <a:spcPct val="93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asulik asi, kuid  vajab veidi läbimõtlem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800" indent="-42696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Üldiselt eeldab kas spetsiaalset riistvaralist tulemüüriga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(müüakse sobivaid 4-5 kohalisi) või eraldi (vanemast) arvutist tehtud tulemüüri (võib toimida ka koduse serverina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800" indent="-42696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P: staatiline või dünaamiline, sisemised või välimis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800" indent="-42696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raadiga või traadit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800" indent="-42696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ui palju turvet vajab ja kes seda paku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39800" y="601560"/>
            <a:ext cx="860256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9520" indent="0" algn="ctr">
              <a:lnSpc>
                <a:spcPct val="93000"/>
              </a:lnSpc>
              <a:buNone/>
              <a:tabLst>
                <a:tab algn="l" pos="0"/>
                <a:tab algn="l" pos="20952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b84700"/>
                </a:solidFill>
                <a:latin typeface="Times New Roman"/>
              </a:rPr>
              <a:t>Ohud kodukasutajale</a:t>
            </a:r>
            <a:endParaRPr b="0" lang="en-US" sz="4400" spc="-1" strike="noStrike">
              <a:solidFill>
                <a:srgbClr val="b847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8602560" cy="51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91760" indent="-422640">
              <a:lnSpc>
                <a:spcPct val="93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amiselt jälle Windowsi rahvale suunatud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1760" indent="-422640">
              <a:lnSpc>
                <a:spcPct val="93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rooja hobused“ - tavatarkvara sildi all („uus Winzip!“) levitatavad pahal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1760" indent="-42264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agaukseprogrammid (NetBus, Back Orifi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1760" indent="-42264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S-ründed (ligipääsu saamisek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1760" indent="-42264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rvuti hõivamine DDOS-ründeks mõne suurema objekti vas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1760" indent="-42264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ünded Windowsi väljajagatud 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harin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kettaosade vas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39800" y="601560"/>
            <a:ext cx="860256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9520" indent="0" algn="ctr">
              <a:lnSpc>
                <a:spcPct val="93000"/>
              </a:lnSpc>
              <a:buNone/>
              <a:tabLst>
                <a:tab algn="l" pos="0"/>
                <a:tab algn="l" pos="20952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b84700"/>
                </a:solidFill>
                <a:latin typeface="Times New Roman"/>
              </a:rPr>
              <a:t>...</a:t>
            </a:r>
            <a:endParaRPr b="0" lang="en-US" sz="4400" spc="-1" strike="noStrike">
              <a:solidFill>
                <a:srgbClr val="b847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8602560" cy="50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91760" indent="-422640">
              <a:lnSpc>
                <a:spcPct val="93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eebipõhised ründed – kuritahtlikult kirjutatud Java ja ActiveX'i skriptid. Peamine sihtmärk 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1760" indent="-42264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augskriptimine – eelmise edasijõudnum variant, kus kuri skript käivitub mingi legitiimse veebielemendi (näiteks vormi) lugemis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1760" indent="-42264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õltsmeilid ja muu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human engine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1760" indent="-42264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eiliviirused - „Ära ava manuseid!!!“ (N 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1760" indent="-42264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opelt faililaienditega manused –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oveletter.txt.vb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jm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39800" y="601560"/>
            <a:ext cx="860256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9520" indent="0" algn="ctr">
              <a:lnSpc>
                <a:spcPct val="93000"/>
              </a:lnSpc>
              <a:buNone/>
              <a:tabLst>
                <a:tab algn="l" pos="0"/>
                <a:tab algn="l" pos="20952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b84700"/>
                </a:solidFill>
                <a:latin typeface="Times New Roman"/>
              </a:rPr>
              <a:t>...</a:t>
            </a:r>
            <a:endParaRPr b="0" lang="en-US" sz="4400" spc="-1" strike="noStrike">
              <a:solidFill>
                <a:srgbClr val="b847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86025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6800" indent="-426960">
              <a:lnSpc>
                <a:spcPct val="93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baturvalised suhtlusprogrammid – probleeme on olnud mitmete IRC, MSNi jms. klientidega. Tasub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ettin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d üle vaadata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800" indent="-42696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nifferid – võrguliikluse pealtkuulamine eri viisidel. NB! CERT hinnangul on kaablimodem (Starman) võrgu ülesehituse tõttu vähem turvaline kui ADSL (Uninet, Elion). Aitab krüpteerimine – SSH telneti asemel, SFTP FTP asemel, meilide krüpteerimine j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58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9520" indent="0" algn="ctr">
              <a:lnSpc>
                <a:spcPct val="93000"/>
              </a:lnSpc>
              <a:buNone/>
              <a:tabLst>
                <a:tab algn="l" pos="0"/>
                <a:tab algn="l" pos="20952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b84700"/>
                </a:solidFill>
                <a:latin typeface="Times New Roman"/>
              </a:rPr>
              <a:t>Vanasti oli rohi rohelisem...</a:t>
            </a:r>
            <a:endParaRPr b="0" lang="en-US" sz="4400" spc="-1" strike="noStrike">
              <a:solidFill>
                <a:srgbClr val="b847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3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6800" indent="-426960">
              <a:lnSpc>
                <a:spcPct val="93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.. ja Internetis ei tehtud pahand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800" indent="-42696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70-ndad: halvimal juhul tõi hooletus kaasa mõne riuka 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baggypantsin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Georgia Tehnikaülikooli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800" indent="-42696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991: Internet läheb lahti äriks, kuid ka sigadusteks (väga sageli äri nime al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800" indent="-42696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anasti olid laevad puust ja mehed rauast“ - tänapäeval on lihtsad ja kiired püsiühendused, kuid kasutajate summaarne kompetents on kahjuks  kõvasti langenu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39800" y="601560"/>
            <a:ext cx="860256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9520" indent="0" algn="ctr">
              <a:lnSpc>
                <a:spcPct val="93000"/>
              </a:lnSpc>
              <a:buNone/>
              <a:tabLst>
                <a:tab algn="l" pos="0"/>
                <a:tab algn="l" pos="20952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b84700"/>
                </a:solidFill>
                <a:latin typeface="Times New Roman"/>
              </a:rPr>
              <a:t>Õppida, õppida, õppida...</a:t>
            </a:r>
            <a:endParaRPr b="0" lang="en-US" sz="4400" spc="-1" strike="noStrike">
              <a:solidFill>
                <a:srgbClr val="b847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86025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6800" indent="-426960">
              <a:lnSpc>
                <a:spcPct val="93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aljudes valdkondades on tänapäeval kasulikum jätta erialased jätta proffide hooleks (maja ehitamine, auto remont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800" indent="-42696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ehtis ka arvutiasjanduses – kuni võrgunduse massilise leviku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800" indent="-42696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änane võrgukasutaja peaks tegelikult teadma arvutist rohkemgi kui eelmine põlvkond – või suutma need teadmised „sisse osta“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39800" y="601560"/>
            <a:ext cx="860256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9520" indent="0" algn="ctr">
              <a:lnSpc>
                <a:spcPct val="93000"/>
              </a:lnSpc>
              <a:buNone/>
              <a:tabLst>
                <a:tab algn="l" pos="0"/>
                <a:tab algn="l" pos="20952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b84700"/>
                </a:solidFill>
                <a:latin typeface="Times New Roman"/>
              </a:rPr>
              <a:t>Mida peaks oskama?</a:t>
            </a:r>
            <a:endParaRPr b="0" lang="en-US" sz="4400" spc="-1" strike="noStrike">
              <a:solidFill>
                <a:srgbClr val="b847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86025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91760" indent="-422640">
              <a:lnSpc>
                <a:spcPct val="93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unne oma arvutit (tähtsamate osade margi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1760" indent="-42264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ea, mis tarkvara Su arvutis 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1760" indent="-42264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ska kettal orientee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1760" indent="-42264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ska süsteemi regulaarselt uuendada (enamikul juhtudel üsna liht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1760" indent="-42264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rienteeru tähtsamates abiprogrammides (anti-viirused, nuhkvaraeemaldajad jm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1760" indent="-42264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le uudishimulik ja õpivõ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39800" y="601200"/>
            <a:ext cx="8601120" cy="13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9520" indent="0" algn="ctr">
              <a:lnSpc>
                <a:spcPct val="93000"/>
              </a:lnSpc>
              <a:buNone/>
              <a:tabLst>
                <a:tab algn="l" pos="0"/>
                <a:tab algn="l" pos="20952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b84700"/>
                </a:solidFill>
                <a:latin typeface="Times New Roman"/>
              </a:rPr>
              <a:t>Pahad Asjad</a:t>
            </a:r>
            <a:endParaRPr b="0" lang="en-US" sz="4400" spc="-1" strike="noStrike">
              <a:solidFill>
                <a:srgbClr val="b847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39800" y="2101320"/>
            <a:ext cx="8601120" cy="49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91760" indent="-422640">
              <a:lnSpc>
                <a:spcPct val="93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asutada arvutit pidevalt administraator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1760" indent="-42264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alida parooliks lihtsaid sõ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1760" indent="-42264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Jätta süsteem uuendam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1760" indent="-42264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onida võrgus sinna, kuhu pole va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1760" indent="-42264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oppida oma meiliaadressi igale po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1760" indent="-42264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äppida võõrastelt tulnud meilide manusefa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1760" indent="-42264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aigaldada Windowsile tundmatust allikast pärit tarkva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39800" y="601200"/>
            <a:ext cx="8601120" cy="13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9520" indent="0" algn="ctr">
              <a:lnSpc>
                <a:spcPct val="93000"/>
              </a:lnSpc>
              <a:buNone/>
              <a:tabLst>
                <a:tab algn="l" pos="0"/>
                <a:tab algn="l" pos="20952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b84700"/>
                </a:solidFill>
                <a:latin typeface="Times New Roman"/>
              </a:rPr>
              <a:t>Paar soovitust Windowsi kasutajale</a:t>
            </a:r>
            <a:endParaRPr b="0" lang="en-US" sz="4400" spc="-1" strike="noStrike">
              <a:solidFill>
                <a:srgbClr val="b847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86011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6800" indent="-426960">
              <a:lnSpc>
                <a:spcPct val="93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senda MS Outlook Mozilla Thunderbirdi ning MS Internet Explorer Mozilla Firebirdiga. Väga mitmed riskid vähenev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800" indent="-42696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aigalda MS Office'i asemele või vähemalt kõrvale OpenOffice.org. Viimasel juhul võiks MSi kasutada vaid juhtudel, kui OO.o hätta jääb. Praktiliselt kaob Office'i makroviiruste o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800" indent="-42696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asuks kaaluda süsteemi väljavahetamist. Täitsa tõsise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39800" y="601200"/>
            <a:ext cx="8601120" cy="13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9520" indent="0" algn="ctr">
              <a:lnSpc>
                <a:spcPct val="93000"/>
              </a:lnSpc>
              <a:buNone/>
              <a:tabLst>
                <a:tab algn="l" pos="0"/>
                <a:tab algn="l" pos="20952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b84700"/>
                </a:solidFill>
                <a:latin typeface="Times New Roman"/>
              </a:rPr>
              <a:t>Kodukasutaja 10 käsku</a:t>
            </a:r>
            <a:endParaRPr b="0" lang="en-US" sz="4400" spc="-1" strike="noStrike">
              <a:solidFill>
                <a:srgbClr val="b847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86011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6800" indent="-426960">
              <a:lnSpc>
                <a:spcPct val="93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. Sina pead oma arvutisüsteemi uuendama, sest viirused, pahavara  ja kurjad inimesed ei jäta lohakat mitte karistam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800" indent="-42696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. Sina ei pea mitte võtma enesele ilmaasjata administraatoriõigus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800" indent="-42696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3. Sina pead valima oma paroolid korralikult, eriti administraatori oma, ja sinu paroolidel ei pea mitte olema mõistlikku tähendust üheski sinule teadaolevas kee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39800" y="601200"/>
            <a:ext cx="8601120" cy="13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9520" indent="0" algn="ctr">
              <a:lnSpc>
                <a:spcPct val="93000"/>
              </a:lnSpc>
              <a:buNone/>
              <a:tabLst>
                <a:tab algn="l" pos="0"/>
                <a:tab algn="l" pos="20952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b84700"/>
                </a:solidFill>
                <a:latin typeface="Times New Roman"/>
              </a:rPr>
              <a:t>...</a:t>
            </a:r>
            <a:endParaRPr b="0" lang="en-US" sz="4400" spc="-1" strike="noStrike">
              <a:solidFill>
                <a:srgbClr val="b847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39800" y="2101320"/>
            <a:ext cx="8601120" cy="537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6800" indent="-426960">
              <a:lnSpc>
                <a:spcPct val="93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4. Sina pead tegema igale oma arvuti kasutajale tema enese kon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800" indent="-42696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5. Sina pead panema oma arvutisse antiviiruse ja nuhkvaratõrjuja ning neid tihedasti kasutama, kui sina soovid jääda Windowsi juur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800" indent="-42696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6. Sina ei pea mitte puutuma tundmatuid manuseid oma e-kirjades ega lubama seda teha kellelgi, kes sinu kojas ela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800" indent="-42696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7. Sina pead kasutama tulemüüri ja rämpspostifiltr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39800" y="601200"/>
            <a:ext cx="8601120" cy="13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9520" indent="0" algn="ctr">
              <a:lnSpc>
                <a:spcPct val="93000"/>
              </a:lnSpc>
              <a:buNone/>
              <a:tabLst>
                <a:tab algn="l" pos="0"/>
                <a:tab algn="l" pos="20952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b84700"/>
                </a:solidFill>
                <a:latin typeface="Times New Roman"/>
              </a:rPr>
              <a:t>...</a:t>
            </a:r>
            <a:endParaRPr b="0" lang="en-US" sz="4400" spc="-1" strike="noStrike">
              <a:solidFill>
                <a:srgbClr val="b847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39800" y="2101320"/>
            <a:ext cx="8601120" cy="537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6800" indent="-426960">
              <a:lnSpc>
                <a:spcPct val="93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8. Sina pead teadma, mis tarkvara sinu arvutis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800" indent="-42696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9. Sina teed hästi, kui sina kasutad OpenOffice.org'i, Mozilla Thunderbirdi ja Firefoxi MS Office'i, MS Outlooki ja Internet Exploreri asem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800" indent="-42696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0. Sina pead usinasti taotlema tarkust ja otsima tarku inimesi enesele abiks. Tark inimene teeb ühe korra valesti, rumal teeb seda aina uuest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800" indent="-42696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Aamen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39800" y="601560"/>
            <a:ext cx="860256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9520" indent="0" algn="ctr">
              <a:lnSpc>
                <a:spcPct val="93000"/>
              </a:lnSpc>
              <a:buNone/>
              <a:tabLst>
                <a:tab algn="l" pos="0"/>
                <a:tab algn="l" pos="20952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b84700"/>
                </a:solidFill>
                <a:latin typeface="Times New Roman"/>
              </a:rPr>
              <a:t>„</a:t>
            </a:r>
            <a:r>
              <a:rPr b="0" lang="en-GB" sz="4400" spc="-1" strike="noStrike">
                <a:solidFill>
                  <a:srgbClr val="b84700"/>
                </a:solidFill>
                <a:latin typeface="Times New Roman"/>
              </a:rPr>
              <a:t>Ähh, ei viitsi!“</a:t>
            </a:r>
            <a:endParaRPr b="0" lang="en-US" sz="4400" spc="-1" strike="noStrike">
              <a:solidFill>
                <a:srgbClr val="b847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8602560" cy="50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6800" indent="-426960">
              <a:lnSpc>
                <a:spcPct val="93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ovitused sel juhu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84080" indent="-426960">
              <a:lnSpc>
                <a:spcPct val="100000"/>
              </a:lnSpc>
              <a:spcAft>
                <a:spcPts val="1111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Ära kasuta kodus võrku ja vaheta andmeid vanal heal disketimeetodil (kuid ka siis on vaja antiviirusi ja muud sarna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4080" indent="-426960">
              <a:lnSpc>
                <a:spcPct val="100000"/>
              </a:lnSpc>
              <a:spcAft>
                <a:spcPts val="1111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asuta sissehelistamisteenust – lühike liinilolekuaeg vähendab riske  (kuid ei kaota ne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4080" indent="-426960">
              <a:lnSpc>
                <a:spcPct val="100000"/>
              </a:lnSpc>
              <a:spcAft>
                <a:spcPts val="1111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usta WiFi heaga ära!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6800" indent="-42696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üsiühenduse soovija aga peaks tegema nii,  nagu eespool öeldu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39800" y="601560"/>
            <a:ext cx="860256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9520" indent="0" algn="ctr">
              <a:lnSpc>
                <a:spcPct val="93000"/>
              </a:lnSpc>
              <a:buNone/>
              <a:tabLst>
                <a:tab algn="l" pos="0"/>
                <a:tab algn="l" pos="20952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b84700"/>
                </a:solidFill>
                <a:latin typeface="Times New Roman"/>
              </a:rPr>
              <a:t>Vat nii!</a:t>
            </a:r>
            <a:endParaRPr b="0" lang="en-US" sz="4400" spc="-1" strike="noStrike">
              <a:solidFill>
                <a:srgbClr val="b847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201680" y="146520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39440" y="612720"/>
            <a:ext cx="8604360" cy="12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9520" indent="0" algn="ctr">
              <a:lnSpc>
                <a:spcPct val="93000"/>
              </a:lnSpc>
              <a:buNone/>
              <a:tabLst>
                <a:tab algn="l" pos="0"/>
                <a:tab algn="l" pos="20952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b84700"/>
                </a:solidFill>
                <a:latin typeface="Times New Roman"/>
              </a:rPr>
              <a:t>„</a:t>
            </a:r>
            <a:r>
              <a:rPr b="0" lang="en-GB" sz="4400" spc="-1" strike="noStrike">
                <a:solidFill>
                  <a:srgbClr val="b84700"/>
                </a:solidFill>
                <a:latin typeface="Times New Roman"/>
              </a:rPr>
              <a:t>No ja keda see huvitab?“</a:t>
            </a:r>
            <a:endParaRPr b="0" lang="en-US" sz="4400" spc="-1" strike="noStrike">
              <a:solidFill>
                <a:srgbClr val="b847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907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6800" indent="-426960">
              <a:lnSpc>
                <a:spcPct val="93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us arvuti (standardne komplek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800" indent="-42696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indows XP (arvutipoes peale pandu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800" indent="-42696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aablimodem (netifirmast renditu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800" indent="-42696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iire püsiühendus (netifirma paigaldatud)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800" indent="-42696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ädala pärast hakkab kiirus langema, arvutisse ilmuvad tundmatud programmid, modem krõ-bistab töötada ka siis, kui keegi arvuti taga pol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9800" y="601200"/>
            <a:ext cx="8601120" cy="13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9520" indent="0" algn="ctr">
              <a:lnSpc>
                <a:spcPct val="93000"/>
              </a:lnSpc>
              <a:buNone/>
              <a:tabLst>
                <a:tab algn="l" pos="0"/>
                <a:tab algn="l" pos="20952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b84700"/>
                </a:solidFill>
                <a:latin typeface="Times New Roman"/>
              </a:rPr>
              <a:t>„</a:t>
            </a:r>
            <a:r>
              <a:rPr b="0" lang="en-GB" sz="4400" spc="-1" strike="noStrike">
                <a:solidFill>
                  <a:srgbClr val="b84700"/>
                </a:solidFill>
                <a:latin typeface="Times New Roman"/>
              </a:rPr>
              <a:t>Miks peaks keegi mind ründama?“</a:t>
            </a:r>
            <a:endParaRPr b="0" lang="en-US" sz="4400" spc="-1" strike="noStrike">
              <a:solidFill>
                <a:srgbClr val="b847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39800" y="2101320"/>
            <a:ext cx="860112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6800" indent="-426960">
              <a:lnSpc>
                <a:spcPct val="93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age eksiarvamus – mina olen pisi-pisike, mul pole siit midagi võtta, keegi siia ei tul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800" indent="-42696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uurem osa võrguründeid on anonüümsed, s.t.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ei ole suunatud konkreetse objekti vas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800" indent="-42696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Üsna tüüpiline asjade käi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60440" indent="-425520">
              <a:lnSpc>
                <a:spcPct val="100000"/>
              </a:lnSpc>
              <a:spcAft>
                <a:spcPts val="55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ingis süsteemis avastatakse turvaauk, info selle kohta levi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60440" indent="-425520">
              <a:lnSpc>
                <a:spcPct val="100000"/>
              </a:lnSpc>
              <a:spcAft>
                <a:spcPts val="55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õni andekas, kuid kuri inimene loob tarkvara selle ärakasutamiseks (ingl. k.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exploi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60440" indent="-425520">
              <a:lnSpc>
                <a:spcPct val="100000"/>
              </a:lnSpc>
              <a:spcAft>
                <a:spcPts val="55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+1lolli nolki  tõmbavad selle endale ja hakkavad ürit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60440" indent="-425520">
              <a:lnSpc>
                <a:spcPct val="100000"/>
              </a:lnSpc>
              <a:spcAft>
                <a:spcPts val="55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kaneeritakse läbi mingi võrgusegment konkreetse augu otsing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60440" indent="-425520">
              <a:lnSpc>
                <a:spcPct val="100000"/>
              </a:lnSpc>
              <a:spcAft>
                <a:spcPts val="55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aikamata masinaid rünnataks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exploi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 ab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9440" y="612720"/>
            <a:ext cx="8604360" cy="12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9520" indent="0" algn="ctr">
              <a:lnSpc>
                <a:spcPct val="93000"/>
              </a:lnSpc>
              <a:buNone/>
              <a:tabLst>
                <a:tab algn="l" pos="0"/>
                <a:tab algn="l" pos="20952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488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78760"/>
                <a:tab algn="l" pos="9428040"/>
                <a:tab algn="l" pos="9877320"/>
                <a:tab algn="l" pos="10326600"/>
                <a:tab algn="l" pos="10775880"/>
                <a:tab algn="l" pos="10779120"/>
                <a:tab algn="l" pos="10782360"/>
              </a:tabLst>
            </a:pPr>
            <a:r>
              <a:rPr b="0" lang="en-GB" sz="4400" spc="-1" strike="noStrike">
                <a:solidFill>
                  <a:srgbClr val="b84700"/>
                </a:solidFill>
                <a:latin typeface="Times New Roman"/>
              </a:rPr>
              <a:t>„</a:t>
            </a:r>
            <a:r>
              <a:rPr b="0" lang="en-GB" sz="4400" spc="-1" strike="noStrike">
                <a:solidFill>
                  <a:srgbClr val="b84700"/>
                </a:solidFill>
                <a:latin typeface="Times New Roman"/>
              </a:rPr>
              <a:t>Keegi murdis sisse. </a:t>
            </a:r>
            <a:r>
              <a:rPr b="0" i="1" lang="en-GB" sz="4400" spc="-1" strike="noStrike">
                <a:solidFill>
                  <a:srgbClr val="b84700"/>
                </a:solidFill>
                <a:latin typeface="Times New Roman"/>
              </a:rPr>
              <a:t>So what</a:t>
            </a:r>
            <a:r>
              <a:rPr b="0" i="1" lang="en-GB" sz="4400" spc="-1" strike="noStrike">
                <a:solidFill>
                  <a:srgbClr val="b847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b84700"/>
                </a:solidFill>
                <a:latin typeface="Times New Roman"/>
              </a:rPr>
              <a:t>?“</a:t>
            </a:r>
            <a:endParaRPr b="0" lang="en-US" sz="4400" spc="-1" strike="noStrike">
              <a:solidFill>
                <a:srgbClr val="b847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6800" indent="-426960">
              <a:lnSpc>
                <a:spcPct val="93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 vaatame, mis me siit leiame...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3160" indent="-425520">
              <a:lnSpc>
                <a:spcPct val="100000"/>
              </a:lnSpc>
              <a:spcAft>
                <a:spcPts val="836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earaamat.xls, eelarve.doc, finantseerijad.doc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3160" indent="-425520">
              <a:lnSpc>
                <a:spcPct val="100000"/>
              </a:lnSpc>
              <a:spcAft>
                <a:spcPts val="836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anäe, see kutt tunneb paari tüüpi europarlamendis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3160" indent="-425520">
              <a:lnSpc>
                <a:spcPct val="100000"/>
              </a:lnSpc>
              <a:spcAft>
                <a:spcPts val="836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wo_Towers.avi, eminem.m3u, bizkit.mp3... lahe nod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6800" indent="-42696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äägib USA saatkonna sekretär. Teie arvutist meie vastu tehtud rünnete tõttu oleme sunnitud teid kohtusse andma.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800" indent="-42696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uidas??? Piraattarkvara arhiiv minu arvutis? Ma tõesti ei tea asjast midagi!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39800" y="601200"/>
            <a:ext cx="8601120" cy="13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9520" indent="0" algn="ctr">
              <a:lnSpc>
                <a:spcPct val="93000"/>
              </a:lnSpc>
              <a:buNone/>
              <a:tabLst>
                <a:tab algn="l" pos="0"/>
                <a:tab algn="l" pos="20952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b84700"/>
                </a:solidFill>
                <a:latin typeface="Times New Roman"/>
              </a:rPr>
              <a:t>Loll pea on ihu nuhtlus...</a:t>
            </a:r>
            <a:endParaRPr b="0" lang="en-US" sz="4400" spc="-1" strike="noStrike">
              <a:solidFill>
                <a:srgbClr val="b847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39800" y="2101320"/>
            <a:ext cx="8601120" cy="492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6800" indent="-426960">
              <a:lnSpc>
                <a:spcPct val="93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sikliku/konfidentsiaalse info „rändamaminek“, sh otsene oht rahakotile (sniffer + internetipan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800" indent="-42696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ämpspostkon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800" indent="-42696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ornoarhiiv (eriti hull erijuhtum: lasteporn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800" indent="-42696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RC-kanal varastatud krediitkaartide äri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800" indent="-42696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iiruselab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800" indent="-42696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baseadusliku tarkvara ladu/levitamisko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800" indent="-42696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ünde-hüppelaud (sageli mitmekord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9440" y="603000"/>
            <a:ext cx="8604360" cy="13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9520" indent="0" algn="ctr">
              <a:lnSpc>
                <a:spcPct val="93000"/>
              </a:lnSpc>
              <a:buNone/>
              <a:tabLst>
                <a:tab algn="l" pos="0"/>
                <a:tab algn="l" pos="20952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b84700"/>
                </a:solidFill>
                <a:latin typeface="Times New Roman"/>
              </a:rPr>
              <a:t>„</a:t>
            </a:r>
            <a:r>
              <a:rPr b="0" lang="en-GB" sz="4400" spc="-1" strike="noStrike">
                <a:solidFill>
                  <a:srgbClr val="b84700"/>
                </a:solidFill>
                <a:latin typeface="Times New Roman"/>
              </a:rPr>
              <a:t>Aga see muukimine peaks ju keeruline olema?“</a:t>
            </a:r>
            <a:endParaRPr b="0" lang="en-US" sz="4400" spc="-1" strike="noStrike">
              <a:solidFill>
                <a:srgbClr val="b847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4360" cy="48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91760" indent="-422640">
              <a:lnSpc>
                <a:spcPct val="93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unagi ammu võis see nii ol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1760" indent="-42264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õnel juhul on see ka täna n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1760" indent="-42264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.. paljudel (vt. eespool) aga ei o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1760" indent="-42264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UGAVALT JA MASINA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76160" indent="-422640">
              <a:lnSpc>
                <a:spcPct val="100000"/>
              </a:lnSpc>
              <a:spcAft>
                <a:spcPts val="1111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kript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76160" indent="-422640">
              <a:lnSpc>
                <a:spcPct val="100000"/>
              </a:lnSpc>
              <a:spcAft>
                <a:spcPts val="1111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niffe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76160" indent="-422640">
              <a:lnSpc>
                <a:spcPct val="100000"/>
              </a:lnSpc>
              <a:spcAft>
                <a:spcPts val="1111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ootk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1760" indent="-42264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uur osa varustust on netist vabalt saadav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9800" y="601200"/>
            <a:ext cx="8601120" cy="13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9520" indent="0" algn="ctr">
              <a:lnSpc>
                <a:spcPct val="93000"/>
              </a:lnSpc>
              <a:buNone/>
              <a:tabLst>
                <a:tab algn="l" pos="0"/>
                <a:tab algn="l" pos="20952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b84700"/>
                </a:solidFill>
                <a:latin typeface="Times New Roman"/>
              </a:rPr>
              <a:t>Ettepanek, millest ei saa keelduda</a:t>
            </a:r>
            <a:endParaRPr b="0" lang="en-US" sz="4400" spc="-1" strike="noStrike">
              <a:solidFill>
                <a:srgbClr val="b847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8601120" cy="499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91760" indent="-422640">
              <a:lnSpc>
                <a:spcPct val="93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ut laadi organiseeritud kuritegevus, mille ohvriteks on Lääne-Euroopa IT-võhikud, kelle äri aga sõltub võrguühendus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1760" indent="-42264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kske meile 5000 naela või olete 2 nädalat ilma võrguta!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1760" indent="-42264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i ole tühi ähvardus -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botne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d on reaals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1760" indent="-42264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õistliku“ summa korral kutsub maks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1760" indent="-42264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äe, loll maksis – küsime järgmine kord rohkem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9440" y="603000"/>
            <a:ext cx="8604360" cy="13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9520" indent="0" algn="ctr">
              <a:lnSpc>
                <a:spcPct val="93000"/>
              </a:lnSpc>
              <a:buNone/>
              <a:tabLst>
                <a:tab algn="l" pos="0"/>
                <a:tab algn="l" pos="20952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b84700"/>
                </a:solidFill>
                <a:latin typeface="Times New Roman"/>
              </a:rPr>
              <a:t>„</a:t>
            </a:r>
            <a:r>
              <a:rPr b="0" lang="en-GB" sz="4400" spc="-1" strike="noStrike">
                <a:solidFill>
                  <a:srgbClr val="b84700"/>
                </a:solidFill>
                <a:latin typeface="Times New Roman"/>
              </a:rPr>
              <a:t>Aga siis on täitsa kama – nagunii tehakse ära!“</a:t>
            </a:r>
            <a:endParaRPr b="0" lang="en-US" sz="4400" spc="-1" strike="noStrike">
              <a:solidFill>
                <a:srgbClr val="b847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506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91760" indent="-422640">
              <a:lnSpc>
                <a:spcPct val="93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ullriski pole ole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1760" indent="-42264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iisava motivatsiooni korral tehakse asi ä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1760" indent="-42264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õimalik ajada motivatsioonilävi piisavalt kõrgek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1760" indent="-42264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orteri turvalukk ei peata N salateenistuse agente, kuid peab kinni narkarist päti – sama loogika kehtib ka võrg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1760" indent="-42264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uurem osa lihtsatest muukimisvahenditest vajavad hooldamata süsteem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aido Kikkas</cp:lastModifiedBy>
  <cp:revision>0</cp:revision>
  <dc:subject/>
  <dc:title/>
</cp:coreProperties>
</file>