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15B-BAA0-4968-9609-CD8D7FDE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226-18C8-4299-9173-BAE257CA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44D-BA76-4704-91E4-AB7AA9FB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2F1-AD88-48EB-8B24-BF464AC0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E4F-9081-4117-8946-EE393759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93C-27ED-4979-A426-CDB7FE5C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C85-DF08-4FC2-A900-2AF9B2E0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604-2B03-4A5E-888F-AB7C89DC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63B-4082-4387-BBBB-494C352E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C79-58D9-4F8E-BCA5-2479C0E2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510-CD7D-4CE5-99B4-6077908B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398-3C6C-4E24-BDB2-AC6901BB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E26F-C3D8-4788-A242-E631F5D021E8}" type="slidenum">
              <a:rPr b="0" lang="et-E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PHP 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98989"/>
                </a:solidFill>
                <a:latin typeface="Calibri"/>
              </a:rPr>
              <a:t>Some advance elements </a:t>
            </a:r>
            <a:br>
              <a:rPr sz="3200"/>
            </a:br>
            <a:r>
              <a:rPr b="0" i="1" lang="et-EE" sz="2400" spc="-1" strike="noStrike">
                <a:solidFill>
                  <a:srgbClr val="898989"/>
                </a:solidFill>
                <a:latin typeface="Calibri"/>
              </a:rPr>
              <a:t>not required in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t-EE" sz="1500" spc="-1" strike="noStrike">
                <a:solidFill>
                  <a:srgbClr val="1f497d"/>
                </a:solidFill>
                <a:latin typeface="Calibri"/>
              </a:rPr>
              <a:t>abstract</a:t>
            </a: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class AbstractClass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1" lang="en-US" sz="1500" spc="-1" strike="noStrike">
                <a:solidFill>
                  <a:srgbClr val="4f6228"/>
                </a:solidFill>
                <a:latin typeface="Calibri"/>
              </a:rPr>
              <a:t>abstract</a:t>
            </a: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protected function getValue();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public function printOut() {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    print $this-&gt;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() . "\n";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}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class ConcreteClass1 extends AbstractClass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1" lang="en-US" sz="1500" spc="-1" strike="noStrike">
                <a:solidFill>
                  <a:srgbClr val="4f6228"/>
                </a:solidFill>
                <a:latin typeface="Calibri"/>
              </a:rPr>
              <a:t>protected function getValue()</a:t>
            </a: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{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    return "ConcreteClass1";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}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class ConcreteClass2 extends AbstractClass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1" lang="en-US" sz="1500" spc="-1" strike="noStrike">
                <a:solidFill>
                  <a:srgbClr val="4f6228"/>
                </a:solidFill>
                <a:latin typeface="Calibri"/>
              </a:rPr>
              <a:t>public function getValue() </a:t>
            </a: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    return "ConcreteClass2";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1500"/>
            </a:br>
            <a:r>
              <a:rPr b="0" lang="en-US" sz="15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A possibility to encapsulate and divide similar concepts by the area of usage. For example there could be an “operation” concept, which means one in math and another in medicine</a:t>
            </a: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00040" y="4357800"/>
            <a:ext cx="41432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namespace 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CompanyName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\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static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function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getHtml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) {}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500720" y="4357800"/>
            <a:ext cx="41432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namespace 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CompanyName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\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Security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static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function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getHtml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) {}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Namespaces: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e46c0a"/>
                </a:solidFill>
                <a:latin typeface="Calibri"/>
              </a:rPr>
              <a:t>echo CompanyName\Finance\Account::getHtml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e46c0a"/>
                </a:solidFill>
                <a:latin typeface="Calibri"/>
              </a:rPr>
              <a:t>echo CompanyName\Security\Account::getHtml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Calibri"/>
              </a:rPr>
              <a:t>c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1f497d"/>
                </a:solidFill>
                <a:latin typeface="Calibri"/>
              </a:rPr>
              <a:t>use</a:t>
            </a:r>
            <a:r>
              <a:rPr b="0" lang="et-EE" sz="2400" spc="-1" strike="noStrike">
                <a:solidFill>
                  <a:srgbClr val="e46c0a"/>
                </a:solidFill>
                <a:latin typeface="Calibri"/>
              </a:rPr>
              <a:t> CompanyName\Financ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e46c0a"/>
                </a:solidFill>
                <a:latin typeface="Calibri"/>
              </a:rPr>
              <a:t>echo Account::getHtml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428760" y="1428840"/>
            <a:ext cx="41432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namespace 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CompanyName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\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static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function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getHtml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) {}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4429080" y="1428840"/>
            <a:ext cx="41436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namespace 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CompanyName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\</a:t>
            </a: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Security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static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function 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getHtml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) {}</a:t>
            </a:r>
            <a:br>
              <a:rPr sz="1800"/>
            </a:b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Error hand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alibri"/>
              </a:rPr>
              <a:t>So f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die ($stat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exit ($status) - </a:t>
            </a:r>
            <a:r>
              <a:rPr b="0" lang="en-US" sz="2800" spc="-1" strike="noStrike">
                <a:solidFill>
                  <a:srgbClr val="558ed5"/>
                </a:solidFill>
                <a:latin typeface="Calibri"/>
              </a:rPr>
              <a:t>Terminates execution of the 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Calibri"/>
              </a:rPr>
              <a:t>@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Error hand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Calibri"/>
              </a:rPr>
              <a:t>Try, catch , th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try {</a:t>
            </a:r>
            <a:br>
              <a:rPr sz="3000"/>
            </a:b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    </a:t>
            </a:r>
            <a:r>
              <a:rPr b="0" lang="et-EE" sz="3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$a=$_POST[“val1</a:t>
            </a:r>
            <a:r>
              <a:rPr b="0" lang="en-US" sz="3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”</a:t>
            </a:r>
            <a:r>
              <a:rPr b="0" lang="et-EE" sz="3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]/$_POST[“</a:t>
            </a:r>
            <a:r>
              <a:rPr b="0" lang="et-EE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val2</a:t>
            </a:r>
            <a:r>
              <a:rPr b="0" lang="en-US" sz="3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”</a:t>
            </a:r>
            <a:r>
              <a:rPr b="0" lang="et-EE" sz="3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];</a:t>
            </a:r>
            <a:br>
              <a:rPr sz="3000"/>
            </a:b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}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catch (Exception $e) {</a:t>
            </a:r>
            <a:br>
              <a:rPr sz="3000"/>
            </a:b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      </a:t>
            </a:r>
            <a:r>
              <a:rPr b="0" lang="et-EE" sz="3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echo 'Caught exception: ',</a:t>
            </a: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  $e-&gt;getMessage(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throw $e; </a:t>
            </a:r>
            <a:r>
              <a:rPr b="0" lang="et-EE" sz="30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// route it further</a:t>
            </a:r>
            <a:br>
              <a:rPr sz="3000"/>
            </a:br>
            <a:r>
              <a:rPr b="0" lang="et-EE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}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2920" y="160020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t-EE" sz="2200" spc="-1" strike="noStrike">
                <a:solidFill>
                  <a:srgbClr val="984807"/>
                </a:solidFill>
                <a:latin typeface="Calibri"/>
              </a:rPr>
              <a:t>class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FirstClass</a:t>
            </a:r>
            <a:br>
              <a:rPr sz="2200"/>
            </a:b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{    </a:t>
            </a:r>
            <a:br>
              <a:rPr sz="2200"/>
            </a:b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2200" spc="-1" strike="noStrike">
                <a:solidFill>
                  <a:srgbClr val="1f497d"/>
                </a:solidFill>
                <a:latin typeface="Calibri"/>
              </a:rPr>
              <a:t>public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$info = 4; </a:t>
            </a:r>
            <a:r>
              <a:rPr b="0" lang="et-EE" sz="2200" spc="-1" strike="noStrike">
                <a:solidFill>
                  <a:srgbClr val="00b050"/>
                </a:solidFill>
                <a:latin typeface="Calibri"/>
              </a:rPr>
              <a:t>// property</a:t>
            </a:r>
            <a:br>
              <a:rPr sz="2200"/>
            </a:br>
            <a:br>
              <a:rPr sz="2200"/>
            </a:b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2200" spc="-1" strike="noStrike">
                <a:solidFill>
                  <a:srgbClr val="984807"/>
                </a:solidFill>
                <a:latin typeface="Calibri"/>
              </a:rPr>
              <a:t>public function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displayInfo()  </a:t>
            </a:r>
            <a:r>
              <a:rPr b="0" lang="et-EE" sz="2200" spc="-1" strike="noStrike">
                <a:solidFill>
                  <a:srgbClr val="00b050"/>
                </a:solidFill>
                <a:latin typeface="Calibri"/>
              </a:rPr>
              <a:t>// meth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2200"/>
            </a:b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       echo $this-&gt;info;</a:t>
            </a:r>
            <a:br>
              <a:rPr sz="2200"/>
            </a:b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2200"/>
            </a:b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}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usag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e46c0a"/>
                </a:solidFill>
                <a:latin typeface="Calibri"/>
              </a:rPr>
              <a:t>$a = 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new</a:t>
            </a:r>
            <a:r>
              <a:rPr b="0" lang="en-US" sz="2200" spc="-1" strike="noStrike">
                <a:solidFill>
                  <a:srgbClr val="e46c0a"/>
                </a:solidFill>
                <a:latin typeface="Calibri"/>
              </a:rPr>
              <a:t> 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FirstClass</a:t>
            </a:r>
            <a:r>
              <a:rPr b="0" lang="en-US" sz="2200" spc="-1" strike="noStrike">
                <a:solidFill>
                  <a:srgbClr val="e46c0a"/>
                </a:solidFill>
                <a:latin typeface="Calibri"/>
              </a:rPr>
              <a:t>();</a:t>
            </a:r>
            <a:br>
              <a:rPr sz="2200"/>
            </a:br>
            <a:r>
              <a:rPr b="0" lang="en-US" sz="2200" spc="-1" strike="noStrike">
                <a:solidFill>
                  <a:srgbClr val="e46c0a"/>
                </a:solidFill>
                <a:latin typeface="Calibri"/>
              </a:rPr>
              <a:t>$a-&gt;</a:t>
            </a:r>
            <a:r>
              <a:rPr b="0" lang="et-EE" sz="2200" spc="-1" strike="noStrike">
                <a:solidFill>
                  <a:srgbClr val="e46c0a"/>
                </a:solidFill>
                <a:latin typeface="Calibri"/>
              </a:rPr>
              <a:t>displayInfo</a:t>
            </a:r>
            <a:r>
              <a:rPr b="0" lang="en-US" sz="2200" spc="-1" strike="noStrike">
                <a:solidFill>
                  <a:srgbClr val="e46c0a"/>
                </a:solidFill>
                <a:latin typeface="Calibri"/>
              </a:rPr>
              <a:t>();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6786720" y="1571760"/>
            <a:ext cx="1714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Calibri"/>
              </a:rPr>
              <a:t>Visibility</a:t>
            </a:r>
            <a:r>
              <a:rPr b="0" lang="et-EE" sz="18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prot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class SecondClass </a:t>
            </a:r>
            <a:r>
              <a:rPr b="0" lang="et-EE" sz="3200" spc="-1" strike="noStrike">
                <a:solidFill>
                  <a:srgbClr val="1f497d"/>
                </a:solidFill>
                <a:latin typeface="Calibri"/>
              </a:rPr>
              <a:t>extends FirstClass</a:t>
            </a:r>
            <a:br>
              <a:rPr sz="3200"/>
            </a:b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{    </a:t>
            </a:r>
            <a:br>
              <a:rPr sz="3200"/>
            </a:b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    public function displayHalfInfo()  </a:t>
            </a:r>
            <a:r>
              <a:rPr b="0" lang="et-EE" sz="3200" spc="-1" strike="noStrike">
                <a:solidFill>
                  <a:srgbClr val="00b050"/>
                </a:solidFill>
                <a:latin typeface="Calibri"/>
              </a:rPr>
              <a:t>//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3200"/>
            </a:b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        echo ($this-&gt;info/2);</a:t>
            </a:r>
            <a:br>
              <a:rPr sz="3200"/>
            </a:b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3200"/>
            </a:b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984807"/>
                </a:solidFill>
                <a:latin typeface="Calibri"/>
              </a:rPr>
              <a:t>class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GenClass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{    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2000" spc="-1" strike="noStrike">
                <a:solidFill>
                  <a:srgbClr val="1f497d"/>
                </a:solidFill>
                <a:latin typeface="Calibri"/>
              </a:rPr>
              <a:t>public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$salary= 40000;</a:t>
            </a:r>
            <a:br>
              <a:rPr sz="2000"/>
            </a:b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2000" spc="-1" strike="noStrike">
                <a:solidFill>
                  <a:srgbClr val="984807"/>
                </a:solidFill>
                <a:latin typeface="Calibri"/>
              </a:rPr>
              <a:t>public function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displayPaidSalary()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    echo $this-&gt;salary;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984807"/>
                </a:solidFill>
                <a:latin typeface="Calibri"/>
              </a:rPr>
              <a:t>class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EstClass </a:t>
            </a:r>
            <a:r>
              <a:rPr b="0" lang="et-EE" sz="2000" spc="-1" strike="noStrike">
                <a:solidFill>
                  <a:srgbClr val="7f7f7f"/>
                </a:solidFill>
                <a:latin typeface="Calibri"/>
              </a:rPr>
              <a:t>extends GenClass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{    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</a:t>
            </a:r>
            <a:r>
              <a:rPr b="0" lang="et-EE" sz="2000" spc="-1" strike="noStrike">
                <a:solidFill>
                  <a:srgbClr val="984807"/>
                </a:solidFill>
                <a:latin typeface="Calibri"/>
              </a:rPr>
              <a:t>public function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displayPaidSalary()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{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    echo $this-&gt;salary*0.78;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2000"/>
            </a:b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143680" y="4714920"/>
            <a:ext cx="2928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edefines the fun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6215040" y="1571760"/>
            <a:ext cx="2428920" cy="256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a=new GenClass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b=new EstClass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b050"/>
                </a:solidFill>
                <a:latin typeface="Calibri"/>
              </a:rPr>
              <a:t>// shows 1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a-&gt;displaySalary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b050"/>
                </a:solidFill>
                <a:latin typeface="Calibri"/>
              </a:rPr>
              <a:t>// shows 78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b-&gt;displaySalary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50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t-EE" sz="2000" spc="-1" strike="noStrike">
                <a:solidFill>
                  <a:srgbClr val="7f7f7f"/>
                </a:solidFill>
                <a:latin typeface="Calibri"/>
              </a:rPr>
              <a:t>F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Class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{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function 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__construct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() {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    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echo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“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first c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lass constructor";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et-E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function 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__destruct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() {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    print "Destroying 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first class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";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}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}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SClass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extends </a:t>
            </a:r>
            <a:r>
              <a:rPr b="0" lang="et-EE" sz="2000" spc="-1" strike="noStrike">
                <a:solidFill>
                  <a:srgbClr val="7f7f7f"/>
                </a:solidFill>
                <a:latin typeface="Calibri"/>
              </a:rPr>
              <a:t>F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Class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         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protected $val=0;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function __construct() {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    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arent::__construct();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    print “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second c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lass constructor\n";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   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function __construct(</a:t>
            </a:r>
            <a:r>
              <a:rPr b="0" lang="et-EE" sz="2000" spc="-1" strike="noStrike">
                <a:solidFill>
                  <a:srgbClr val="1f497d"/>
                </a:solidFill>
                <a:latin typeface="Calibri"/>
              </a:rPr>
              <a:t>$initVal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this-&gt;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$val=$initv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t-EE" sz="2000" spc="-1" strike="noStrike">
                <a:solidFill>
                  <a:srgbClr val="e46c0a"/>
                </a:solidFill>
                <a:latin typeface="Calibri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643720" y="2714760"/>
            <a:ext cx="30002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Release resources and notify other objects if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643720" y="1714680"/>
            <a:ext cx="30002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Acquire resources and set initial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5643720" y="4143240"/>
            <a:ext cx="30002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Parent construtor is called direct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Static (shar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lass 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General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{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   public 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tatic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$my_s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hared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= 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55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;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   public 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tatic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function StaticMethod() {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       // ...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    }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echo General::my_shared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3200" spc="-1" strike="noStrike">
                <a:solidFill>
                  <a:srgbClr val="e46c0a"/>
                </a:solidFill>
                <a:latin typeface="Calibri"/>
              </a:rPr>
              <a:t>echo General::StaticMethod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1f497d"/>
                </a:solidFill>
                <a:latin typeface="Calibri"/>
              </a:rPr>
              <a:t>interface i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1f497d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500" spc="-1" strike="noStrike">
                <a:solidFill>
                  <a:srgbClr val="1f497d"/>
                </a:solidFill>
                <a:latin typeface="Calibri"/>
              </a:rPr>
              <a:t>public function getHtml(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1f497d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class Student 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implement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 i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private $mName=“Name1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private $mCode=“098132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public function 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getHtml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echo “&lt;i&gt; $mCode&lt;/i&gt; /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echo “&lt;b&gt; $mName&lt;/b&gt;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e46c0a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extBox 3"/>
          <p:cNvGrpSpPr/>
          <p:nvPr/>
        </p:nvGrpSpPr>
        <p:grpSpPr>
          <a:xfrm>
            <a:off x="4273560" y="1633680"/>
            <a:ext cx="4741920" cy="2882880"/>
            <a:chOff x="4273560" y="1633680"/>
            <a:chExt cx="4741920" cy="2882880"/>
          </a:xfrm>
        </p:grpSpPr>
        <p:pic>
          <p:nvPicPr>
            <p:cNvPr id="66" name="TextBox 3" descr=""/>
            <p:cNvPicPr/>
            <p:nvPr/>
          </p:nvPicPr>
          <p:blipFill>
            <a:blip r:embed="rId1"/>
            <a:stretch/>
          </p:blipFill>
          <p:spPr>
            <a:xfrm>
              <a:off x="4273560" y="1633680"/>
              <a:ext cx="474192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286160" y="1643040"/>
              <a:ext cx="47149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class Teacher </a:t>
              </a:r>
              <a:r>
                <a:rPr b="0" lang="et-EE" sz="1800" spc="-1" strike="noStrike">
                  <a:solidFill>
                    <a:srgbClr val="1f497d"/>
                  </a:solidFill>
                  <a:latin typeface="Calibri"/>
                </a:rPr>
                <a:t>implement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 iOutp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private $mName=“Name1”;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private $mPosition=“Prof”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       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public function </a:t>
              </a:r>
              <a:r>
                <a:rPr b="0" lang="et-EE" sz="1800" spc="-1" strike="noStrike">
                  <a:solidFill>
                    <a:srgbClr val="1f497d"/>
                  </a:solidFill>
                  <a:latin typeface="Calibri"/>
                </a:rPr>
                <a:t>getHtml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	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echo “$nPosition&lt;b&gt; $mName&lt;/b&gt;”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       </a:t>
              </a: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800" spc="-1" strike="noStrike">
                  <a:solidFill>
                    <a:srgbClr val="e46c0a"/>
                  </a:solidFill>
                  <a:latin typeface="Calibri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4"/>
          <p:cNvSpPr/>
          <p:nvPr/>
        </p:nvSpPr>
        <p:spPr>
          <a:xfrm>
            <a:off x="4286160" y="4643280"/>
            <a:ext cx="4643640" cy="1739880"/>
          </a:xfrm>
          <a:prstGeom prst="rect">
            <a:avLst/>
          </a:prstGeom>
          <a:noFill/>
          <a:ln w="9360">
            <a:solidFill>
              <a:srgbClr val="4f81b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arr[0]=new Studen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arr[1]=new Teacher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foreach($arr as $valu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$value-&gt;</a:t>
            </a:r>
            <a:r>
              <a:rPr b="0" lang="et-EE" sz="1800" spc="-1" strike="noStrike">
                <a:solidFill>
                  <a:srgbClr val="1f497d"/>
                </a:solidFill>
                <a:latin typeface="Calibri"/>
              </a:rPr>
              <a:t>getHtml</a:t>
            </a:r>
            <a:r>
              <a:rPr b="0" lang="et-EE" sz="1800" spc="-1" strike="noStrike">
                <a:solidFill>
                  <a:srgbClr val="000000"/>
                </a:solidFill>
                <a:latin typeface="Calibri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42:05Z</dcterms:created>
  <dc:creator>kasutaja</dc:creator>
  <dc:description/>
  <dc:language>en-US</dc:language>
  <cp:lastModifiedBy>Deniss Kumlander</cp:lastModifiedBy>
  <dcterms:modified xsi:type="dcterms:W3CDTF">2009-10-16T23:28:59Z</dcterms:modified>
  <cp:revision>23</cp:revision>
  <dc:subject/>
  <dc:title>PHP extras</dc:title>
</cp:coreProperties>
</file>